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dt" idx="13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ftr" idx="14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 type="sldNum" idx="15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07F1D6-8465-4B1C-9144-A251F4E74A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B6E952-05B8-4C03-B4A4-493398DD4F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3897-ABD1-4E41-9A8B-2EF68EEFF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0CCC-3F50-4E38-A600-7E9613506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7892-6B4B-431D-96E2-1203EBBFD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6CAA-FB31-4F0D-AAEF-81B3E299F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B74D-40C7-46FF-B2C2-8A41EAD93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4A7C-2B6F-41AD-8F37-24FB1B7C8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C1DF-4106-42FC-8792-ABF8C4337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5F63-B79B-4AF6-9097-0F8F95732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F5FD-6553-45D3-AF0D-48F18E5CA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CB23-6270-47BC-9C52-E9A586EC3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4D80-5452-4B68-9303-CB70A44EA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7CDA-4662-4322-8036-213A473B3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-47520" y="0"/>
            <a:ext cx="9239040" cy="685800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2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ftr" idx="11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eter Working Group - Dec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428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32994B-C844-4FA9-8C52-DE8A012328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ftr" idx="12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eter Working Group - Dec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dt" idx="1"/>
          </p:nvPr>
        </p:nvSpPr>
        <p:spPr>
          <a:xfrm>
            <a:off x="45684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2"/>
          </p:nvPr>
        </p:nvSpPr>
        <p:spPr>
          <a:xfrm>
            <a:off x="3124080" y="59752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eter Working Group - Dec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3"/>
          </p:nvPr>
        </p:nvSpPr>
        <p:spPr>
          <a:xfrm>
            <a:off x="655272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4ABE10-71F7-4D8B-87A5-43A44A6BD0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-47520" y="0"/>
            <a:ext cx="9239040" cy="685800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2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  <p:sp>
        <p:nvSpPr>
          <p:cNvPr id="85" name="Straight Connector 7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003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37CCE7-49FE-4ACA-8EF6-96058473DA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4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eter Working Group - Dec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6"/>
          <p:cNvSpPr/>
          <p:nvPr/>
        </p:nvSpPr>
        <p:spPr>
          <a:xfrm>
            <a:off x="-47520" y="0"/>
            <a:ext cx="9239040" cy="685800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2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  <p:sp>
        <p:nvSpPr>
          <p:cNvPr id="129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877606-0955-48E4-96CB-346DEB6C86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5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eter Working Group - Dec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6"/>
          <p:cNvSpPr/>
          <p:nvPr/>
        </p:nvSpPr>
        <p:spPr>
          <a:xfrm>
            <a:off x="-47520" y="0"/>
            <a:ext cx="9239040" cy="685800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2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  <p:sp>
        <p:nvSpPr>
          <p:cNvPr id="172" name="Straight Connector 7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003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5E3C73-98FF-455A-9957-C855646A28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6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eter Working Group - Dec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6"/>
          <p:cNvSpPr/>
          <p:nvPr/>
        </p:nvSpPr>
        <p:spPr>
          <a:xfrm>
            <a:off x="-47520" y="0"/>
            <a:ext cx="9239040" cy="685800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12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  <p:sp>
        <p:nvSpPr>
          <p:cNvPr id="216" name="Straight Connector 7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003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C55E03-DD40-499C-8637-E28A4C7CC2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ftr" idx="7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eter Working Group - Dec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6"/>
          <p:cNvSpPr/>
          <p:nvPr/>
        </p:nvSpPr>
        <p:spPr>
          <a:xfrm>
            <a:off x="-47520" y="0"/>
            <a:ext cx="9239040" cy="685800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12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  <p:sp>
        <p:nvSpPr>
          <p:cNvPr id="260" name="Straight Connector 7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003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lide Number Placeholder 6"/>
          <p:cNvSpPr/>
          <p:nvPr/>
        </p:nvSpPr>
        <p:spPr>
          <a:xfrm>
            <a:off x="6705720" y="6202440"/>
            <a:ext cx="2133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313C6B-F15D-48E1-BEBE-00B77320D7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ftr" idx="8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eter Working Group - Dec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6"/>
          <p:cNvSpPr/>
          <p:nvPr/>
        </p:nvSpPr>
        <p:spPr>
          <a:xfrm>
            <a:off x="-47520" y="0"/>
            <a:ext cx="9239040" cy="685800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12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  <p:sp>
        <p:nvSpPr>
          <p:cNvPr id="304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61A369-28F9-4D67-9572-1C312E91FA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ftr" idx="9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eter Working Group - Dec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6"/>
          <p:cNvSpPr/>
          <p:nvPr/>
        </p:nvSpPr>
        <p:spPr>
          <a:xfrm>
            <a:off x="-47520" y="0"/>
            <a:ext cx="9239040" cy="685800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12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  <p:sp>
        <p:nvSpPr>
          <p:cNvPr id="347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A56387-9AEB-41C6-8B55-55D0C64473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ftr" idx="10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eter Working Group - Dec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79080" y="151920"/>
            <a:ext cx="8458200" cy="4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3-Day Weekend – Monday Operating 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Footer Placeholder 1"/>
          <p:cNvSpPr/>
          <p:nvPr/>
        </p:nvSpPr>
        <p:spPr>
          <a:xfrm>
            <a:off x="3124080" y="6194520"/>
            <a:ext cx="289584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Meter Working Group - Dec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5" name=""/>
          <p:cNvGraphicFramePr/>
          <p:nvPr/>
        </p:nvGraphicFramePr>
        <p:xfrm>
          <a:off x="301680" y="723960"/>
          <a:ext cx="8535960" cy="5229000"/>
        </p:xfrm>
        <a:graphic>
          <a:graphicData uri="http://schemas.openxmlformats.org/drawingml/2006/table">
            <a:tbl>
              <a:tblPr/>
              <a:tblGrid>
                <a:gridCol w="853920"/>
                <a:gridCol w="852480"/>
                <a:gridCol w="854280"/>
                <a:gridCol w="853920"/>
                <a:gridCol w="854280"/>
                <a:gridCol w="852480"/>
                <a:gridCol w="853920"/>
                <a:gridCol w="853920"/>
                <a:gridCol w="852480"/>
                <a:gridCol w="854280"/>
              </a:tblGrid>
              <a:tr h="139680">
                <a:tc gridSpan="5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ting 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7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siness Day for VEE, Usage Loading, Integration, Manual Process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61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n-Business 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76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cddc"/>
                    </a:solidFill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ting Date for Operating Day's RTM Statement &amp; Invoic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 row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DAY OPERATING DA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 is outside of timelin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6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Process days for EPS Dat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7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Process days for EPS Data - WARNING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(or less) Process days for EPS Data - CRITICA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6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SIBLE/PROBABLE WORK 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1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 row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ting 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9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-Day WEEKEND IMPACT FOR AN 'OD + 5' TIMELINE</a:t>
                      </a:r>
                      <a:br>
                        <a:rPr sz="800"/>
                      </a:b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tional Activity Schedule Relative to a Timeline </a:t>
                      </a:r>
                      <a:br>
                        <a:rPr sz="800"/>
                      </a:b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 Processing EPS Meter Data on OD+5 day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7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</a:t>
                      </a:r>
                      <a:br>
                        <a:rPr sz="700"/>
                      </a:br>
                      <a:r>
                        <a:rPr b="1" lang="en-US" sz="7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(HOLIDAY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-Aug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-Aug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-Aug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-Aug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-Aug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-Aug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-Aug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-Sep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-Sep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PS Meter Data Collectio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agg &amp; Settle - LOAD EPS DAT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) Validate</a:t>
                      </a:r>
                      <a:br>
                        <a:rPr sz="700"/>
                      </a:b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) Post Stmt &amp; In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cddc"/>
                    </a:solidFill>
                  </a:tcPr>
                </a:tc>
              </a:tr>
              <a:tr h="139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HEDUL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 OF NOTICE ISSU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7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ting 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ES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Collection, VEE Meter Data (4 process days)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-Hou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DNES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E Meter Data (3 process days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-Hou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1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URS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E Meter Data (2 process days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-Hou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I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E Meter Data (1 process day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-Hour (Data needed for Data Agg Process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5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IDAY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Agg Runs (REQUIRES EPS Meter Data to be Loaded in Lodestar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LI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1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ES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oices Posted to Marke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6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ERAL GUIDELINES for NOTIC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5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 a process day is shaded White a 12-Hour notice is issu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 a process day is shaded Green, Yellow or Red, a 6-Hour notice is issu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79080" y="169560"/>
            <a:ext cx="84582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3-Day Weekend – Tuesday Operating 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ooter Placeholder 2"/>
          <p:cNvSpPr/>
          <p:nvPr/>
        </p:nvSpPr>
        <p:spPr>
          <a:xfrm>
            <a:off x="3124080" y="6194520"/>
            <a:ext cx="289584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Meter Working Group - Dec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264960" y="669960"/>
          <a:ext cx="8572680" cy="5302080"/>
        </p:xfrm>
        <a:graphic>
          <a:graphicData uri="http://schemas.openxmlformats.org/drawingml/2006/table">
            <a:tbl>
              <a:tblPr/>
              <a:tblGrid>
                <a:gridCol w="857520"/>
                <a:gridCol w="855720"/>
                <a:gridCol w="855360"/>
                <a:gridCol w="857520"/>
                <a:gridCol w="857160"/>
                <a:gridCol w="858960"/>
                <a:gridCol w="857160"/>
                <a:gridCol w="857160"/>
                <a:gridCol w="858960"/>
                <a:gridCol w="857160"/>
              </a:tblGrid>
              <a:tr h="152280">
                <a:tc gridSpan="5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ting 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siness Day for VEE, Usage Loading, Integration, Manual Process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n-Business 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02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cddc"/>
                    </a:solidFill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ting Date for Operating Day's RTM Statement &amp; Invoic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 row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ESDAY OPERATING 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 is outside of timeli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Process days for EPS Da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0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Process days for EPS Data - WARN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(or less) Process days for EPS Data - CRITIC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SIBLE/PROBABLE WORK 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 row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ting 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9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-Day WEEKEND IMPACT FOR AN 'OD + 5' TIMELINE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tional Activity Schedule Relative to a Timeline 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 Processing EPS Meter Data on OD+5 da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</a:t>
                      </a:r>
                      <a:br>
                        <a:rPr sz="800"/>
                      </a:b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(HOLIDAY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-Au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-Au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-Au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-Au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-Au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-Au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-Au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-Se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-Se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7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PS Meter Data Collec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AD EPS DA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Agg &amp; Sett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) Validate</a:t>
                      </a:r>
                      <a:br>
                        <a:rPr sz="800"/>
                      </a:b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) Post Stmt &amp; In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cddc"/>
                    </a:solidFill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6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HEDU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 OF NOTICE ISSU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0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ES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ting 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DNES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Collection, VEE Meter Data (3 process days)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-Hou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URS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E Meter Data (2 process days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-Hou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I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E Meter Data (1 process days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-Hour (Data needed for Data Agg Process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I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Agg Runs (REQUIRES EPS Meter Data to be Loaded in Lodestar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LI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ES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oices Posted to Marke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ERAL GUIDELINES for NOTIC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0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 a process day is shaded White a 12-Hour notice is issu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1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 a process day is shaded Green, Yellow or Red, a 6-Hour notice is issu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79080" y="169560"/>
            <a:ext cx="84582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3-Day Weekend – Wednesday Operating 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Footer Placeholder 2"/>
          <p:cNvSpPr/>
          <p:nvPr/>
        </p:nvSpPr>
        <p:spPr>
          <a:xfrm>
            <a:off x="3124080" y="6194520"/>
            <a:ext cx="289584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Meter Working Group - Dec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1" name=""/>
          <p:cNvGraphicFramePr/>
          <p:nvPr/>
        </p:nvGraphicFramePr>
        <p:xfrm>
          <a:off x="264960" y="679320"/>
          <a:ext cx="8572680" cy="5283360"/>
        </p:xfrm>
        <a:graphic>
          <a:graphicData uri="http://schemas.openxmlformats.org/drawingml/2006/table">
            <a:tbl>
              <a:tblPr/>
              <a:tblGrid>
                <a:gridCol w="857520"/>
                <a:gridCol w="855720"/>
                <a:gridCol w="855360"/>
                <a:gridCol w="855720"/>
                <a:gridCol w="858960"/>
                <a:gridCol w="857160"/>
                <a:gridCol w="858960"/>
                <a:gridCol w="857160"/>
                <a:gridCol w="858960"/>
                <a:gridCol w="857160"/>
              </a:tblGrid>
              <a:tr h="152640">
                <a:tc gridSpan="5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ting 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siness Day for VEE, Usage Loading, Integration, Manual Process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n-Business 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cddc"/>
                    </a:solidFill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ting Date for Operating Day's RTM Statement &amp; Invoic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 row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DNESDAY OPERATING 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 is outside of timeli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Process days for EPS Da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Process days for EPS Data - WARN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(or less) Process days for EPS Data - CRITIC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0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SIBLE/PROBABLE WORK 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000">
                <a:tc row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ting 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9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-Day WEEKEND IMPACT FOR AN 'OD + 5' TIMELINE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tional Activity Schedule Relative to a Timeline 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 Processing EPS Meter Data on OD+5 da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1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</a:t>
                      </a:r>
                      <a:br>
                        <a:rPr sz="800"/>
                      </a:b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(HOLIDAY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0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-Au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-Au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-Au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-Au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-Au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-Au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-Au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-Se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-Se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5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PS Meter Data Collec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AD EPS DA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Agg &amp; Sett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) Validate</a:t>
                      </a:r>
                      <a:br>
                        <a:rPr sz="800"/>
                      </a:b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) Post Stmt &amp; In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2cddc"/>
                    </a:solidFill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52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HEDU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 OF NOTICE ISSU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DNES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ting 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URS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Collection, VEE Meter Data (2 process days)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-Hou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I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E Meter Data (1 process days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-Hour (Data needed for Data Agg Process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IDAY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Agg Runs Sunday (REQUIRES EPS Meter Data in Lodestar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LI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ES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oices Posted to Marke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ERAL GUIDELINES for NOTIC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8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 a process day is shaded White a 12-Hour notice is issu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1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 a process day is shaded Green, Yellow or Red, a 6-Hour notice is issu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79080" y="169560"/>
            <a:ext cx="84582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3-Day Weekend – Thursday Operating 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Footer Placeholder 2"/>
          <p:cNvSpPr/>
          <p:nvPr/>
        </p:nvSpPr>
        <p:spPr>
          <a:xfrm>
            <a:off x="3124080" y="6194520"/>
            <a:ext cx="289584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Meter Working Group - Dec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4" name=""/>
          <p:cNvGraphicFramePr/>
          <p:nvPr/>
        </p:nvGraphicFramePr>
        <p:xfrm>
          <a:off x="289080" y="669960"/>
          <a:ext cx="8548560" cy="5197320"/>
        </p:xfrm>
        <a:graphic>
          <a:graphicData uri="http://schemas.openxmlformats.org/drawingml/2006/table">
            <a:tbl>
              <a:tblPr/>
              <a:tblGrid>
                <a:gridCol w="855360"/>
                <a:gridCol w="854280"/>
                <a:gridCol w="852480"/>
                <a:gridCol w="853920"/>
                <a:gridCol w="852480"/>
                <a:gridCol w="857520"/>
                <a:gridCol w="855360"/>
                <a:gridCol w="855720"/>
                <a:gridCol w="855720"/>
                <a:gridCol w="855720"/>
              </a:tblGrid>
              <a:tr h="149040">
                <a:tc gridSpan="5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94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ting 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9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siness Day for VEE, Usage Loading, Integration, Manual Process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58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n-Business 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55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cddc"/>
                    </a:solidFill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ting Date for Operating Day's RTM Statement &amp; Invoic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 row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URSDAY OPERATING 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9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 is outside of timeli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73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Process days for EPS Da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5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Process days for EPS Data - WARN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9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(or less) Process days for EPS Data - CRITIC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5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SIBLE/PROBABLE WORK 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9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 row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ting 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9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-Day WEEKEND IMPACT FOR AN 'OD + 5' TIMELINE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tional Activity Schedule Relative to a Timeline 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 Processing EPS Meter Data on OD+5 da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</a:t>
                      </a:r>
                      <a:br>
                        <a:rPr sz="800"/>
                      </a:b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(HOLIDAY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9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-Au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-Au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-Au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-Au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-Au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-Au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-Au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-Se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-Se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7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AD EPS DA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SIBLE WORK 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Agg &amp; Sett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) Validate</a:t>
                      </a:r>
                      <a:br>
                        <a:rPr sz="800"/>
                      </a:b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) Post Stmt &amp; In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2cddc"/>
                    </a:solidFill>
                  </a:tcPr>
                </a:tc>
              </a:tr>
              <a:tr h="1494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HEDU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 OF NOTICE ISSU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URS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ting 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94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I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Collection, VEE Meter Data (1 process day)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-Hour (Data needed for Data Agg Process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9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IDAY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Agg Runs Monday (REQUIRES EPS Meter Data in Lodestar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7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LI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94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ES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oices Posted to Marke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9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94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9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ERAL GUIDELINES for NOTIC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5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 a process day is shaded White a 12-Hour notice is issu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2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 a process day is shaded Green, Yellow or Red, a 6-Hour notice is issu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79080" y="169560"/>
            <a:ext cx="84582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3-Day Weekend – Friday Operating 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Footer Placeholder 2"/>
          <p:cNvSpPr/>
          <p:nvPr/>
        </p:nvSpPr>
        <p:spPr>
          <a:xfrm>
            <a:off x="3124080" y="6194520"/>
            <a:ext cx="289584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Meter Working Group - Dec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7" name=""/>
          <p:cNvGraphicFramePr/>
          <p:nvPr/>
        </p:nvGraphicFramePr>
        <p:xfrm>
          <a:off x="270000" y="660240"/>
          <a:ext cx="8567640" cy="5311800"/>
        </p:xfrm>
        <a:graphic>
          <a:graphicData uri="http://schemas.openxmlformats.org/drawingml/2006/table">
            <a:tbl>
              <a:tblPr/>
              <a:tblGrid>
                <a:gridCol w="857160"/>
                <a:gridCol w="855720"/>
                <a:gridCol w="853920"/>
                <a:gridCol w="855720"/>
                <a:gridCol w="857160"/>
                <a:gridCol w="857520"/>
                <a:gridCol w="858600"/>
                <a:gridCol w="857160"/>
                <a:gridCol w="857520"/>
                <a:gridCol w="857160"/>
              </a:tblGrid>
              <a:tr h="150840">
                <a:tc gridSpan="5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ting 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siness Day for VEE, Usage Loading, Integration, Manual Process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6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n-Business 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cddc"/>
                    </a:solidFill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ting Date for Operating Day's RTM Statement &amp; Invoic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 row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IDAY OPERATING 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 is outside of timeli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Process days for EPS Da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Process days for EPS Data - WARN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(or less) Process days for EPS Data - CRITIC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SIBLE/PROBABLE WORK 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 row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ting 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9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-Day WEEKEND IMPACT FOR AN 'OD + 5' TIMELINE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tional Activity Schedule Relative to a Timeline 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 Processing EPS Meter Data on OD+5 da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9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u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</a:t>
                      </a:r>
                      <a:br>
                        <a:rPr sz="800"/>
                      </a:b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(HOLIDAY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u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0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-Au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-Au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-Au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-Au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-Au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-Se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-Se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-Se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-Se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0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PS Meter Data Collec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agg &amp; Settle - LOAD EPS DA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) Validate</a:t>
                      </a:r>
                      <a:br>
                        <a:rPr sz="800"/>
                      </a:b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) Post Stmt &amp; In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cdd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52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HEDU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 OF NOTICE ISSU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I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ting 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LI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ES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Collection, VEE Meter Data (1 process day)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-Hour (Data needed for Data Agg Process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ES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Agg Runs (REQUIRES EPS Meter Data in Lodestar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DNES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oices Posted to Marke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ERAL GUIDELINES for NOTIC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8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 a process day is shaded White a 12-Hour notice is issu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2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 a process day is shaded Green, Yellow or Red, a 6-Hour notice is issu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79080" y="169560"/>
            <a:ext cx="84582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3-Day Weekend – Saturday Operating 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Footer Placeholder 2"/>
          <p:cNvSpPr/>
          <p:nvPr/>
        </p:nvSpPr>
        <p:spPr>
          <a:xfrm>
            <a:off x="3124080" y="6194520"/>
            <a:ext cx="289584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Meter Working Group - Dec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0" name=""/>
          <p:cNvGraphicFramePr/>
          <p:nvPr/>
        </p:nvGraphicFramePr>
        <p:xfrm>
          <a:off x="307800" y="669960"/>
          <a:ext cx="8529840" cy="5264280"/>
        </p:xfrm>
        <a:graphic>
          <a:graphicData uri="http://schemas.openxmlformats.org/drawingml/2006/table">
            <a:tbl>
              <a:tblPr/>
              <a:tblGrid>
                <a:gridCol w="854280"/>
                <a:gridCol w="851040"/>
                <a:gridCol w="850680"/>
                <a:gridCol w="851040"/>
                <a:gridCol w="853920"/>
                <a:gridCol w="854280"/>
                <a:gridCol w="853920"/>
                <a:gridCol w="852480"/>
                <a:gridCol w="853920"/>
                <a:gridCol w="854280"/>
              </a:tblGrid>
              <a:tr h="150840">
                <a:tc gridSpan="5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ting 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siness Day for VEE, Usage Loading, Integration, Manual Process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n-Business 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cddc"/>
                    </a:solidFill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ting Date for Operating Day's RTM Statement &amp; Invoic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 row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TURDAY OPERATING 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 is outside of timeli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Process days for EPS Da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Process days for EPS Data - WARN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(or less) Process days for EPS Data - CRITIC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SIBLE/PROBABLE WORK 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 row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ting 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9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-Day WEEKEND IMPACT FOR AN 'OD + 5' TIMELINE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tional Activity Schedule Relative to a Timeline 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 Processing EPS Meter Data on OD+5 da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9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u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</a:t>
                      </a:r>
                      <a:br>
                        <a:rPr sz="800"/>
                      </a:b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(HOLIDAY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u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0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-Au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-Au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-Au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-Au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-Se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-Se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-Se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-Se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-Se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0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PS Meter Data Collec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agg &amp; Settle - LOAD EPS DA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) Validate</a:t>
                      </a:r>
                      <a:br>
                        <a:rPr sz="800"/>
                      </a:b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) Post Stmt &amp; In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cdd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52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HEDU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 OF NOTICE ISSU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TUR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ting 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LI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ES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Collection, VEE Meter Data (2 process days)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-Hou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DNES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E Meter Data (1 process days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-Hour (Data needed for Data Agg Process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DNES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Agg Runs (REQUIRES EPS Meter Data in Lodestar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URS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oices Posted to Marke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ERAL GUIDELINES for NOTIC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73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 a process day is shaded White a 12-Hour notice is issu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9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 a process day is shaded Green, Yellow or Red, a 6-Hour notice is issu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79080" y="169560"/>
            <a:ext cx="84582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3-Day Weekend – Sunday Operating 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Footer Placeholder 2"/>
          <p:cNvSpPr/>
          <p:nvPr/>
        </p:nvSpPr>
        <p:spPr>
          <a:xfrm>
            <a:off x="3124080" y="6194520"/>
            <a:ext cx="289584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Meter Working Group - Dec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3" name=""/>
          <p:cNvGraphicFramePr/>
          <p:nvPr/>
        </p:nvGraphicFramePr>
        <p:xfrm>
          <a:off x="289080" y="669960"/>
          <a:ext cx="8548560" cy="5302080"/>
        </p:xfrm>
        <a:graphic>
          <a:graphicData uri="http://schemas.openxmlformats.org/drawingml/2006/table">
            <a:tbl>
              <a:tblPr/>
              <a:tblGrid>
                <a:gridCol w="855360"/>
                <a:gridCol w="852480"/>
                <a:gridCol w="852480"/>
                <a:gridCol w="855720"/>
                <a:gridCol w="855720"/>
                <a:gridCol w="855720"/>
                <a:gridCol w="855720"/>
                <a:gridCol w="853920"/>
                <a:gridCol w="855720"/>
                <a:gridCol w="855720"/>
              </a:tblGrid>
              <a:tr h="152280">
                <a:tc gridSpan="5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ting 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siness Day for VEE, Usage Loading, Integration, Manual Process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n-Business 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cddc"/>
                    </a:solidFill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ting Date for Operating Day's RTM Statement &amp; Invoic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 row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NDAY OPERATING 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 is outside of timeli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Process days for EPS Da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Process days for EPS Data - WARN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(or less) Process days for EPS Data - CRITIC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SIBLE/PROBABLE WORK 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 row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ting 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9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-Day WEEKEND IMPACT FOR AN 'OD + 5' TIMELINE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tional Activity Schedule Relative to a Timeline 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 Processing EPS Meter Data on OD+5 da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1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</a:t>
                      </a:r>
                      <a:br>
                        <a:rPr sz="800"/>
                      </a:b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(HOLIDAY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u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0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-Au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-Au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-Au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-Se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-Se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-Se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-Se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-Se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-Se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5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PS Meter Data Collec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agg &amp; Settle - LOAD EPS DA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) Validate</a:t>
                      </a:r>
                      <a:br>
                        <a:rPr sz="800"/>
                      </a:b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) Post Stmt &amp; In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cdd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52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HEDU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 OF NOTICE ISSU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N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ting 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LI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ES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Collection, VEE Meter Data (3 process days)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-Hou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DNES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E Meter Data (2 process days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-Hou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URS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E Meter Data (1 process days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-Hour (Data needed for Data Agg Process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URS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Agg Runs (REQUIRES EPS Meter Data in Lodestar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I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oices Posted to Marke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ERAL GUIDELINES for NOTIC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8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 a process day is shaded White a 12-Hour notice is issu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1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 a process day is shaded Green, Yellow or Red, a 6-Hour notice is issu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23:12:02Z</dcterms:created>
  <dc:creator>Diana</dc:creator>
  <dc:description/>
  <dc:language>en-US</dc:language>
  <cp:lastModifiedBy>Vinton, Patrick</cp:lastModifiedBy>
  <cp:lastPrinted>2013-01-30T23:16:36Z</cp:lastPrinted>
  <dcterms:modified xsi:type="dcterms:W3CDTF">2013-12-02T22:27:29Z</dcterms:modified>
  <cp:revision>244</cp:revision>
  <dc:subject/>
  <dc:title>FileNew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EB6C32BA7893B4D8D08DA703C6B8599</vt:lpwstr>
  </property>
  <property fmtid="{D5CDD505-2E9C-101B-9397-08002B2CF9AE}" pid="3" name="Information Classification">
    <vt:lpwstr>ERCOT Limited</vt:lpwstr>
  </property>
</Properties>
</file>