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dt" idx="13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 type="ftr" idx="14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 type="sldNum" idx="15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DE1510-68F3-4A9C-9484-0D378F81EC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2803B84-BB71-43A3-AA05-38D81EFAC8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CCC36-4F1F-4669-B5CA-8F87266ED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6FC96-86CC-4D73-9EB0-48E94A33B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92191-0347-4F46-A5EE-1A78D7D66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57F8F-38F7-4EBA-9559-87B3D3AF4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2250F-ACA0-4786-982C-462DC3D3E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8ADDA-27A0-4FBD-AE39-1A814D98E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2566B-534A-4ABD-AD83-2611A2A3B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318B6-AC21-4135-AB07-8A2A15E0D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894DB-F7F9-40F9-81F8-5B8713A89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FB214-CBBE-48AC-8BEE-50F112E61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E63CE-B806-4BE5-9822-3AC459083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88603-9AFE-4070-9A25-E0799B252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-47520" y="0"/>
            <a:ext cx="9239040" cy="6858000"/>
          </a:xfrm>
          <a:prstGeom prst="rect">
            <a:avLst/>
          </a:prstGeom>
          <a:solidFill>
            <a:srgbClr val="003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12" descr=""/>
          <p:cNvPicPr/>
          <p:nvPr/>
        </p:nvPicPr>
        <p:blipFill>
          <a:blip r:embed="rId2"/>
          <a:stretch/>
        </p:blipFill>
        <p:spPr>
          <a:xfrm>
            <a:off x="212760" y="0"/>
            <a:ext cx="8718480" cy="13716000"/>
          </a:xfrm>
          <a:prstGeom prst="rect">
            <a:avLst/>
          </a:prstGeom>
          <a:ln w="0">
            <a:noFill/>
          </a:ln>
        </p:spPr>
      </p:pic>
      <p:pic>
        <p:nvPicPr>
          <p:cNvPr id="4" name="Picture 8" descr="ERCOT cmyk-01.png"/>
          <p:cNvPicPr/>
          <p:nvPr/>
        </p:nvPicPr>
        <p:blipFill>
          <a:blip r:embed="rId3"/>
          <a:stretch/>
        </p:blipFill>
        <p:spPr>
          <a:xfrm>
            <a:off x="247680" y="6024600"/>
            <a:ext cx="817560" cy="345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8"/>
          <p:cNvSpPr/>
          <p:nvPr/>
        </p:nvSpPr>
        <p:spPr>
          <a:xfrm>
            <a:off x="0" y="-168120"/>
            <a:ext cx="9144000" cy="7216560"/>
          </a:xfrm>
          <a:prstGeom prst="rect">
            <a:avLst/>
          </a:prstGeom>
          <a:solidFill>
            <a:srgbClr val="003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Picture 11" descr=""/>
          <p:cNvPicPr/>
          <p:nvPr/>
        </p:nvPicPr>
        <p:blipFill>
          <a:blip r:embed="rId2"/>
          <a:stretch/>
        </p:blipFill>
        <p:spPr>
          <a:xfrm>
            <a:off x="212760" y="0"/>
            <a:ext cx="8718480" cy="13716000"/>
          </a:xfrm>
          <a:prstGeom prst="rect">
            <a:avLst/>
          </a:prstGeom>
          <a:ln w="0">
            <a:noFill/>
          </a:ln>
        </p:spPr>
      </p:pic>
      <p:sp>
        <p:nvSpPr>
          <p:cNvPr id="389" name="PlaceHolder 1"/>
          <p:cNvSpPr>
            <a:spLocks noGrp="1"/>
          </p:cNvSpPr>
          <p:nvPr>
            <p:ph type="ftr" idx="11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Meter Working Group - Dec 20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8"/>
          <p:cNvSpPr/>
          <p:nvPr/>
        </p:nvSpPr>
        <p:spPr>
          <a:xfrm>
            <a:off x="0" y="-168120"/>
            <a:ext cx="9144000" cy="7216560"/>
          </a:xfrm>
          <a:prstGeom prst="rect">
            <a:avLst/>
          </a:prstGeom>
          <a:solidFill>
            <a:srgbClr val="003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Picture 11" descr=""/>
          <p:cNvPicPr/>
          <p:nvPr/>
        </p:nvPicPr>
        <p:blipFill>
          <a:blip r:embed="rId2"/>
          <a:stretch/>
        </p:blipFill>
        <p:spPr>
          <a:xfrm>
            <a:off x="212760" y="0"/>
            <a:ext cx="8718480" cy="13716000"/>
          </a:xfrm>
          <a:prstGeom prst="rect">
            <a:avLst/>
          </a:prstGeom>
          <a:ln w="0">
            <a:noFill/>
          </a:ln>
        </p:spPr>
      </p:pic>
      <p:sp>
        <p:nvSpPr>
          <p:cNvPr id="428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57F94D1-696D-499E-945B-7D8B103264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ftr" idx="12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Meter Working Group - Dec 20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8"/>
          <p:cNvSpPr/>
          <p:nvPr/>
        </p:nvSpPr>
        <p:spPr>
          <a:xfrm>
            <a:off x="0" y="-168120"/>
            <a:ext cx="9144000" cy="7216560"/>
          </a:xfrm>
          <a:prstGeom prst="rect">
            <a:avLst/>
          </a:prstGeom>
          <a:solidFill>
            <a:srgbClr val="003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11" descr=""/>
          <p:cNvPicPr/>
          <p:nvPr/>
        </p:nvPicPr>
        <p:blipFill>
          <a:blip r:embed="rId2"/>
          <a:stretch/>
        </p:blipFill>
        <p:spPr>
          <a:xfrm>
            <a:off x="212760" y="0"/>
            <a:ext cx="8718480" cy="13716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dt" idx="1"/>
          </p:nvPr>
        </p:nvSpPr>
        <p:spPr>
          <a:xfrm>
            <a:off x="456840" y="59752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ftr" idx="2"/>
          </p:nvPr>
        </p:nvSpPr>
        <p:spPr>
          <a:xfrm>
            <a:off x="3124080" y="597528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Meter Working Group - Dec 20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3"/>
          </p:nvPr>
        </p:nvSpPr>
        <p:spPr>
          <a:xfrm>
            <a:off x="6552720" y="59752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1374101-4F18-482C-AD5C-28C58F69596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6"/>
          <p:cNvSpPr/>
          <p:nvPr/>
        </p:nvSpPr>
        <p:spPr>
          <a:xfrm>
            <a:off x="-47520" y="0"/>
            <a:ext cx="9239040" cy="6858000"/>
          </a:xfrm>
          <a:prstGeom prst="rect">
            <a:avLst/>
          </a:prstGeom>
          <a:solidFill>
            <a:srgbClr val="003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12" descr=""/>
          <p:cNvPicPr/>
          <p:nvPr/>
        </p:nvPicPr>
        <p:blipFill>
          <a:blip r:embed="rId2"/>
          <a:stretch/>
        </p:blipFill>
        <p:spPr>
          <a:xfrm>
            <a:off x="212760" y="0"/>
            <a:ext cx="8718480" cy="137160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ERCOT cmyk-01.png"/>
          <p:cNvPicPr/>
          <p:nvPr/>
        </p:nvPicPr>
        <p:blipFill>
          <a:blip r:embed="rId3"/>
          <a:stretch/>
        </p:blipFill>
        <p:spPr>
          <a:xfrm>
            <a:off x="247680" y="6024600"/>
            <a:ext cx="817560" cy="345960"/>
          </a:xfrm>
          <a:prstGeom prst="rect">
            <a:avLst/>
          </a:prstGeom>
          <a:ln w="0">
            <a:noFill/>
          </a:ln>
        </p:spPr>
      </p:pic>
      <p:sp>
        <p:nvSpPr>
          <p:cNvPr id="85" name="Straight Connector 7"/>
          <p:cNvSpPr/>
          <p:nvPr/>
        </p:nvSpPr>
        <p:spPr>
          <a:xfrm>
            <a:off x="247680" y="641520"/>
            <a:ext cx="8648640" cy="0"/>
          </a:xfrm>
          <a:prstGeom prst="line">
            <a:avLst/>
          </a:prstGeom>
          <a:ln w="15840">
            <a:solidFill>
              <a:srgbClr val="003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CDB6B5-56E1-4067-B58D-F4F2B2C439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4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Meter Working Group - Dec 20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6"/>
          <p:cNvSpPr/>
          <p:nvPr/>
        </p:nvSpPr>
        <p:spPr>
          <a:xfrm>
            <a:off x="-47520" y="0"/>
            <a:ext cx="9239040" cy="6858000"/>
          </a:xfrm>
          <a:prstGeom prst="rect">
            <a:avLst/>
          </a:prstGeom>
          <a:solidFill>
            <a:srgbClr val="003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12" descr=""/>
          <p:cNvPicPr/>
          <p:nvPr/>
        </p:nvPicPr>
        <p:blipFill>
          <a:blip r:embed="rId2"/>
          <a:stretch/>
        </p:blipFill>
        <p:spPr>
          <a:xfrm>
            <a:off x="212760" y="0"/>
            <a:ext cx="8718480" cy="137160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8" descr="ERCOT cmyk-01.png"/>
          <p:cNvPicPr/>
          <p:nvPr/>
        </p:nvPicPr>
        <p:blipFill>
          <a:blip r:embed="rId3"/>
          <a:stretch/>
        </p:blipFill>
        <p:spPr>
          <a:xfrm>
            <a:off x="247680" y="6024600"/>
            <a:ext cx="817560" cy="345960"/>
          </a:xfrm>
          <a:prstGeom prst="rect">
            <a:avLst/>
          </a:prstGeom>
          <a:ln w="0">
            <a:noFill/>
          </a:ln>
        </p:spPr>
      </p:pic>
      <p:sp>
        <p:nvSpPr>
          <p:cNvPr id="129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F933B8-225E-43CB-8197-1C834AD1C6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ftr" idx="5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Meter Working Group - Dec 20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6"/>
          <p:cNvSpPr/>
          <p:nvPr/>
        </p:nvSpPr>
        <p:spPr>
          <a:xfrm>
            <a:off x="-47520" y="0"/>
            <a:ext cx="9239040" cy="6858000"/>
          </a:xfrm>
          <a:prstGeom prst="rect">
            <a:avLst/>
          </a:prstGeom>
          <a:solidFill>
            <a:srgbClr val="003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12" descr=""/>
          <p:cNvPicPr/>
          <p:nvPr/>
        </p:nvPicPr>
        <p:blipFill>
          <a:blip r:embed="rId2"/>
          <a:stretch/>
        </p:blipFill>
        <p:spPr>
          <a:xfrm>
            <a:off x="212760" y="0"/>
            <a:ext cx="8718480" cy="137160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8" descr="ERCOT cmyk-01.png"/>
          <p:cNvPicPr/>
          <p:nvPr/>
        </p:nvPicPr>
        <p:blipFill>
          <a:blip r:embed="rId3"/>
          <a:stretch/>
        </p:blipFill>
        <p:spPr>
          <a:xfrm>
            <a:off x="247680" y="6024600"/>
            <a:ext cx="817560" cy="345960"/>
          </a:xfrm>
          <a:prstGeom prst="rect">
            <a:avLst/>
          </a:prstGeom>
          <a:ln w="0">
            <a:noFill/>
          </a:ln>
        </p:spPr>
      </p:pic>
      <p:sp>
        <p:nvSpPr>
          <p:cNvPr id="172" name="Straight Connector 7"/>
          <p:cNvSpPr/>
          <p:nvPr/>
        </p:nvSpPr>
        <p:spPr>
          <a:xfrm>
            <a:off x="247680" y="641520"/>
            <a:ext cx="8648640" cy="0"/>
          </a:xfrm>
          <a:prstGeom prst="line">
            <a:avLst/>
          </a:prstGeom>
          <a:ln w="15840">
            <a:solidFill>
              <a:srgbClr val="003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CC193B2-2B98-447F-8BFC-4A32F69FAC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ftr" idx="6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Meter Working Group - Dec 20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6"/>
          <p:cNvSpPr/>
          <p:nvPr/>
        </p:nvSpPr>
        <p:spPr>
          <a:xfrm>
            <a:off x="-47520" y="0"/>
            <a:ext cx="9239040" cy="6858000"/>
          </a:xfrm>
          <a:prstGeom prst="rect">
            <a:avLst/>
          </a:prstGeom>
          <a:solidFill>
            <a:srgbClr val="003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12" descr=""/>
          <p:cNvPicPr/>
          <p:nvPr/>
        </p:nvPicPr>
        <p:blipFill>
          <a:blip r:embed="rId2"/>
          <a:stretch/>
        </p:blipFill>
        <p:spPr>
          <a:xfrm>
            <a:off x="212760" y="0"/>
            <a:ext cx="8718480" cy="1371600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8" descr="ERCOT cmyk-01.png"/>
          <p:cNvPicPr/>
          <p:nvPr/>
        </p:nvPicPr>
        <p:blipFill>
          <a:blip r:embed="rId3"/>
          <a:stretch/>
        </p:blipFill>
        <p:spPr>
          <a:xfrm>
            <a:off x="247680" y="6024600"/>
            <a:ext cx="817560" cy="345960"/>
          </a:xfrm>
          <a:prstGeom prst="rect">
            <a:avLst/>
          </a:prstGeom>
          <a:ln w="0">
            <a:noFill/>
          </a:ln>
        </p:spPr>
      </p:pic>
      <p:sp>
        <p:nvSpPr>
          <p:cNvPr id="216" name="Straight Connector 7"/>
          <p:cNvSpPr/>
          <p:nvPr/>
        </p:nvSpPr>
        <p:spPr>
          <a:xfrm>
            <a:off x="247680" y="641520"/>
            <a:ext cx="8648640" cy="0"/>
          </a:xfrm>
          <a:prstGeom prst="line">
            <a:avLst/>
          </a:prstGeom>
          <a:ln w="15840">
            <a:solidFill>
              <a:srgbClr val="003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4C8563-6DA7-4125-832D-6B043909CC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ftr" idx="7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Meter Working Group - Dec 20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6"/>
          <p:cNvSpPr/>
          <p:nvPr/>
        </p:nvSpPr>
        <p:spPr>
          <a:xfrm>
            <a:off x="-47520" y="0"/>
            <a:ext cx="9239040" cy="6858000"/>
          </a:xfrm>
          <a:prstGeom prst="rect">
            <a:avLst/>
          </a:prstGeom>
          <a:solidFill>
            <a:srgbClr val="003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12" descr=""/>
          <p:cNvPicPr/>
          <p:nvPr/>
        </p:nvPicPr>
        <p:blipFill>
          <a:blip r:embed="rId2"/>
          <a:stretch/>
        </p:blipFill>
        <p:spPr>
          <a:xfrm>
            <a:off x="212760" y="0"/>
            <a:ext cx="8718480" cy="1371600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8" descr="ERCOT cmyk-01.png"/>
          <p:cNvPicPr/>
          <p:nvPr/>
        </p:nvPicPr>
        <p:blipFill>
          <a:blip r:embed="rId3"/>
          <a:stretch/>
        </p:blipFill>
        <p:spPr>
          <a:xfrm>
            <a:off x="247680" y="6024600"/>
            <a:ext cx="817560" cy="345960"/>
          </a:xfrm>
          <a:prstGeom prst="rect">
            <a:avLst/>
          </a:prstGeom>
          <a:ln w="0">
            <a:noFill/>
          </a:ln>
        </p:spPr>
      </p:pic>
      <p:sp>
        <p:nvSpPr>
          <p:cNvPr id="260" name="Straight Connector 7"/>
          <p:cNvSpPr/>
          <p:nvPr/>
        </p:nvSpPr>
        <p:spPr>
          <a:xfrm>
            <a:off x="247680" y="641520"/>
            <a:ext cx="8648640" cy="0"/>
          </a:xfrm>
          <a:prstGeom prst="line">
            <a:avLst/>
          </a:prstGeom>
          <a:ln w="15840">
            <a:solidFill>
              <a:srgbClr val="003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Slide Number Placeholder 6"/>
          <p:cNvSpPr/>
          <p:nvPr/>
        </p:nvSpPr>
        <p:spPr>
          <a:xfrm>
            <a:off x="6705720" y="6202440"/>
            <a:ext cx="21333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DC13E02-4189-427A-8BE1-4C55A43586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ftr" idx="8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Meter Working Group - Dec 20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6"/>
          <p:cNvSpPr/>
          <p:nvPr/>
        </p:nvSpPr>
        <p:spPr>
          <a:xfrm>
            <a:off x="-47520" y="0"/>
            <a:ext cx="9239040" cy="6858000"/>
          </a:xfrm>
          <a:prstGeom prst="rect">
            <a:avLst/>
          </a:prstGeom>
          <a:solidFill>
            <a:srgbClr val="003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Picture 12" descr=""/>
          <p:cNvPicPr/>
          <p:nvPr/>
        </p:nvPicPr>
        <p:blipFill>
          <a:blip r:embed="rId2"/>
          <a:stretch/>
        </p:blipFill>
        <p:spPr>
          <a:xfrm>
            <a:off x="212760" y="0"/>
            <a:ext cx="8718480" cy="1371600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8" descr="ERCOT cmyk-01.png"/>
          <p:cNvPicPr/>
          <p:nvPr/>
        </p:nvPicPr>
        <p:blipFill>
          <a:blip r:embed="rId3"/>
          <a:stretch/>
        </p:blipFill>
        <p:spPr>
          <a:xfrm>
            <a:off x="247680" y="6024600"/>
            <a:ext cx="817560" cy="345960"/>
          </a:xfrm>
          <a:prstGeom prst="rect">
            <a:avLst/>
          </a:prstGeom>
          <a:ln w="0">
            <a:noFill/>
          </a:ln>
        </p:spPr>
      </p:pic>
      <p:sp>
        <p:nvSpPr>
          <p:cNvPr id="304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35C71D-B4A6-416E-B715-2F739ADED8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ftr" idx="9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Meter Working Group - Dec 20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6"/>
          <p:cNvSpPr/>
          <p:nvPr/>
        </p:nvSpPr>
        <p:spPr>
          <a:xfrm>
            <a:off x="-47520" y="0"/>
            <a:ext cx="9239040" cy="6858000"/>
          </a:xfrm>
          <a:prstGeom prst="rect">
            <a:avLst/>
          </a:prstGeom>
          <a:solidFill>
            <a:srgbClr val="003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Picture 12" descr=""/>
          <p:cNvPicPr/>
          <p:nvPr/>
        </p:nvPicPr>
        <p:blipFill>
          <a:blip r:embed="rId2"/>
          <a:stretch/>
        </p:blipFill>
        <p:spPr>
          <a:xfrm>
            <a:off x="212760" y="0"/>
            <a:ext cx="8718480" cy="1371600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8" descr="ERCOT cmyk-01.png"/>
          <p:cNvPicPr/>
          <p:nvPr/>
        </p:nvPicPr>
        <p:blipFill>
          <a:blip r:embed="rId3"/>
          <a:stretch/>
        </p:blipFill>
        <p:spPr>
          <a:xfrm>
            <a:off x="247680" y="6024600"/>
            <a:ext cx="817560" cy="345960"/>
          </a:xfrm>
          <a:prstGeom prst="rect">
            <a:avLst/>
          </a:prstGeom>
          <a:ln w="0">
            <a:noFill/>
          </a:ln>
        </p:spPr>
      </p:pic>
      <p:sp>
        <p:nvSpPr>
          <p:cNvPr id="347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59651F-1A3F-496D-A2B5-4DB13CEEDC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ftr" idx="10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Meter Working Group - Dec 20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73.xml"/><Relationship Id="rId7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5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379080" y="151920"/>
            <a:ext cx="8458200" cy="46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4-Day Weekend – Monday Operating 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Footer Placeholder 1"/>
          <p:cNvSpPr/>
          <p:nvPr/>
        </p:nvSpPr>
        <p:spPr>
          <a:xfrm>
            <a:off x="3124080" y="6194520"/>
            <a:ext cx="2895840" cy="1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Meter Working Group - Dec 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5" name=""/>
          <p:cNvGraphicFramePr/>
          <p:nvPr/>
        </p:nvGraphicFramePr>
        <p:xfrm>
          <a:off x="272880" y="657360"/>
          <a:ext cx="8564760" cy="5257800"/>
        </p:xfrm>
        <a:graphic>
          <a:graphicData uri="http://schemas.openxmlformats.org/drawingml/2006/table">
            <a:tbl>
              <a:tblPr/>
              <a:tblGrid>
                <a:gridCol w="951120"/>
                <a:gridCol w="952560"/>
                <a:gridCol w="950760"/>
                <a:gridCol w="952560"/>
                <a:gridCol w="950760"/>
                <a:gridCol w="952560"/>
                <a:gridCol w="951120"/>
                <a:gridCol w="952560"/>
                <a:gridCol w="950760"/>
              </a:tblGrid>
              <a:tr h="137880">
                <a:tc gridSpan="5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EY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82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erating Day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09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4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usiness Day for VEE, Usage Loading, Integration, Manual Processe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43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en-US" sz="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n-Business Day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43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en-US" sz="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cddc"/>
                    </a:solidFill>
                  </a:tcPr>
                </a:tc>
                <a:tc gridSpan="4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sting Date for Operating Day's RTM Statement &amp; Invoice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 row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NDAY OPERATING DA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82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404040"/>
                    </a:solidFill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y is outside of timeline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43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 Process days for EPS Data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43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 Process days for EPS Data - WARNING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382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(or less) Process days for EPS Data - CRITICAL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43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SSIBLE/PROBABLE WORK DAY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82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1360">
                <a:tc row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erating Day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8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-Day WEEKEND IMPACT FOR AN 'OD + 5' TIMELINE</a:t>
                      </a:r>
                      <a:br>
                        <a:rPr sz="800"/>
                      </a:b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erational Activity Schedule Relative to a Timeline </a:t>
                      </a:r>
                      <a:br>
                        <a:rPr sz="800"/>
                      </a:b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r Processing EPS Meter Data on OD+5 day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0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n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ue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e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ur</a:t>
                      </a:r>
                      <a:br>
                        <a:rPr sz="700"/>
                      </a:br>
                      <a:r>
                        <a:rPr b="1" lang="en-US" sz="7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(HOLIDAY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ri</a:t>
                      </a:r>
                      <a:br>
                        <a:rPr sz="700"/>
                      </a:br>
                      <a:r>
                        <a:rPr b="1" lang="en-US" sz="7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(HOLIDAY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n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n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8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-Nov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-Nov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-Nov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-Nov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-Nov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-Nov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-Nov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-Dec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78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PS Meter Data Collection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OAD EPS DATA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a agg &amp; Settle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) Validate</a:t>
                      </a:r>
                      <a:br>
                        <a:rPr sz="700"/>
                      </a:b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) Post Stmt &amp; Inv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cddc"/>
                    </a:solidFill>
                  </a:tcPr>
                </a:tc>
              </a:tr>
              <a:tr h="1368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52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CHEDULE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 gridSpan="4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TIVITY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YPE OF NOTICE ISSUE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43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NDAY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erating Day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64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UESDAY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a Collection, VEE Meter Data (2 process days)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-Hour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82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EDNESDAY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E Meter Data (1 process day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-Hour (Data needed for Data Agg Process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23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EDNESDAY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a Agg Runs Friday (REQUIRES EPS Meter Data to be Loaded in Lodestar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82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URSDAY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OLIDAY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82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RIDAY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OLIDAY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64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NDAY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voices Posted to Marke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78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47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4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NERAL GUIDELINES for NOTICE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35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4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f a process day is shaded White a 12-Hour notice is issue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56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4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f a process day is shaded Green, Yellow or Red, a 6-Hour notice is issue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79080" y="169560"/>
            <a:ext cx="8458200" cy="46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4-Day Weekend – Tuesday Operating 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Footer Placeholder 2"/>
          <p:cNvSpPr/>
          <p:nvPr/>
        </p:nvSpPr>
        <p:spPr>
          <a:xfrm>
            <a:off x="3124080" y="6194520"/>
            <a:ext cx="2895840" cy="1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Meter Working Group - Dec 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8" name=""/>
          <p:cNvGraphicFramePr/>
          <p:nvPr/>
        </p:nvGraphicFramePr>
        <p:xfrm>
          <a:off x="287280" y="673200"/>
          <a:ext cx="8550360" cy="5279760"/>
        </p:xfrm>
        <a:graphic>
          <a:graphicData uri="http://schemas.openxmlformats.org/drawingml/2006/table">
            <a:tbl>
              <a:tblPr/>
              <a:tblGrid>
                <a:gridCol w="924120"/>
                <a:gridCol w="925200"/>
                <a:gridCol w="924120"/>
                <a:gridCol w="1039680"/>
                <a:gridCol w="1038240"/>
                <a:gridCol w="925560"/>
                <a:gridCol w="924120"/>
                <a:gridCol w="925200"/>
                <a:gridCol w="924120"/>
              </a:tblGrid>
              <a:tr h="144360">
                <a:tc gridSpan="5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EY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43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erating Day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47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4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usiness Day for VEE, Usage Loading, Integration, Manual Processe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08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n-Business Day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48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cddc"/>
                    </a:solidFill>
                  </a:tcPr>
                </a:tc>
                <a:tc gridSpan="4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sting Date for Operating Day's RTM Statement &amp; Invoice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 row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UESDAY OPERATING DA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47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404040"/>
                    </a:solidFill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y is outside of timeline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2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 Process days for EPS Data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0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 Process days for EPS Data - WARNING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443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(or less) Process days for EPS Data - CRITICAL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0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SSIBLE/PROBABLE WORK DAY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43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8080">
                <a:tc row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erating Day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8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-Day WEEKEND IMPACT FOR AN 'OD + 5' TIMELINE</a:t>
                      </a:r>
                      <a:br>
                        <a:rPr sz="900"/>
                      </a:b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erational Activity Schedule Relative to a Timeline </a:t>
                      </a:r>
                      <a:br>
                        <a:rPr sz="900"/>
                      </a:b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r Processing EPS Meter Data on OD+5 day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6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n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ue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e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ur</a:t>
                      </a:r>
                      <a:br>
                        <a:rPr sz="700"/>
                      </a:br>
                      <a:r>
                        <a:rPr b="1" lang="en-US" sz="7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(HOLIDAY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ri</a:t>
                      </a:r>
                      <a:br>
                        <a:rPr sz="700"/>
                      </a:br>
                      <a:r>
                        <a:rPr b="1" lang="en-US" sz="7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(HOLIDAY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n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n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44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-Nov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-Nov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-Nov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-Nov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-Nov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-Nov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-Nov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-Dec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51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40404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D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OAD EPS DATA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SSIBLE  WORK DAY - Data Agg &amp; Settle 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) Validate</a:t>
                      </a:r>
                      <a:br>
                        <a:rPr sz="600"/>
                      </a:b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) Post Stmt &amp; Inv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2cddc"/>
                    </a:solidFill>
                  </a:tcPr>
                </a:tc>
              </a:tr>
              <a:tr h="1447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87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CHEDULE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 gridSpan="4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TIVITY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YPE OF NOTICE ISSUE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0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UESDAY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erating Day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43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EDNESDAY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E Meter Data (1 process day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-Hour (Data needed for Data Agg Process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EDNESDAY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a Agg Runs Saturday (REQUIRES EPS Meter Data to be Loaded in Lodestar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43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URSDAY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OLIDAY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47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RIDAY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OLIDAY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43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TURDAY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SSIBLE WORK DAY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43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NDAY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voices Posted to Marke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43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0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7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4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NERAL GUIDELINES for NOTICE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0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4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f a process day is shaded White a 12-Hour notice is issue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82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4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f a process day is shaded Green, Yellow or Red, a 6-Hour notice is issue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79080" y="169560"/>
            <a:ext cx="8458200" cy="46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4-Day Weekend – Wednesday Operating 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Footer Placeholder 2"/>
          <p:cNvSpPr/>
          <p:nvPr/>
        </p:nvSpPr>
        <p:spPr>
          <a:xfrm>
            <a:off x="3124080" y="6194520"/>
            <a:ext cx="2895840" cy="1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Meter Working Group - Dec 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1" name=""/>
          <p:cNvGraphicFramePr/>
          <p:nvPr/>
        </p:nvGraphicFramePr>
        <p:xfrm>
          <a:off x="282600" y="669960"/>
          <a:ext cx="8555040" cy="5321160"/>
        </p:xfrm>
        <a:graphic>
          <a:graphicData uri="http://schemas.openxmlformats.org/drawingml/2006/table">
            <a:tbl>
              <a:tblPr/>
              <a:tblGrid>
                <a:gridCol w="950760"/>
                <a:gridCol w="951120"/>
                <a:gridCol w="949320"/>
                <a:gridCol w="950760"/>
                <a:gridCol w="951120"/>
                <a:gridCol w="950760"/>
                <a:gridCol w="949320"/>
                <a:gridCol w="951120"/>
                <a:gridCol w="950760"/>
              </a:tblGrid>
              <a:tr h="152280">
                <a:tc gridSpan="5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EY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40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erating Da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2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4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usiness Day for VEE, Usage Loading, Integration, Manual Processe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05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n-Business Da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020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cddc"/>
                    </a:solidFill>
                  </a:tcPr>
                </a:tc>
                <a:tc gridSpan="4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sting Date for Operating Day's RTM Statement &amp; Invoic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 row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EDNESDAY OPERATING D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2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404040"/>
                    </a:solidFill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y is outside of timelin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05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 Process days for EPS Dat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87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 Process days for EPS Data - WARNIN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540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(or less) Process days for EPS Data - CRITICA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02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SSIBLE/PROBABLE WORK DA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2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 row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erating Day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8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-Day WEEKEND IMPACT FOR AN 'OD + 5' TIMELINE</a:t>
                      </a:r>
                      <a:br>
                        <a:rPr sz="900"/>
                      </a:b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erational Activity Schedule Relative to a Timeline </a:t>
                      </a:r>
                      <a:br>
                        <a:rPr sz="900"/>
                      </a:b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r Processing EPS Meter Data on OD+5 day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2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u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e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ur</a:t>
                      </a:r>
                      <a:br>
                        <a:rPr sz="800"/>
                      </a:br>
                      <a:r>
                        <a:rPr b="1" lang="en-US" sz="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(HOLIDAY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ri</a:t>
                      </a:r>
                      <a:br>
                        <a:rPr sz="800"/>
                      </a:br>
                      <a:r>
                        <a:rPr b="1" lang="en-US" sz="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(HOLIDAY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2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-Nov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-Nov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-Nov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-Nov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-Nov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-Nov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-Nov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-De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0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40404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40404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PS Meter Data Collectio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ORK DAY     LOAD EPS Meter Data - Note 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a Agg &amp; Settl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) Validate</a:t>
                      </a:r>
                      <a:br>
                        <a:rPr sz="800"/>
                      </a:b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) Post Stmt &amp; Inv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cddc"/>
                    </a:solidFill>
                  </a:tcPr>
                </a:tc>
              </a:tr>
              <a:tr h="152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684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CHEDUL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 gridSpan="4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TIVIT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YPE OF NOTICE ISSUE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02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EDNESDA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erating Da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2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URSDA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OLIDA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RIDA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OLIDA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37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TURDA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ORK DA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-Hour (Data needed for Data Agg Process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TURDA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a Agg Runs Sunday (REQUIRES EPS Meter Data to be Loaded in Lodestar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2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NDA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voices Posted to Marke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2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40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87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480"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TE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4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NERAL GUIDELINES for NOTICE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0200"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- Can be either Friday, Saturday or Sunda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4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f a process day is shaded White a 12-Hour notice is issue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2280"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4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f a process day is shaded Green, Yellow or Red, a 6-Hour notice is issue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379080" y="169560"/>
            <a:ext cx="8458200" cy="46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4-Day Weekend – Thursday Operating 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Footer Placeholder 2"/>
          <p:cNvSpPr/>
          <p:nvPr/>
        </p:nvSpPr>
        <p:spPr>
          <a:xfrm>
            <a:off x="3124080" y="6194520"/>
            <a:ext cx="2895840" cy="1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Meter Working Group - Dec 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4" name=""/>
          <p:cNvGraphicFramePr/>
          <p:nvPr/>
        </p:nvGraphicFramePr>
        <p:xfrm>
          <a:off x="263520" y="730080"/>
          <a:ext cx="8574120" cy="5204160"/>
        </p:xfrm>
        <a:graphic>
          <a:graphicData uri="http://schemas.openxmlformats.org/drawingml/2006/table">
            <a:tbl>
              <a:tblPr/>
              <a:tblGrid>
                <a:gridCol w="952560"/>
                <a:gridCol w="952560"/>
                <a:gridCol w="952560"/>
                <a:gridCol w="952200"/>
                <a:gridCol w="954360"/>
                <a:gridCol w="952200"/>
                <a:gridCol w="952560"/>
                <a:gridCol w="952560"/>
                <a:gridCol w="952560"/>
              </a:tblGrid>
              <a:tr h="146160">
                <a:tc gridSpan="5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EY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61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erating Da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43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4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usiness Day for VEE, Usage Loading, Integration, Manual Processe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228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n-Business Da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08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cddc"/>
                    </a:solidFill>
                  </a:tcPr>
                </a:tc>
                <a:tc gridSpan="4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sting Date for Operating Day's RTM Statement &amp; Invoic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 row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URSDAY OPERATING DA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47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404040"/>
                    </a:solidFill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y is outside of timelin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2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 Process days for EPS Dat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40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 Process days for EPS Data - WARNIN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443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(or less) Process days for EPS Data - CRITICA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40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SSIBLE/PROBABLE WORK DA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43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040">
                <a:tc row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erating Day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8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-Day WEEKEND IMPACT FOR AN 'OD + 5' TIMELINE</a:t>
                      </a:r>
                      <a:br>
                        <a:rPr sz="900"/>
                      </a:b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erational Activity Schedule Relative to a Timeline </a:t>
                      </a:r>
                      <a:br>
                        <a:rPr sz="900"/>
                      </a:b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r Processing EPS Meter Data on OD+5 day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8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u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e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ur</a:t>
                      </a:r>
                      <a:br>
                        <a:rPr sz="800"/>
                      </a:br>
                      <a:r>
                        <a:rPr b="1" lang="en-US" sz="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(HOLIDAY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ri</a:t>
                      </a:r>
                      <a:br>
                        <a:rPr sz="800"/>
                      </a:br>
                      <a:r>
                        <a:rPr b="1" lang="en-US" sz="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(HOLIDAY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u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4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-Nov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-Nov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-Nov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-Nov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-Nov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-Nov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-De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-De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363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40404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40404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PS Meter Data Collectio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a agg &amp; Settl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) Validate</a:t>
                      </a:r>
                      <a:br>
                        <a:rPr sz="800"/>
                      </a:b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) Post Stmt &amp; Inv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2cddc"/>
                    </a:solidFill>
                  </a:tcPr>
                </a:tc>
              </a:tr>
              <a:tr h="1461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87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CHEDUL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 gridSpan="4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TIVIT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YPE OF NOTICE ISSUE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2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EDNESDA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erating Da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61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URSDA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OLIDA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61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RIDA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OLIDA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58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NDA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E Meter Data (1 process day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-Hour (Data needed for Data Agg Process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47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NDA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a Agg Runs (REQUIRES EPS Meter Data to be Loaded in Lodestar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58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UESDA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voices Posted to Marke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61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61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2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7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4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NERAL GUIDELINES for NOTICE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40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4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f a process day is shaded White a 12-Hour notice is issue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00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4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f a process day is shaded Green, Yellow or Red, a 6-Hour notice is issue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379080" y="169560"/>
            <a:ext cx="8458200" cy="46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4-Day Weekend – Friday Operating 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Footer Placeholder 2"/>
          <p:cNvSpPr/>
          <p:nvPr/>
        </p:nvSpPr>
        <p:spPr>
          <a:xfrm>
            <a:off x="3124080" y="6194520"/>
            <a:ext cx="2895840" cy="1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Meter Working Group - Dec 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7" name=""/>
          <p:cNvGraphicFramePr/>
          <p:nvPr/>
        </p:nvGraphicFramePr>
        <p:xfrm>
          <a:off x="257040" y="679320"/>
          <a:ext cx="8580600" cy="5283360"/>
        </p:xfrm>
        <a:graphic>
          <a:graphicData uri="http://schemas.openxmlformats.org/drawingml/2006/table">
            <a:tbl>
              <a:tblPr/>
              <a:tblGrid>
                <a:gridCol w="954360"/>
                <a:gridCol w="952200"/>
                <a:gridCol w="954360"/>
                <a:gridCol w="952560"/>
                <a:gridCol w="954000"/>
                <a:gridCol w="952560"/>
                <a:gridCol w="954000"/>
                <a:gridCol w="952560"/>
                <a:gridCol w="954000"/>
              </a:tblGrid>
              <a:tr h="138240">
                <a:tc gridSpan="5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EY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82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erating Day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64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4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usiness Day for VEE, Usage Loading, Integration, Manual Processe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43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en-US" sz="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n-Business Day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43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en-US" sz="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cddc"/>
                    </a:solidFill>
                  </a:tcPr>
                </a:tc>
                <a:tc gridSpan="4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sting Date for Operating Day's RTM Statement &amp; Invoice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 row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RIDAY OPERATING DA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82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404040"/>
                    </a:solidFill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y is outside of timeline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43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 Process days for EPS Data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47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 Process days for EPS Data - WARNING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378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(or less) Process days for EPS Data - CRITICAL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47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SSIBLE/PROBABLE WORK DAY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78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920">
                <a:tc row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erating Day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8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-Day WEEKEND IMPACT FOR AN 'OD + 5' TIMELINE</a:t>
                      </a:r>
                      <a:br>
                        <a:rPr sz="800"/>
                      </a:b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erational Activity Schedule Relative to a Timeline </a:t>
                      </a:r>
                      <a:br>
                        <a:rPr sz="800"/>
                      </a:b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r Processing EPS Meter Data on OD+5 day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e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ur</a:t>
                      </a:r>
                      <a:br>
                        <a:rPr sz="700"/>
                      </a:br>
                      <a:r>
                        <a:rPr b="1" lang="en-US" sz="7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(HOLIDAY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ri</a:t>
                      </a:r>
                      <a:br>
                        <a:rPr sz="700"/>
                      </a:br>
                      <a:r>
                        <a:rPr b="1" lang="en-US" sz="7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(HOLIDAY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n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n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ue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e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7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-Nov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-Nov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-Nov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-Nov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-Nov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-Dec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-Dec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-Dec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143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40404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PS Meter Data Collection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a agg &amp; Settle - LOAD EPS DATA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) Validate</a:t>
                      </a:r>
                      <a:br>
                        <a:rPr sz="700"/>
                      </a:b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) Post Stmt &amp; Inv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cddc"/>
                    </a:solidFill>
                  </a:tcPr>
                </a:tc>
              </a:tr>
              <a:tr h="1364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50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CHEDULE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 gridSpan="4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TIVITY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YPE OF NOTICE ISSUE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47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RIDAY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erating Day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78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NDAY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E Meter Data (2 process days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-Hour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82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UESDAY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E Meter Data (1 process day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-Hour (Data needed for Data Agg Process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47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UESDAY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a Agg Runs (REQUIRES EPS Meter Data to be Loaded in Lodestar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68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EDNESDAY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voices Posted to Marke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78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82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78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47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4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NERAL GUIDELINES for NOTICE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43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4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f a process day is shaded White a 12-Hour notice is issue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56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4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f a process day is shaded Green, Yellow or Red, a 6-Hour notice is issue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79080" y="169560"/>
            <a:ext cx="8458200" cy="46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4-Day Weekend – Saturday Operating 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Footer Placeholder 2"/>
          <p:cNvSpPr/>
          <p:nvPr/>
        </p:nvSpPr>
        <p:spPr>
          <a:xfrm>
            <a:off x="3124080" y="6194520"/>
            <a:ext cx="2895840" cy="1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Meter Working Group - Dec 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0" name=""/>
          <p:cNvGraphicFramePr/>
          <p:nvPr/>
        </p:nvGraphicFramePr>
        <p:xfrm>
          <a:off x="274680" y="733320"/>
          <a:ext cx="8562960" cy="5181840"/>
        </p:xfrm>
        <a:graphic>
          <a:graphicData uri="http://schemas.openxmlformats.org/drawingml/2006/table">
            <a:tbl>
              <a:tblPr/>
              <a:tblGrid>
                <a:gridCol w="857160"/>
                <a:gridCol w="855720"/>
                <a:gridCol w="857160"/>
                <a:gridCol w="854280"/>
                <a:gridCol w="855360"/>
                <a:gridCol w="857520"/>
                <a:gridCol w="855720"/>
                <a:gridCol w="857160"/>
                <a:gridCol w="855720"/>
                <a:gridCol w="857160"/>
              </a:tblGrid>
              <a:tr h="149400">
                <a:tc gridSpan="5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EY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76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erating Da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9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4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usiness Day for VEE, Usage Loading, Integration, Manual Processe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588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n-Business Da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69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cddc"/>
                    </a:solidFill>
                  </a:tcPr>
                </a:tc>
                <a:tc gridSpan="4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sting Date for Operating Day's RTM Statement &amp; Invoic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 row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TURDAY OPERATING D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76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404040"/>
                    </a:solidFill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y is outside of timelin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73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 Process days for EPS Dat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55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 Process days for EPS Data - WARNIN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9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(or less) Process days for EPS Data - CRITICA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58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SSIBLE/PROBABLE WORK DA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76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 row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erating Day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9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-Day WEEKEND IMPACT FOR AN 'OD + 5' TIMELINE</a:t>
                      </a:r>
                      <a:br>
                        <a:rPr sz="900"/>
                      </a:b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erational Activity Schedule Relative to a Timeline </a:t>
                      </a:r>
                      <a:br>
                        <a:rPr sz="900"/>
                      </a:b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r Processing EPS Meter Data on OD+5 day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4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ur</a:t>
                      </a:r>
                      <a:br>
                        <a:rPr sz="800"/>
                      </a:br>
                      <a:r>
                        <a:rPr b="1" lang="en-US" sz="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(HOLIDAY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ri</a:t>
                      </a:r>
                      <a:br>
                        <a:rPr sz="800"/>
                      </a:br>
                      <a:r>
                        <a:rPr b="1" lang="en-US" sz="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(HOLIDAY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u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e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u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r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49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-Nov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-Nov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-Nov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-Nov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-De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-De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-De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-De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-De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6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PS Meter Data Collectio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a agg &amp; Settle - LOAD EPS DAT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) Validate</a:t>
                      </a:r>
                      <a:br>
                        <a:rPr sz="800"/>
                      </a:b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) Post Stmt &amp; Inv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cdd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404040"/>
                    </a:solidFill>
                  </a:tcPr>
                </a:tc>
              </a:tr>
              <a:tr h="149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638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CHEDUL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 gridSpan="4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TIVIT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YPE OF NOTICE ISSUE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55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TURDAY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erating Da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9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NDAY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E Meter Data (3 process days)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-Hou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76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UESDAY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E Meter Data (2 process days)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-Hou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94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EDNESDAY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E Meter Data (1 process day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-Hour (Data needed for Data Agg Process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9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EDNESDAY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a Agg Runs (REQUIRES EPS Meter Data in Lodestar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94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URSDAY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voices Posted to Marke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76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94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34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NERAL GUIDELINES for NOTICE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55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f a process day is shaded White a 12-Hour notice is issue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49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f a process day is shaded Green, Yellow or Red, a 6-Hour notice is issue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79080" y="169560"/>
            <a:ext cx="8458200" cy="46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4-Day Weekend – Sunday Operating 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Footer Placeholder 2"/>
          <p:cNvSpPr/>
          <p:nvPr/>
        </p:nvSpPr>
        <p:spPr>
          <a:xfrm>
            <a:off x="3124080" y="6194520"/>
            <a:ext cx="2895840" cy="1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Meter Working Group - Dec 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3" name=""/>
          <p:cNvGraphicFramePr/>
          <p:nvPr/>
        </p:nvGraphicFramePr>
        <p:xfrm>
          <a:off x="270000" y="660240"/>
          <a:ext cx="8567640" cy="5274000"/>
        </p:xfrm>
        <a:graphic>
          <a:graphicData uri="http://schemas.openxmlformats.org/drawingml/2006/table">
            <a:tbl>
              <a:tblPr/>
              <a:tblGrid>
                <a:gridCol w="857160"/>
                <a:gridCol w="855720"/>
                <a:gridCol w="857160"/>
                <a:gridCol w="857160"/>
                <a:gridCol w="857160"/>
                <a:gridCol w="855720"/>
                <a:gridCol w="857520"/>
                <a:gridCol w="857160"/>
                <a:gridCol w="855720"/>
                <a:gridCol w="857160"/>
              </a:tblGrid>
              <a:tr h="150840">
                <a:tc gridSpan="5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EY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0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erating Da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0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4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usiness Day for VEE, Usage Loading, Integration, Manual Processe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87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n-Business Da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732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cddc"/>
                    </a:solidFill>
                  </a:tcPr>
                </a:tc>
                <a:tc gridSpan="4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sting Date for Operating Day's RTM Statement &amp; Invoic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 row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NDAY OPERATING D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0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404040"/>
                    </a:solidFill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y is outside of timelin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87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 Process days for EPS Dat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 Process days for EPS Data - WARNIN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0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(or less) Process days for EPS Data - CRITICA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87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SSIBLE/PROBABLE WORK DA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0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 row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erating Day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9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-Day WEEKEND IMPACT FOR AN 'OD + 5' TIMELINE</a:t>
                      </a:r>
                      <a:br>
                        <a:rPr sz="900"/>
                      </a:b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erational Activity Schedule Relative to a Timeline </a:t>
                      </a:r>
                      <a:br>
                        <a:rPr sz="900"/>
                      </a:b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r Processing EPS Meter Data on OD+5 day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ur</a:t>
                      </a:r>
                      <a:br>
                        <a:rPr sz="800"/>
                      </a:br>
                      <a:r>
                        <a:rPr b="1" lang="en-US" sz="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(HOLIDAY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ri</a:t>
                      </a:r>
                      <a:br>
                        <a:rPr sz="800"/>
                      </a:br>
                      <a:r>
                        <a:rPr b="1" lang="en-US" sz="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(HOLIDAY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u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e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u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r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0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-Nov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-Nov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-Nov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-Nov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-De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-De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-De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-De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-De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3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PS Meter Data Collectio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a agg &amp; Settle - LOAD EPS DAT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) Validate</a:t>
                      </a:r>
                      <a:br>
                        <a:rPr sz="800"/>
                      </a:b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) Post Stmt &amp; Inv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cddc"/>
                    </a:solidFill>
                  </a:tcPr>
                </a:tc>
              </a:tr>
              <a:tr h="150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652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CHEDUL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 gridSpan="4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TIVIT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YPE OF NOTICE ISSUE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NDAY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erating Da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0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NDAY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E Meter Data (4 process days)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-Hou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0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UESDAY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E Meter Data (3 process days)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-Hou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0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EDNESDAY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E Meter Data (2 process days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-Hou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0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URSDAY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E Meter Data (1 process day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-Hour (Data needed for Data Agg Process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0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URSDAY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a Agg Runs (REQUIRES EPS Meter Data in Lodestar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0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RIDAY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voices Posted to Marke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0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8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NERAL GUIDELINES for NOTICE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87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f a process day is shaded White a 12-Hour notice is issue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04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f a process day is shaded Green, Yellow or Red, a 6-Hour notice is issue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2T23:12:02Z</dcterms:created>
  <dc:creator>Diana</dc:creator>
  <dc:description/>
  <dc:language>en-US</dc:language>
  <cp:lastModifiedBy>Vinton, Patrick</cp:lastModifiedBy>
  <cp:lastPrinted>2013-01-30T23:16:36Z</cp:lastPrinted>
  <dcterms:modified xsi:type="dcterms:W3CDTF">2013-11-05T19:56:54Z</dcterms:modified>
  <cp:revision>254</cp:revision>
  <dc:subject/>
  <dc:title>FileNew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0EB6C32BA7893B4D8D08DA703C6B8599</vt:lpwstr>
  </property>
  <property fmtid="{D5CDD505-2E9C-101B-9397-08002B2CF9AE}" pid="3" name="Information Classification">
    <vt:lpwstr>ERCOT Limited</vt:lpwstr>
  </property>
</Properties>
</file>