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18216-63E6-4BF5-95DE-2A7C6BA4F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2E6D6A-1228-425D-9367-454464C8E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904A-8DE6-45D2-B17C-DB9F5F56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3502-7878-4194-8326-C6BD68CD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F460-D0FE-4B85-9319-60B8148A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7001-B053-4DEA-82FD-4E98057E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9DC8-84E6-4041-BF6B-16C5FD1D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A9C-1FCF-4DBB-830D-7C0DFF08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6A21-B313-4B6D-B3A4-318D3D6B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A30E-BDFE-4322-8BC5-4F6EB842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DCCD-CDE6-42CB-8A49-2A250AC4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8878-F1E4-4139-AAC6-5B0DAB9F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B124-72C9-4FF3-A632-FF57E64A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6B4-1FE5-4D79-9699-5C8CB293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D196E-A434-477B-B683-FA5972DC6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ftr" idx="1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A4235-6FC8-49AC-B963-17DE840FAC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5663D-F067-40ED-9F91-E531BCCC6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29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CC378-41F5-48B8-A460-AD6416683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72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951A1-B43D-41F1-A528-C50883ED7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8A7E6-706F-4AED-B1F5-9325E85ED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60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DE767-2835-408D-B37F-1C5D8FB5E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D3D81-5296-4256-A790-E40BA2DAA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17347E-C490-4B5E-84AF-FF0283EBE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79080" y="151920"/>
            <a:ext cx="8458200" cy="4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-Day Weekend – Mon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1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266760" y="719280"/>
          <a:ext cx="8477280" cy="5206680"/>
        </p:xfrm>
        <a:graphic>
          <a:graphicData uri="http://schemas.openxmlformats.org/drawingml/2006/table">
            <a:tbl>
              <a:tblPr/>
              <a:tblGrid>
                <a:gridCol w="797040"/>
                <a:gridCol w="796680"/>
                <a:gridCol w="798480"/>
                <a:gridCol w="797040"/>
                <a:gridCol w="1300320"/>
                <a:gridCol w="796680"/>
                <a:gridCol w="798480"/>
                <a:gridCol w="797040"/>
                <a:gridCol w="798480"/>
                <a:gridCol w="797040"/>
              </a:tblGrid>
              <a:tr h="14436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 OPERATING 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Day WEEKEND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J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D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ollection, VEE Meter Data (3 process days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2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Friday (REQUIRES EPS Meter Data to be Loaded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 - Data Agg Ru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-Day Weekend – Tues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263520" y="738360"/>
          <a:ext cx="8574120" cy="5157720"/>
        </p:xfrm>
        <a:graphic>
          <a:graphicData uri="http://schemas.openxmlformats.org/drawingml/2006/table">
            <a:tbl>
              <a:tblPr/>
              <a:tblGrid>
                <a:gridCol w="687240"/>
                <a:gridCol w="689040"/>
                <a:gridCol w="687600"/>
                <a:gridCol w="688680"/>
                <a:gridCol w="1249560"/>
                <a:gridCol w="687240"/>
                <a:gridCol w="689040"/>
                <a:gridCol w="687600"/>
                <a:gridCol w="688680"/>
                <a:gridCol w="1819440"/>
              </a:tblGrid>
              <a:tr h="14112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 OPERATING 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Day WEEKEND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J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D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ollection, VEE Meter Data (2 process days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Saturday (REQUIRES EPS Meter Data to be Loaded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-Day Weekend – Wednes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281160" y="660240"/>
          <a:ext cx="8556480" cy="5302440"/>
        </p:xfrm>
        <a:graphic>
          <a:graphicData uri="http://schemas.openxmlformats.org/drawingml/2006/table">
            <a:tbl>
              <a:tblPr/>
              <a:tblGrid>
                <a:gridCol w="755640"/>
                <a:gridCol w="757080"/>
                <a:gridCol w="755640"/>
                <a:gridCol w="1252440"/>
                <a:gridCol w="1252800"/>
                <a:gridCol w="757080"/>
                <a:gridCol w="755640"/>
                <a:gridCol w="757080"/>
                <a:gridCol w="755640"/>
                <a:gridCol w="757440"/>
              </a:tblGrid>
              <a:tr h="14148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 OPERATING 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Day WEEKEND IMPACT FOR AN 'OD + 5' TIMELIN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br>
                        <a:rPr sz="700"/>
                      </a:br>
                      <a:r>
                        <a:rPr b="1" lang="en-US" sz="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  - LOAD EPS DA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700"/>
                      </a:b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ollection, VEE Meter Data (1 process day)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Sunday (REQUIRES EPS Meter Data to be Loaded in Lodestar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(REQUIRES EPS Meter Data to be Loaded in Lodestar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-Day Weekend – Thurs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306360" y="666720"/>
          <a:ext cx="8447040" cy="5334120"/>
        </p:xfrm>
        <a:graphic>
          <a:graphicData uri="http://schemas.openxmlformats.org/drawingml/2006/table">
            <a:tbl>
              <a:tblPr/>
              <a:tblGrid>
                <a:gridCol w="801720"/>
                <a:gridCol w="801720"/>
                <a:gridCol w="799920"/>
                <a:gridCol w="1019160"/>
                <a:gridCol w="1019160"/>
                <a:gridCol w="800280"/>
                <a:gridCol w="801720"/>
                <a:gridCol w="801720"/>
                <a:gridCol w="799920"/>
                <a:gridCol w="801720"/>
              </a:tblGrid>
              <a:tr h="14940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 OPERATING 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Day WEEKEND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3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 -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(REQUIRES EPS Meter Data to be Loaded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-Day Weekend – Fri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287280" y="738360"/>
          <a:ext cx="8550360" cy="5167080"/>
        </p:xfrm>
        <a:graphic>
          <a:graphicData uri="http://schemas.openxmlformats.org/drawingml/2006/table">
            <a:tbl>
              <a:tblPr/>
              <a:tblGrid>
                <a:gridCol w="833400"/>
                <a:gridCol w="831960"/>
                <a:gridCol w="831960"/>
                <a:gridCol w="833400"/>
                <a:gridCol w="1057320"/>
                <a:gridCol w="833400"/>
                <a:gridCol w="831600"/>
                <a:gridCol w="831960"/>
                <a:gridCol w="833400"/>
                <a:gridCol w="831960"/>
              </a:tblGrid>
              <a:tr h="13644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 OPERATING 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Day WEEKEND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2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 - HOL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2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(REQUIRES EPS Meter Data to be Loaded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-Day Weekend – Satur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249120" y="665280"/>
          <a:ext cx="8588520" cy="5268960"/>
        </p:xfrm>
        <a:graphic>
          <a:graphicData uri="http://schemas.openxmlformats.org/drawingml/2006/table">
            <a:tbl>
              <a:tblPr/>
              <a:tblGrid>
                <a:gridCol w="836640"/>
                <a:gridCol w="836640"/>
                <a:gridCol w="835200"/>
                <a:gridCol w="836640"/>
                <a:gridCol w="1063440"/>
                <a:gridCol w="835200"/>
                <a:gridCol w="836640"/>
                <a:gridCol w="836280"/>
                <a:gridCol w="835200"/>
                <a:gridCol w="836640"/>
              </a:tblGrid>
              <a:tr h="13968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 OPERATING 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Day WEEKEND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3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2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(REQUIRES EPS Meter Data to be Loaded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-Day Weekend – Sun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277920" y="657360"/>
          <a:ext cx="8559720" cy="5276880"/>
        </p:xfrm>
        <a:graphic>
          <a:graphicData uri="http://schemas.openxmlformats.org/drawingml/2006/table">
            <a:tbl>
              <a:tblPr/>
              <a:tblGrid>
                <a:gridCol w="812520"/>
                <a:gridCol w="811440"/>
                <a:gridCol w="811080"/>
                <a:gridCol w="1033560"/>
                <a:gridCol w="1031760"/>
                <a:gridCol w="811440"/>
                <a:gridCol w="812520"/>
                <a:gridCol w="811440"/>
                <a:gridCol w="812880"/>
                <a:gridCol w="811080"/>
              </a:tblGrid>
              <a:tr h="14760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DAY OPERATING 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Day WEEKEND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4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3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2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(REQUIRES EPS Meter Data to be Loaded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Vinton, Patrick</cp:lastModifiedBy>
  <cp:lastPrinted>2013-01-30T23:16:36Z</cp:lastPrinted>
  <dcterms:modified xsi:type="dcterms:W3CDTF">2013-12-03T01:05:04Z</dcterms:modified>
  <cp:revision>249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>ERCOT Limited</vt:lpwstr>
  </property>
</Properties>
</file>