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dt" idx="1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ftr" idx="1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 type="sldNum" idx="1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2F01AC-1D38-4295-A065-82B9D0FC60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4BC478-E904-4A1F-9409-8E68170335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C82B-F138-4CC0-9F8E-55394FF64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01AC-5DE4-4610-8A1F-9F4F0635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F1B3-971B-4854-8BAB-9CC5ED71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8214-4DBA-45E9-B755-9ED94AF1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9ABE-AB67-4B66-BBB4-9DDB2A3A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5327-302C-456F-AC60-36812356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286F-75F2-4813-99F3-93701955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1F04-FE19-46D8-9001-C9F059AF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E72C-DE5F-4736-962D-E5EA9434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BDFE-8EF2-4247-A564-41284847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699F-ED73-4EA8-903E-9E51EBCC4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A2DC-78BD-45E5-96E7-342DA8BA8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ftr" idx="1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2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F6C93E-5D12-497F-9FD3-C1446CD2A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ftr" idx="12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F83B25-F4A1-406C-9629-3EFEE35627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85" name="Straight Connector 7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421B2C-3B4D-4F2C-B5E4-D75AB785E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129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8FAA14-950D-4693-A4C5-07C2CEE16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5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172" name="Straight Connector 7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6AFDA5-F4F9-4012-ABC6-9C3448D5A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6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216" name="Straight Connector 7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80D7BB-A8BD-4487-B82E-9FB65CEAA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260" name="Straight Connector 7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E29262-209E-4BF6-BA90-9551DE407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304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29462D-F8A3-4354-9BFB-20457F4F4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ftr" idx="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347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13F542-FE98-4594-9C93-05B31FE14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ftr" idx="1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79080" y="151920"/>
            <a:ext cx="8458200" cy="4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-Day Weekend – Monday Operating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ooter Placeholder 1"/>
          <p:cNvSpPr/>
          <p:nvPr/>
        </p:nvSpPr>
        <p:spPr>
          <a:xfrm>
            <a:off x="3124080" y="6194520"/>
            <a:ext cx="28958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281160" y="666720"/>
          <a:ext cx="8556480" cy="5286240"/>
        </p:xfrm>
        <a:graphic>
          <a:graphicData uri="http://schemas.openxmlformats.org/drawingml/2006/table">
            <a:tbl>
              <a:tblPr/>
              <a:tblGrid>
                <a:gridCol w="855360"/>
                <a:gridCol w="855720"/>
                <a:gridCol w="854280"/>
                <a:gridCol w="855360"/>
                <a:gridCol w="855720"/>
                <a:gridCol w="855720"/>
                <a:gridCol w="857160"/>
                <a:gridCol w="855720"/>
                <a:gridCol w="855720"/>
                <a:gridCol w="855720"/>
              </a:tblGrid>
              <a:tr h="154080">
                <a:tc gridSpan="5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iness Day for VEE, Usage Loading, Integration, Manual Process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2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-Business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ing Date for Operating Day's RTM Statement &amp; Invoi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 OPERATING 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is outside of timeli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Process days for EPS 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Process days for EPS Data - WAR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(or less) Process days for EPS Data - CRITIC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SIBLE/PROBABLE WORK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9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Day WEEKEND IMPACT FOR AN 'OD + 5' TIMELINE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onal Activity Schedule Relative to a Timeline 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 Processing EPS Meter Data on OD+5 d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4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0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S Meter Data Colle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&amp; Settle - LOAD EPS 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) Validate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) Post Stmt &amp; In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</a:tr>
              <a:tr h="15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7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EDU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 OF NOTICE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Collection, VEE Meter Data (4 process days)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Ho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E Meter Data (3 process day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Ho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S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E Meter Data (2 process day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Ho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E Meter Data (1 process day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Hour (Data needed for Data Agg Proces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DAY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Runs (REQUIRES EPS Meter Data to be Loaded in Lodesta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oices Posted to 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 GUIDELINES for NOTIC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4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White a 12-Hour notice is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Green, Yellow or Red, a 6-Hour notice is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79080" y="169560"/>
            <a:ext cx="84582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-Day Weekend – Tuesday Operating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2"/>
          <p:cNvSpPr/>
          <p:nvPr/>
        </p:nvSpPr>
        <p:spPr>
          <a:xfrm>
            <a:off x="3124080" y="6194520"/>
            <a:ext cx="28958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264960" y="673200"/>
          <a:ext cx="8572680" cy="5384880"/>
        </p:xfrm>
        <a:graphic>
          <a:graphicData uri="http://schemas.openxmlformats.org/drawingml/2006/table">
            <a:tbl>
              <a:tblPr/>
              <a:tblGrid>
                <a:gridCol w="857520"/>
                <a:gridCol w="855720"/>
                <a:gridCol w="855360"/>
                <a:gridCol w="857520"/>
                <a:gridCol w="857160"/>
                <a:gridCol w="858960"/>
                <a:gridCol w="857160"/>
                <a:gridCol w="857160"/>
                <a:gridCol w="858960"/>
                <a:gridCol w="857160"/>
              </a:tblGrid>
              <a:tr h="153720">
                <a:tc gridSpan="5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iness Day for VEE, Usage Loading, Integration, Manual Process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-Business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ing Date for Operating Day's RTM Statement &amp; Invoi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DAY OPERATING 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is outside of timeli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Process days for EPS 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Process days for EPS Data - WAR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(or less) Process days for EPS Data - CRITIC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SIBLE/PROBABLE WORK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9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Day WEEKEND IMPACT FOR AN 'OD + 5' TIMELINE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onal Activity Schedule Relative to a Timeline 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 Processing EPS Meter Data on OD+5 d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5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S Meter Data Colle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AD EPS 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&amp; Sett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) Validate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) Post Stmt &amp; In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</a:tr>
              <a:tr h="15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9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EDU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 OF NOTICE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Collection, VEE Meter Data (3 process days)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Ho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S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E Meter Data (2 process day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Ho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E Meter Data (1 process day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Hour (Data needed for Data Agg Proces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Runs (REQUIRES EPS Meter Data to be Loaded in Lodesta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 GUIDELINES for NOTIC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3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White a 12-Hour notice is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Green, Yellow or Red, a 6-Hour notice is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79080" y="169560"/>
            <a:ext cx="84582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-Day Weekend – Wednesday Operating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ooter Placeholder 2"/>
          <p:cNvSpPr/>
          <p:nvPr/>
        </p:nvSpPr>
        <p:spPr>
          <a:xfrm>
            <a:off x="3124080" y="6194520"/>
            <a:ext cx="28958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307800" y="733320"/>
          <a:ext cx="8529840" cy="5276880"/>
        </p:xfrm>
        <a:graphic>
          <a:graphicData uri="http://schemas.openxmlformats.org/drawingml/2006/table">
            <a:tbl>
              <a:tblPr/>
              <a:tblGrid>
                <a:gridCol w="854280"/>
                <a:gridCol w="851040"/>
                <a:gridCol w="850680"/>
                <a:gridCol w="851040"/>
                <a:gridCol w="853920"/>
                <a:gridCol w="854280"/>
                <a:gridCol w="853920"/>
                <a:gridCol w="852480"/>
                <a:gridCol w="853920"/>
                <a:gridCol w="854280"/>
              </a:tblGrid>
              <a:tr h="150840">
                <a:tc gridSpan="5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iness Day for VEE, Usage Loading, Integration, Manual Process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-Business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ing Date for Operating Day's RTM Statement &amp; Invoi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 OPERATING 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is outside of timeli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Process days for EPS 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Process days for EPS Data - WAR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(or less) Process days for EPS Data - CRITIC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SIBLE/PROBABLE WORK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9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Day WEEKEND IMPACT FOR AN 'OD + 5' TIMELINE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onal Activity Schedule Relative to a Timeline 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 Processing EPS Meter Data on OD+5 d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3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S Meter Data Colle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AD EPS 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&amp; Sett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) Validate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) Post Stmt &amp; In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cdd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EDU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 OF NOTICE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S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Collection, VEE Meter Data (2 process days)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Ho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E Meter Data (1 process day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Hour (Data needed for Data Agg Proces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DAY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Runs Sunday (REQUIRES EPS Meter Data in Lodesta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oices Posted to 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 GUIDELINES for NOTIC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White a 12-Hour notice is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Green, Yellow or Red, a 6-Hour notice is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79080" y="169560"/>
            <a:ext cx="84582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-Day Weekend – Thursday Operating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ooter Placeholder 2"/>
          <p:cNvSpPr/>
          <p:nvPr/>
        </p:nvSpPr>
        <p:spPr>
          <a:xfrm>
            <a:off x="3124080" y="6194520"/>
            <a:ext cx="28958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264960" y="733320"/>
          <a:ext cx="8572680" cy="5248440"/>
        </p:xfrm>
        <a:graphic>
          <a:graphicData uri="http://schemas.openxmlformats.org/drawingml/2006/table">
            <a:tbl>
              <a:tblPr/>
              <a:tblGrid>
                <a:gridCol w="858960"/>
                <a:gridCol w="855720"/>
                <a:gridCol w="855720"/>
                <a:gridCol w="855720"/>
                <a:gridCol w="855360"/>
                <a:gridCol w="858960"/>
                <a:gridCol w="857160"/>
                <a:gridCol w="858960"/>
                <a:gridCol w="857160"/>
                <a:gridCol w="858960"/>
              </a:tblGrid>
              <a:tr h="150840">
                <a:tc gridSpan="5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iness Day for VEE, Usage Loading, Integration, Manual Process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-Business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ing Date for Operating Day's RTM Statement &amp; Invoi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SDAY OPERATING 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is outside of timeli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Process days for EPS 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Process days for EPS Data - WAR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(or less) Process days for EPS Data - CRITIC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SIBLE/PROBABLE WORK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9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Day WEEKEND IMPACT FOR AN 'OD + 5' TIMELINE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onal Activity Schedule Relative to a Timeline 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 Processing EPS Meter Data on OD+5 d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2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S Meter Data Colle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&amp; Settle - LOAD EPS 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) Validate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) Post Stmt &amp; In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cddc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5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EDU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 OF NOTICE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S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Collection, VEE Meter Data (2 process days)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Ho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E Meter Data (1 process day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Hour (Data needed for Data Agg Proces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Runs (REQUIRES EPS Meter Data in Lodesta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oices Posted to 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 GUIDELINES for NOTIC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White a 12-Hour notice is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8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Green, Yellow or Red, a 6-Hour notice is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79080" y="169560"/>
            <a:ext cx="84582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-Day Weekend – Friday Operating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ooter Placeholder 2"/>
          <p:cNvSpPr/>
          <p:nvPr/>
        </p:nvSpPr>
        <p:spPr>
          <a:xfrm>
            <a:off x="3124080" y="6194520"/>
            <a:ext cx="28958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255600" y="660240"/>
          <a:ext cx="8582040" cy="5302440"/>
        </p:xfrm>
        <a:graphic>
          <a:graphicData uri="http://schemas.openxmlformats.org/drawingml/2006/table">
            <a:tbl>
              <a:tblPr/>
              <a:tblGrid>
                <a:gridCol w="858960"/>
                <a:gridCol w="857160"/>
                <a:gridCol w="855720"/>
                <a:gridCol w="857160"/>
                <a:gridCol w="858960"/>
                <a:gridCol w="858600"/>
                <a:gridCol w="858960"/>
                <a:gridCol w="858960"/>
                <a:gridCol w="858600"/>
                <a:gridCol w="858960"/>
              </a:tblGrid>
              <a:tr h="152640">
                <a:tc gridSpan="5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iness Day for VEE, Usage Loading, Integration, Manual Process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-Business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5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ing Date for Operating Day's RTM Statement &amp; Invoi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DAY OPERATING 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is outside of timeli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Process days for EPS 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Process days for EPS Data - WAR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(or less) Process days for EPS Data - CRITIC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SIBLE/PROBABLE WORK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9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Day WEEKEND IMPACT FOR AN 'OD + 5' TIMELINE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onal Activity Schedule Relative to a Timeline 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 Processing EPS Meter Data on OD+5 d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5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S Meter Data Colle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&amp; Settle - LOAD EPS 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) Validate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) Post Stmt &amp; In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EDU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 OF NOTICE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Collection, VEE Meter Data (2 process days)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Ho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E Meter Data (1 process day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Hour (Data needed for Data Agg Proces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Runs (REQUIRES EPS Meter Data in Lodesta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oices Posted to 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 GUIDELINES for NOTIC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White a 12-Hour notice is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Green, Yellow or Red, a 6-Hour notice is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79080" y="169560"/>
            <a:ext cx="84582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-Day Weekend – Saturday Operating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ooter Placeholder 2"/>
          <p:cNvSpPr/>
          <p:nvPr/>
        </p:nvSpPr>
        <p:spPr>
          <a:xfrm>
            <a:off x="3124080" y="6194520"/>
            <a:ext cx="28958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303120" y="679320"/>
          <a:ext cx="8534520" cy="5292720"/>
        </p:xfrm>
        <a:graphic>
          <a:graphicData uri="http://schemas.openxmlformats.org/drawingml/2006/table">
            <a:tbl>
              <a:tblPr/>
              <a:tblGrid>
                <a:gridCol w="854280"/>
                <a:gridCol w="852480"/>
                <a:gridCol w="850680"/>
                <a:gridCol w="852480"/>
                <a:gridCol w="854280"/>
                <a:gridCol w="853920"/>
                <a:gridCol w="854280"/>
                <a:gridCol w="853920"/>
                <a:gridCol w="853920"/>
                <a:gridCol w="854280"/>
              </a:tblGrid>
              <a:tr h="150840">
                <a:tc gridSpan="5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iness Day for VEE, Usage Loading, Integration, Manual Process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-Business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ing Date for Operating Day's RTM Statement &amp; Invoi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URDAY OPERATING 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is outside of timeli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Process days for EPS 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Process days for EPS Data - WAR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(or less) Process days for EPS Data - CRITIC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SIBLE/PROBABLE WORK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9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Day WEEKEND IMPACT FOR AN 'OD + 5' TIMELINE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onal Activity Schedule Relative to a Timeline 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 Processing EPS Meter Data on OD+5 d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2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S Meter Data Colle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&amp; Settle - LOAD EPS 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) Validate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) Post Stmt &amp; In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4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EDU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 OF NOTICE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UR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Collection, VEE Meter Data (3 process days)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Ho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E Meter Data (2 process day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Ho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E Meter Data (1 process day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Hour (Data needed for Data Agg Proces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Runs (REQUIRES EPS Meter Data in Lodesta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S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oices Posted to 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 GUIDELINES for NOTIC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White a 12-Hour notice is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2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Green, Yellow or Red, a 6-Hour notice is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79080" y="169560"/>
            <a:ext cx="84582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-Day Weekend – Sunday Operating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ooter Placeholder 2"/>
          <p:cNvSpPr/>
          <p:nvPr/>
        </p:nvSpPr>
        <p:spPr>
          <a:xfrm>
            <a:off x="3124080" y="6194520"/>
            <a:ext cx="28958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268200" y="733320"/>
          <a:ext cx="8569440" cy="5257800"/>
        </p:xfrm>
        <a:graphic>
          <a:graphicData uri="http://schemas.openxmlformats.org/drawingml/2006/table">
            <a:tbl>
              <a:tblPr/>
              <a:tblGrid>
                <a:gridCol w="857160"/>
                <a:gridCol w="855720"/>
                <a:gridCol w="855720"/>
                <a:gridCol w="854280"/>
                <a:gridCol w="858600"/>
                <a:gridCol w="857520"/>
                <a:gridCol w="857160"/>
                <a:gridCol w="857160"/>
                <a:gridCol w="858960"/>
                <a:gridCol w="857160"/>
              </a:tblGrid>
              <a:tr h="150840">
                <a:tc gridSpan="5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iness Day for VEE, Usage Loading, Integration, Manual Process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-Business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ing Date for Operating Day's RTM Statement &amp; Invoi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DAY OPERATING 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is outside of timeli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Process days for EPS 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Process days for EPS Data - WAR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(or less) Process days for EPS Data - CRITIC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SIBLE/PROBABLE WORK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9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Day WEEKEND IMPACT FOR AN 'OD + 5' TIMELINE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onal Activity Schedule Relative to a Timeline 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 Processing EPS Meter Data on OD+5 d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2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S Meter Data Colle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&amp; Settle - LOAD EPS 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) Validate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) Post Stmt &amp; In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5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EDU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 OF NOTICE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Collection, VEE Meter Data (4 process days)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Ho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E Meter Data (3 process day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Ho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E Meter Data (2 process day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Ho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S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E Meter Data (1 process day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Hour (Data needed for Data Agg Proces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S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Runs (REQUIRES EPS Meter Data in Lodesta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oices Posted to 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 GUIDELINES for NOTIC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White a 12-Hour notice is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Green, Yellow or Red, a 6-Hour notice is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79080" y="169560"/>
            <a:ext cx="84582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-Day Weekend – 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ooter Placeholder 2"/>
          <p:cNvSpPr/>
          <p:nvPr/>
        </p:nvSpPr>
        <p:spPr>
          <a:xfrm>
            <a:off x="3124080" y="6194520"/>
            <a:ext cx="28958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307800" y="679320"/>
          <a:ext cx="8529840" cy="5330880"/>
        </p:xfrm>
        <a:graphic>
          <a:graphicData uri="http://schemas.openxmlformats.org/drawingml/2006/table">
            <a:tbl>
              <a:tblPr/>
              <a:tblGrid>
                <a:gridCol w="816120"/>
                <a:gridCol w="593640"/>
                <a:gridCol w="594000"/>
                <a:gridCol w="593640"/>
                <a:gridCol w="592200"/>
                <a:gridCol w="593640"/>
                <a:gridCol w="593640"/>
                <a:gridCol w="593640"/>
                <a:gridCol w="592200"/>
                <a:gridCol w="593640"/>
                <a:gridCol w="594000"/>
                <a:gridCol w="593640"/>
                <a:gridCol w="592200"/>
                <a:gridCol w="593640"/>
              </a:tblGrid>
              <a:tr h="141480">
                <a:tc gridSpan="8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5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4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iness Day for VEE, Usage Loading, Integration, Manual Process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5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-Business 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5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ing Date for Operating Day's RTM Statement &amp; Invoic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5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is outside of timelin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5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Process days for EPS Dat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5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Process days for EPS Data - WARNING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4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(or less) Process days for EPS Data - CRITIC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030a0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SIBLE/PROBABLE WORK 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2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1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Day WEEKEND IMPACT FOR AN 'OD + 5' TIMELINE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onal Activity Schedule Relative to a Timeline 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 posting RTM Settlement on OD+5 days (or next Business Day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S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S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-S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-S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-S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S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-S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-S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-S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-S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-S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-S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-S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S Meter Data Collection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&amp; Settle - LOAD EPS DATA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) Validate</a:t>
                      </a:r>
                      <a:br>
                        <a:rPr sz="500"/>
                      </a:b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) Post Stmt &amp; In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</a:tr>
              <a:tr h="331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S Meter Data Collection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AD EPS DATA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&amp; Settle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) Validate</a:t>
                      </a:r>
                      <a:br>
                        <a:rPr sz="500"/>
                      </a:b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) Post Stmt &amp; In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</a:tr>
              <a:tr h="330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S Meter Data Collection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AD EPS DATA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&amp; Settle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) Validate</a:t>
                      </a:r>
                      <a:br>
                        <a:rPr sz="500"/>
                      </a:b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) Post Stmt &amp; In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cdd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</a:tr>
              <a:tr h="43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S Meter Data Collection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&amp; Settle - LOAD EPS DATA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) Validate</a:t>
                      </a:r>
                      <a:br>
                        <a:rPr sz="500"/>
                      </a:b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) Post Stmt &amp; In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cdd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</a:tr>
              <a:tr h="446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S Meter Data Collection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&amp; Settle - LOAD EPS DATA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) Validate</a:t>
                      </a:r>
                      <a:br>
                        <a:rPr sz="500"/>
                      </a:b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) Post Stmt &amp; In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</a:tr>
              <a:tr h="444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S Meter Data Collection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&amp; Settle - LOAD EPS DATA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) Validate</a:t>
                      </a:r>
                      <a:br>
                        <a:rPr sz="500"/>
                      </a:b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) Post Stmt &amp; In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</a:tr>
              <a:tr h="51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S Meter Data Collection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&amp; Settle - LOAD EPS DATA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) Validate</a:t>
                      </a:r>
                      <a:br>
                        <a:rPr sz="500"/>
                      </a:b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) Post Stmt &amp; Inv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Vinton, Patrick</cp:lastModifiedBy>
  <cp:lastPrinted>2013-01-30T23:16:36Z</cp:lastPrinted>
  <dcterms:modified xsi:type="dcterms:W3CDTF">2013-12-04T18:09:46Z</dcterms:modified>
  <cp:revision>242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EB6C32BA7893B4D8D08DA703C6B8599</vt:lpwstr>
  </property>
  <property fmtid="{D5CDD505-2E9C-101B-9397-08002B2CF9AE}" pid="3" name="Information Classification">
    <vt:lpwstr>ERCOT Limited</vt:lpwstr>
  </property>
</Properties>
</file>