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1EC99-80A1-4CBB-B7EC-F53408DA9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E919C-DA59-4275-817F-A56711D2D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4E3-C253-484E-88AB-A7CF1C5E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D7A-ED8E-41E0-B656-29C734FA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DD5-0953-4658-BE1F-FB21785A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522-8D84-4007-9C87-8E7AE0B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445-A419-4C11-860E-3EA4C10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6D1-1E3F-4261-A3C6-AE97A7CF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25A-78C2-49D1-81F9-C5F620F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981-6393-445F-A0EF-8E8FEFBD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EC2-F937-4194-AA13-AFF85748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F46-F16F-48BB-AA0D-2CEAE169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C81-1EBC-491F-AC04-ABFDD03D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0AA-958B-44A0-8E64-5FBF771E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32B2C-4F0D-4904-BC6F-CDF3952F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D4793-3C7F-4CDF-AE4D-604029DA9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63790-8928-434E-8427-BF284F7A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3238F-4BE7-44BB-B0AE-9025BBB7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8F59F-08FA-423C-A074-13E7AA2B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77E70-C59D-4DA9-87B0-95AFFB05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00EE4-B975-4B64-9175-752FB844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124E6-98AB-4DC0-9D0D-A39DBBA4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3D3F6-AC58-471E-985C-35FC8AEB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080" y="151920"/>
            <a:ext cx="84582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Mo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3120" y="743040"/>
          <a:ext cx="8534520" cy="5209920"/>
        </p:xfrm>
        <a:graphic>
          <a:graphicData uri="http://schemas.openxmlformats.org/drawingml/2006/table">
            <a:tbl>
              <a:tblPr/>
              <a:tblGrid>
                <a:gridCol w="947880"/>
                <a:gridCol w="944640"/>
                <a:gridCol w="949320"/>
                <a:gridCol w="947520"/>
                <a:gridCol w="949320"/>
                <a:gridCol w="949320"/>
                <a:gridCol w="949320"/>
                <a:gridCol w="947880"/>
                <a:gridCol w="949320"/>
              </a:tblGrid>
              <a:tr h="1490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Tu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71440" y="733320"/>
          <a:ext cx="8566200" cy="5181840"/>
        </p:xfrm>
        <a:graphic>
          <a:graphicData uri="http://schemas.openxmlformats.org/drawingml/2006/table">
            <a:tbl>
              <a:tblPr/>
              <a:tblGrid>
                <a:gridCol w="911160"/>
                <a:gridCol w="905040"/>
                <a:gridCol w="911160"/>
                <a:gridCol w="1098360"/>
                <a:gridCol w="1098720"/>
                <a:gridCol w="909720"/>
                <a:gridCol w="911160"/>
                <a:gridCol w="909720"/>
                <a:gridCol w="911160"/>
              </a:tblGrid>
              <a:tr h="14472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aturday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Wedn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71440" y="660240"/>
          <a:ext cx="8566200" cy="531180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09720"/>
                <a:gridCol w="1098360"/>
                <a:gridCol w="1096920"/>
                <a:gridCol w="909720"/>
                <a:gridCol w="911160"/>
                <a:gridCol w="909720"/>
                <a:gridCol w="909720"/>
              </a:tblGrid>
              <a:tr h="1494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unday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Thur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0520" y="660240"/>
          <a:ext cx="8547120" cy="5311800"/>
        </p:xfrm>
        <a:graphic>
          <a:graphicData uri="http://schemas.openxmlformats.org/drawingml/2006/table">
            <a:tbl>
              <a:tblPr/>
              <a:tblGrid>
                <a:gridCol w="907920"/>
                <a:gridCol w="908280"/>
                <a:gridCol w="907920"/>
                <a:gridCol w="1095480"/>
                <a:gridCol w="1095120"/>
                <a:gridCol w="908280"/>
                <a:gridCol w="907920"/>
                <a:gridCol w="908280"/>
                <a:gridCol w="907920"/>
              </a:tblGrid>
              <a:tr h="1494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Fri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81160" y="669960"/>
          <a:ext cx="8556480" cy="5302080"/>
        </p:xfrm>
        <a:graphic>
          <a:graphicData uri="http://schemas.openxmlformats.org/drawingml/2006/table">
            <a:tbl>
              <a:tblPr/>
              <a:tblGrid>
                <a:gridCol w="930240"/>
                <a:gridCol w="930240"/>
                <a:gridCol w="930240"/>
                <a:gridCol w="923760"/>
                <a:gridCol w="1122480"/>
                <a:gridCol w="930240"/>
                <a:gridCol w="928800"/>
                <a:gridCol w="930240"/>
                <a:gridCol w="930240"/>
              </a:tblGrid>
              <a:tr h="1522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Satur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62080" y="660240"/>
          <a:ext cx="8575560" cy="5311800"/>
        </p:xfrm>
        <a:graphic>
          <a:graphicData uri="http://schemas.openxmlformats.org/drawingml/2006/table">
            <a:tbl>
              <a:tblPr/>
              <a:tblGrid>
                <a:gridCol w="912600"/>
                <a:gridCol w="911160"/>
                <a:gridCol w="906480"/>
                <a:gridCol w="1100160"/>
                <a:gridCol w="1098720"/>
                <a:gridCol w="911160"/>
                <a:gridCol w="912960"/>
                <a:gridCol w="911160"/>
                <a:gridCol w="911160"/>
              </a:tblGrid>
              <a:tr h="1494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(Jan 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ristmas 2014 – Su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71440" y="660240"/>
          <a:ext cx="8566200" cy="530244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09720"/>
                <a:gridCol w="1098360"/>
                <a:gridCol w="1096920"/>
                <a:gridCol w="909720"/>
                <a:gridCol w="911160"/>
                <a:gridCol w="909720"/>
                <a:gridCol w="909720"/>
              </a:tblGrid>
              <a:tr h="1494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 - 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J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Thursday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Vinton, Patrick</cp:lastModifiedBy>
  <cp:lastPrinted>2013-01-30T23:16:36Z</cp:lastPrinted>
  <dcterms:modified xsi:type="dcterms:W3CDTF">2013-12-03T20:02:55Z</dcterms:modified>
  <cp:revision>25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