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BEDF9-927B-4DA4-9052-9E87C9D04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24AA0-7685-42A3-B713-176F1FCD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71960-5337-4FDD-8688-234032427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8183E-7E06-4C57-A498-DCB69463F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0E99E-180F-441A-83EE-4FAD722C6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6202A-CDA8-4489-BB8B-158B1815D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73DE9-E1F6-40AC-BB20-6ECBCB9A4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7CDEC-9A1A-4150-88D4-482ED7F03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3DB60-CB74-4E0D-8ABD-5A58B2E69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1D50E-3ABA-4937-B451-FBA70FBC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7E55C-DF47-4BF7-B43C-4043C61E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D57AD-BA28-4C19-8878-E5219979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36604-AD18-4001-855C-162FC83443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329B-E821-48B9-9162-0FB386BB0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18960"/>
            <a:ext cx="8124840" cy="19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PS DECEMBER 2013 UPDATE TO TA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12/03/20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Harika Basaran, Chai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Jim Lee, Vice Chai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ISUG UPDAT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28600" y="7621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S did not meet in Novemb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 we scheduled MISUG Meeting on 11/12/1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materials are posted on the ERCOT websi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4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Arial"/>
              </a:rPr>
              <a:t>http://www.ercot.com/calendar/2013/11/20131112-MISU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pics covered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5760" indent="-19692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5760" indent="-19692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GR0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5760" indent="-19692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C Reporting on ERCOT Manual Eff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5760" indent="-19692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3 Download Statistic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5760" indent="-19692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coming Project Eff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5760" indent="-19692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5760" indent="-19692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ew Busin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5760" indent="-19692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dit of all reports posted on M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5760" indent="-19692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rt on De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5760" indent="-196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5760" indent="-196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75760" indent="-196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12640" indent="-236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12640" indent="-236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75760" indent="-196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12640" indent="-236520"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75760" indent="-196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75760" indent="-196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ISUG UPDATE cont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28600" y="7621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GR08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ily Grid Operations Summary Repor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67840" indent="-19116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ckgroun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67840" indent="-19116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NOGRR creates a report that will provide summary level data of the daily operations information which is currently provided hourly or more frequently for which the downloading of this data is extremely cumbersome; and restores visibility of operational data which was provided in the zonal mark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7840" indent="-19116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ard approved on May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7840" indent="-19116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ring PRS February 2013 meeting review of pending project priorities, MPs decided to delay the implementation of this NOGR due to high cost estimate and assigned COPS/MISUG to follow up if it is still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7840" indent="-19116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cost estimate was $300K- $500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7840" indent="-19116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cost estimate by ERCOT staff is that it will be on the lower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7840" indent="-19116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November 12, 2013 MISUG meeting participants expressed strong support in developing this report and that it will provide valuable information daily to operations 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7840" indent="-19116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is asked to come back in January 2014 with more detailed information on which specific items in the report contribute most to the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7840" indent="-19116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al is to make a final recommendation to COPS/PRS in early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7840" indent="-19116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67840" indent="-19116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67840" indent="-19116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67840" indent="-191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67840" indent="-191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67840" indent="-191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97520" indent="-229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97520" indent="-229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67840" indent="-1911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97520" indent="-229680"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67840" indent="-191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67840" indent="-191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ISUG UPDATE cont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28600" y="7621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orts Developed manually by ERCO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mary of information gathered by ERCO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4 Reports manually produced by ERCOT staf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5 Required by Sub Rules, Protocols or OB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 Requested or self promp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5 Recommended to discontinue - eliminates ~500 hrs of manual work-SEE NEXT SLIDE FOR THE COMPLETE LI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9 Recommended to continue - ~25,000 hrs of manual wo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Recommended to be automated - ~4000 hrs of manual work to be automa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3680" indent="-2026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3680" indent="-2026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3680" indent="-2026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3680" indent="-2026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3680" indent="-20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3680" indent="-20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3680" indent="-20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27400" indent="-243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27400" indent="-243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3680" indent="-202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27400" indent="-243360"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3680" indent="-20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3680" indent="-20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LIST OF THE MANUAL REPORTS TO BE DISCONTINUED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28600" y="7621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cillary Service Requirement Methodology Assessment (NP3-783-M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dium Term PASA - Load Forecast (NP3-760-M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file Data Evaluation Report (ZP18-432-M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ingency List Changes Due to Weather (ZP4-724-M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atch Instructions Compliance Metrics (NP8-510-M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ve-In Status Trend Da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 Retail Transactions Summary Da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witch Status Trend Da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witcher Repor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dium Term PASA - Projected Transmission Constraints (NP3-776-M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up Control Plan Test Dates and Results Summary (NP8-908-M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up Control Plan Submittal Results (NP8-922-M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iability Must Run Cost Data Deviation Requests/Responses (NP3-558-M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dium Term PASA - Resource Forecast (NP3-775-M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C Payments Made to Resources with Power Purchase Agreements (PPA) Annual Report (NP5-661-M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51640" indent="-179640"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lease review this list at your shops and let ERCOT know if you disagree. The feedback from the MPs will be discussed at January MISUG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51640" indent="-1796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51640" indent="-1796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51640" indent="-1796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51640" indent="-179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51640" indent="-179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51640" indent="-179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68000" indent="-2160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68000" indent="-2160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51640" indent="-179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68000" indent="-216000"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51640" indent="-179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51640" indent="-179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ISUG UPDATE cont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28600" y="7621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Business for 2014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9800" indent="-2710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9800" indent="-2710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ailed audit of all the reports currently posted on M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9800" indent="-2710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9800" indent="-2710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rt on Demand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ew paradigm of reporting where ERCOT does not develop reports for the market but keeps the database accessible and MPs access the common database and create their own reports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9800" indent="-2710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9800" indent="-271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9800" indent="-271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79800" indent="-271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05600" indent="-325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05600" indent="-325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79800" indent="-271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05600" indent="-325800"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79800" indent="-271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79800" indent="-271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OTHER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0492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COPS MEETING IS ON DECEMBER 16, MONDAY, 201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Questions?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Picture 6" descr="C:\Documents and Settings\basaranh\Local Settings\Temporary Internet Files\Content.IE5\JIWL6VC7\MC900156053[1].wmf"/>
          <p:cNvPicPr/>
          <p:nvPr/>
        </p:nvPicPr>
        <p:blipFill>
          <a:blip r:embed="rId1"/>
          <a:stretch/>
        </p:blipFill>
        <p:spPr>
          <a:xfrm>
            <a:off x="2133720" y="1884240"/>
            <a:ext cx="434340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basaranh</cp:lastModifiedBy>
  <dcterms:modified xsi:type="dcterms:W3CDTF">2013-11-25T18:53:14Z</dcterms:modified>
  <cp:revision>838</cp:revision>
  <dc:subject/>
  <dc:title>Instructions</dc:title>
</cp:coreProperties>
</file>