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1F16-161F-4E47-8B45-1A600765B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4939-5A75-46AC-9F41-08814E25D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772040" y="651492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7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6692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pd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568 /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l-Time Reserve Price Adder Based on Operating Reserve Demand Curve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37160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Robinson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ember  5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568 Projec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762120"/>
            <a:ext cx="8658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NP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Design &amp; Test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0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comm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ember 3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23840" y="762120"/>
            <a:ext cx="8839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bee, Nathan</dc:creator>
  <dc:description/>
  <dc:language>en-US</dc:language>
  <cp:lastModifiedBy>Robinson, Jeff</cp:lastModifiedBy>
  <dcterms:modified xsi:type="dcterms:W3CDTF">2013-11-26T19:56:27Z</dcterms:modified>
  <cp:revision>473</cp:revision>
  <dc:subject/>
  <dc:title>Instructions</dc:title>
</cp:coreProperties>
</file>