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6641-61D7-4FC9-8337-FF6678A7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0DB2-CF38-43E8-8B27-D12CB35B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86A3-85F3-48BD-849F-EAC6B915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164B-AD87-4400-BD81-A2B6EE5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D6D9-8D4A-48C1-BBC9-BA24DD38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A005-865C-4ABA-ABBB-3A41674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CF6F-DBB4-4F4D-93F0-E896FA2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760A-048A-4780-94F8-319C916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C395-D103-4837-AB64-9B817CA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6F47-2742-4469-9B75-73473D3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3D18-4859-461A-8793-C0F4F496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3432-0A82-42DF-9D6C-5B99564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77DB-26AD-4674-A5F0-0E381A8AC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510-96F8-4728-B00D-43BE226E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NOVEMBER 2013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1/07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MGRR034, Updates to the Market Notice Communication Proce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Vot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questing TAC approval, would be effective 12/1/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GRR050, Changes the Review of Additional Validations from a Quarterly Review to an Annual Review – Urg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Vote) -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questing TAC approval, would be effective 12/1/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MGRR036, Alignment with NPRR570, Reduce RTM Settlement Timeline to Operating Day Plus Five – URGENT (Vote) –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quest TAC to table COPMGRR036 for one month to allow for Board approval of NPRR570 (at the Board on 11/19/13).  With TAC approval in December, COPMGRR036 would be effective 1/1/14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 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728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728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7280" indent="-2570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MEETING/WORKSHOP SCHEDULED FOR NOVEMBER 12, TUESDAY IN LIEU OF THE REGULAR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DECEMBER 3, TUESDAY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11-05T18:31:37Z</dcterms:modified>
  <cp:revision>809</cp:revision>
  <dc:subject/>
  <dc:title>Instructions</dc:title>
</cp:coreProperties>
</file>