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E5CC-4DD4-4DF8-A682-6FAAC0AEB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5D6F-78F7-48B5-8094-0FCA91F93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1B80-F4FF-4F2C-9B97-D3A2E95A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772040" y="6514920"/>
            <a:ext cx="121932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7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266920"/>
            <a:ext cx="73627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inal Repo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eather Sensitive Emergency Response Service (WS ERS) Pilot Proje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371600" y="4140360"/>
            <a:ext cx="640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l Raish,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mber 7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Board approved WS ERS Pilot Project in March 2013 to test an ERS product with demand reduction capability that varies based on weat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S ERS Pilot Feature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atched as early as EEA Leve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et-wide testing of Pilot Resources – 8 tests (2 per 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of 8 actual EEA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3-hour duration for a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based on actual performance with accelerated reductions to discourage over-o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E allowed to increase or decrease number of sites each month within specified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ured  for June 2013 through September 2013 Contract Peri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lot cost – approximately $111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1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ilot Purpos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066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the ability of weather-sensitive Loads to provide dispatchable demand response during summer system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the accuracy of Qualified Scheduling Entity (QSE) projections of demand response capabilities and Load grow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deployment impacts on end-use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any unforeseen challenges in procuring, deploying and evaluating the performance of weather-sensitive Lo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Evaluate Demand Response Cap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S ERS MW offers based on normalized peak cond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Loads procu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idential Load – 2.5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Non-Residential Load – 0.1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et MW Red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ver 8 tests – 1.78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1.39 – 2.35 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E deployment issues affected test results on all but last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deployment issues had been avoided, the fleet likely would have met o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ment reductions would be impo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performance alone QSE would have received 68.4% of full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low performance, an accelerated reduction would be imposed and QSE would receive 48.5% of full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1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QSE Projection of Growth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Loads submitted through Resource ID Phase of Proc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 rejected by ERCOT for failing WS qualif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Loads offered by 2 Q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Residential and 1 Non-Resid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Residential offer rejected on reasonableness of bid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growth during Contract Peri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tial Load increased from 1,238 to 2,355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sites 1,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Residential Load increased from 29 to 64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sites 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1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. Impacts on End-use Customer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y questionnaire has been designed and is being administered by the Q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y results not available at this time … results will be reported to Demand Side Working Group when compl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4. Unforeseen Challenges – Lessons Learn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ting DR Provider discovered and corrected flaws in their deployment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-party access to advanced meter interval data is important to effectively manage these types of demand response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 reduction provisions are effective in creating an incentive for DR Providers to submit achievable offers and to address identified performance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test procedures ref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calculations revised to address identified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bee, Nathan</dc:creator>
  <dc:description/>
  <dc:language>en-US</dc:language>
  <cp:lastModifiedBy>craish</cp:lastModifiedBy>
  <dcterms:modified xsi:type="dcterms:W3CDTF">2013-11-06T23:35:14Z</dcterms:modified>
  <cp:revision>499</cp:revision>
  <dc:subject/>
  <dc:title>Instructions</dc:title>
</cp:coreProperties>
</file>