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4C7C-472D-4127-80B3-D293C9D7B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E5D1-02ED-4920-B1B0-5A69D43B3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772040" y="6514920"/>
            <a:ext cx="121932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7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266920"/>
            <a:ext cx="73627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inal Repo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0-Minute Emergency Response Service (ERS) Pilot Proje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371600" y="4140360"/>
            <a:ext cx="6400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 Patterson,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ember 7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Board approved 30-Minute ERS Pilot Project in June 2012 to test an ERS product with a 30-minute ramp capabi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-Minute ERS Pilot Feature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atched as early as EEA Leve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d via market clearing price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et-wide testing of Pilot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of 8 hours of obligatio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financial consequences for non-compliance; no suspension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in NPRR5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ured  through 5 Contract Peri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15, 2012 through September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2012 through January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013 through May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013 through September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2013 through January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1"/>
          <p:cNvSpPr/>
          <p:nvPr/>
        </p:nvSpPr>
        <p:spPr>
          <a:xfrm>
            <a:off x="7772400" y="651528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rowth in Particip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97 unique sites offered in to 30-Minute 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63 sites with no previous ERS-10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8 sites with more than12 months since last ERS-10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ites that were unable to comply with ramp requirement of standard 10-Minute ERS product have migrated to 30-Minute ERS Pilo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ever ERS Residential Aggreg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SEs have indicated that more sites would be willing to participate if 30-minute product was made permanen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7772400" y="651528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st Comparison to NSRS &amp; TDSP SO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s to other servic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 Load Managemen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8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79.36/MW/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8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s to BH2 and BH3 during Jun-Sep Contract Perio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8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85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600200"/>
          <a:ext cx="7010280" cy="1200240"/>
        </p:xfrm>
        <a:graphic>
          <a:graphicData uri="http://schemas.openxmlformats.org/drawingml/2006/table">
            <a:tbl>
              <a:tblPr/>
              <a:tblGrid>
                <a:gridCol w="806400"/>
                <a:gridCol w="878040"/>
                <a:gridCol w="879480"/>
                <a:gridCol w="745920"/>
                <a:gridCol w="749520"/>
                <a:gridCol w="733320"/>
                <a:gridCol w="722160"/>
                <a:gridCol w="746280"/>
                <a:gridCol w="749160"/>
              </a:tblGrid>
              <a:tr h="2001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Sep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87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12Jan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7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87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May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7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87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Sep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7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-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Sp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-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Sp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-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Sp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-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Sp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</a:tr>
              <a:tr h="20016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704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704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0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0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704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6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704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.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.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.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.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.0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</a:tr>
              <a:tr h="19980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704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6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704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.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.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.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.8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704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704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.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</a:tr>
            </a:tbl>
          </a:graphicData>
        </a:graphic>
      </p:graphicFrame>
      <p:sp>
        <p:nvSpPr>
          <p:cNvPr id="107" name="Footer Placeholder 2"/>
          <p:cNvSpPr/>
          <p:nvPr/>
        </p:nvSpPr>
        <p:spPr>
          <a:xfrm>
            <a:off x="7772400" y="651528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 to 137.9 MWs of new dispatchable capacity available to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test deployments conducted to-dat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of 8 test deployments were successful with overall response exceeding 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deployment failed due to confusion concerning obligations while ramp period crossing time periods; resolved with training session at DS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st deployment failed primarily due to a single large site failing to depl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imated pilot cost (though current SCT) - $9,158,511.9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7772400" y="651528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4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bee, Nathan</dc:creator>
  <dc:description/>
  <dc:language>en-US</dc:language>
  <cp:lastModifiedBy>Patterson, Mark</cp:lastModifiedBy>
  <dcterms:modified xsi:type="dcterms:W3CDTF">2013-11-05T21:09:29Z</dcterms:modified>
  <cp:revision>469</cp:revision>
  <dc:subject/>
  <dc:title>Instructions</dc:title>
</cp:coreProperties>
</file>