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D30-CE96-4A91-81FB-2E9461ED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EFA0-3C14-48C3-B7B1-0E4ECAEF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61E-5875-48B8-85AA-FBE410FA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15E5-4664-4AE3-B17B-BDE8B620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7243-67BC-4D7A-BA0F-97E24046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0DD2-4400-4461-8084-8A6E3A21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C57A-CE0B-46D8-B948-73D9D1D3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D4F-E3B3-4C31-A0E1-70CBE494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033A-876F-4DB6-93F0-812FC8BF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8B60-B142-463F-9787-20514FBB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E7A-7922-4A8F-885C-600A4186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CBAC-5C3B-4A9B-B200-7E5A1798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B529-4531-4346-9970-04D3E3D01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904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eneration Adequacy Task Force Update to W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762120" y="3657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 9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TF Meeting held on Monday, October 7, 2013.  Items discussed we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GATF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 report on the update of the 2012 LOLE study based on revised loa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on ELCC of 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Dive review of ERCOT load forecasting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on the GATF agenda that was not discussed: Economically optimal reserve marg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ctober 7</a:t>
            </a:r>
            <a:r>
              <a:rPr b="1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GA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GATF Chair – if confirmed by WMS, Brandon Whittle, Stratus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 report on the 2012 LOLE stu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Staff working with 2012 LOLE Study vendor, ECCO International Inc.,  to reevaluate the study with updated load infor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stated they will present the revised results once they have been thoroughly vetted internal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 is to have the study results presented to at least one group, probably TAC, prior to presenting them to the Board at the November meet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on ELCC of 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 effective capacity analysis is not consistent with peak hour availability of thermal resou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 ELCC results based on modeled wind output using 15 years of weather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F has recommended a different method for calculating capacity in CDR for solar, hydro, and DC tie – 20 peak hours for the past 3 yea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all intermittent renewables be handled the sa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decisions made at GATF. Topic to be continued and any new methodology will be incorporated later, not in December 2013 CD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ATF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Dive review of ERCOT load forecasting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vin Opheim reviewed the methodology changes being implemented by ERCOT to the long term load forecast. Presentation posted at the October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ATF meeting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takeaw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reviewing a move away from using some of the economic data (Moody’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storical values of economic data are subject to significant revision for two years.  While values may seem small, relative impacts are significant.  This compromises the accuracy of ERCOT’s mod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instead will be moving to neural networks. ERCOT can determine/account for variable interactions more robustly, compared to linear regression mode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storical energy relationships will now be based on premise counts by customer class (residential, commercial and industrial), not on non-farm employment valu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benefit: Historical premise accounts will be very stable and will not be subject to the significant changes exhibited by non-farm employment revi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ally optimal reserve mar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d not discuss.  Could be a topic at future meet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ATF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Questions/Comments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6:03:50Z</dcterms:created>
  <dc:creator>apieniazek</dc:creator>
  <dc:description/>
  <dc:language>en-US</dc:language>
  <cp:lastModifiedBy>apieniazek</cp:lastModifiedBy>
  <dcterms:modified xsi:type="dcterms:W3CDTF">2013-10-07T22:30:09Z</dcterms:modified>
  <cp:revision>99</cp:revision>
  <dc:subject/>
  <dc:title>Generation Adequacy Task Force Update to WMS</dc:title>
</cp:coreProperties>
</file>