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4521E-BB65-4E5D-BA54-38FFF3D38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F217-F318-4E37-B908-D813ADD4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2D98A-9C0F-4059-B788-FFE96E56F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BD5A0-5C1F-42D4-AA82-5FBA00A0E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E976B-2F80-42F9-969B-80B633F05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7BC6A-A249-4568-84DB-308E85EA8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ACC48-FB07-4628-BC75-F80C9E93E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3C40B-8E0A-4E87-8654-A7EDAA806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227B7-5716-4F32-A3AD-73EE3B719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F514E-8E50-4034-A41A-2576FAC0F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D18F-1CA7-43CB-AE06-F9B0FE58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7FCE-BD25-4096-9031-D8E6B45C0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16B34-357D-4794-9A57-9511C5A8D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7E6BE-D759-4937-9DDB-78308E73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A9F97-12E5-4749-AF71-A7764DDA4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72B1D-7C74-4F9A-9F66-B8B38E5B8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F982F-4F54-4CEB-B4BD-5A18CBFDC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12E2-A67B-4E9A-BDBE-39F2766B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5F94-82B9-454A-9B42-095A67E5B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C948E-3264-4276-BA61-FA589541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6FF8-F757-409F-AD69-60F8D7001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F85B-EF0A-4B01-B462-E4C07B23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3B3A-541D-4A68-9957-57F7E6DC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41F6-81FB-4715-8838-2F5AD43BF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53EE-2D89-4C5C-BD24-78429431B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C12D-22BB-42DC-AFA5-39744D5972D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CWG Update to WMS</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ctober 9, 2013</a:t>
            </a:r>
            <a:endParaRPr b="0" lang="en-US" sz="3000" spc="-1" strike="noStrike">
              <a:solidFill>
                <a:srgbClr val="000000"/>
              </a:solidFill>
              <a:latin typeface="Arial"/>
            </a:endParaRPr>
          </a:p>
        </p:txBody>
      </p:sp>
      <p:sp>
        <p:nvSpPr>
          <p:cNvPr id="92" name="Slide Number Placeholder 1"/>
          <p:cNvSpPr/>
          <p:nvPr/>
        </p:nvSpPr>
        <p:spPr>
          <a:xfrm>
            <a:off x="2209680" y="6248520"/>
            <a:ext cx="1219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B219-3B9A-465E-90E5-21C59906310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eneral Update</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94" name="PlaceHolder 2"/>
          <p:cNvSpPr>
            <a:spLocks noGrp="1"/>
          </p:cNvSpPr>
          <p:nvPr>
            <p:ph/>
          </p:nvPr>
        </p:nvSpPr>
        <p:spPr>
          <a:xfrm>
            <a:off x="1371240" y="2133360"/>
            <a:ext cx="7010280" cy="144756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s for Today:</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der NPRR 485-(vo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A315-4AA8-407B-AAD0-792BBFB8101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97" name="PlaceHolder 2"/>
          <p:cNvSpPr>
            <a:spLocks noGrp="1"/>
          </p:cNvSpPr>
          <p:nvPr>
            <p:ph/>
          </p:nvPr>
        </p:nvSpPr>
        <p:spPr>
          <a:xfrm>
            <a:off x="762120" y="1600200"/>
            <a:ext cx="7619760" cy="41148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ignment was to determine the definition of the word “incremental” in the following sentence:</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C6CD-C3D7-44A7-8AF0-B70D52887E6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99" name="Picture 5" descr=""/>
          <p:cNvPicPr/>
          <p:nvPr/>
        </p:nvPicPr>
        <p:blipFill>
          <a:blip r:embed="rId1"/>
          <a:srcRect l="18750" t="29111" r="17968" b="32075"/>
          <a:stretch/>
        </p:blipFill>
        <p:spPr>
          <a:xfrm>
            <a:off x="1523880" y="3030480"/>
            <a:ext cx="5867640" cy="26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101" name="PlaceHolder 2"/>
          <p:cNvSpPr>
            <a:spLocks noGrp="1"/>
          </p:cNvSpPr>
          <p:nvPr>
            <p:ph/>
          </p:nvPr>
        </p:nvSpPr>
        <p:spPr>
          <a:xfrm>
            <a:off x="762120" y="1371240"/>
            <a:ext cx="7619760" cy="52578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NPRR:</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vide for consistent application of the fuel adder that is meant to compensate Resources for the actual cost of transporting and purchasing fuel on the spot market across Mitigated Offer Caps and Reliability Unit Commitment (RUC) instructions…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us consideration of a fuel adder that compensates for the transportation and purchasing of spot fuel as described in the Verifiable Cost Manual…”</a:t>
            </a: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8EF6-16E3-43AC-A0A1-B5BB5B1D01F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l Adder NPRR 485</a:t>
            </a:r>
            <a:endParaRPr b="0" lang="en-US" sz="4400" spc="-1" strike="noStrike">
              <a:solidFill>
                <a:srgbClr val="000000"/>
              </a:solidFill>
              <a:latin typeface="Arial"/>
            </a:endParaRPr>
          </a:p>
        </p:txBody>
      </p:sp>
      <p:sp>
        <p:nvSpPr>
          <p:cNvPr id="104" name="PlaceHolder 2"/>
          <p:cNvSpPr>
            <a:spLocks noGrp="1"/>
          </p:cNvSpPr>
          <p:nvPr>
            <p:ph/>
          </p:nvPr>
        </p:nvSpPr>
        <p:spPr>
          <a:xfrm>
            <a:off x="762120" y="1981080"/>
            <a:ext cx="7619760" cy="3733920"/>
          </a:xfrm>
          <a:prstGeom prst="rect">
            <a:avLst/>
          </a:prstGeom>
          <a:noFill/>
          <a:ln w="0">
            <a:noFill/>
          </a:ln>
        </p:spPr>
        <p:txBody>
          <a:bodyPr anchor="t">
            <a:normAutofit/>
          </a:bodyPr>
          <a:p>
            <a:pPr lvl="1" marL="743040" indent="-285840">
              <a:lnSpc>
                <a:spcPct val="90000"/>
              </a:lnSpc>
              <a:spcBef>
                <a:spcPts val="451"/>
              </a:spcBef>
              <a:buClr>
                <a:srgbClr val="99ccc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WG could not reach consensus, therefore we request guidance from WMS on the following question:</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ccc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mitigated fuel cost intended to: </a:t>
            </a:r>
            <a:endParaRPr b="0" lang="en-US" sz="1800" spc="-1" strike="noStrike">
              <a:solidFill>
                <a:srgbClr val="000000"/>
              </a:solidFill>
              <a:latin typeface="Arial"/>
            </a:endParaRPr>
          </a:p>
          <a:p>
            <a:pPr lvl="2" marL="1143000" indent="-228600">
              <a:lnSpc>
                <a:spcPct val="90000"/>
              </a:lnSpc>
              <a:spcBef>
                <a:spcPts val="451"/>
              </a:spcBef>
              <a:buClr>
                <a:srgbClr val="cccccc"/>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flect competitive offers by including only the resource’s variable fuel cost; or </a:t>
            </a:r>
            <a:endParaRPr b="0" lang="en-US" sz="1800" spc="-1" strike="noStrike">
              <a:solidFill>
                <a:srgbClr val="000000"/>
              </a:solidFill>
              <a:latin typeface="Arial"/>
            </a:endParaRPr>
          </a:p>
          <a:p>
            <a:pPr lvl="2" marL="1143000" indent="-228600">
              <a:lnSpc>
                <a:spcPct val="90000"/>
              </a:lnSpc>
              <a:spcBef>
                <a:spcPts val="451"/>
              </a:spcBef>
              <a:buClr>
                <a:srgbClr val="cccccc"/>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rotect against market power abuse and allow resources to be compensated for its total fuel cos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ccc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WG will apply the answer to question above to the applicable NPRR 485 fuel cos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90D3-16AB-45C4-922F-0CFCF9DD5AB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WG Schedule</a:t>
            </a:r>
            <a:endParaRPr b="0" lang="en-US" sz="4400" spc="-1" strike="noStrike">
              <a:solidFill>
                <a:srgbClr val="000000"/>
              </a:solidFill>
              <a:latin typeface="Arial"/>
            </a:endParaRPr>
          </a:p>
        </p:txBody>
      </p:sp>
      <p:sp>
        <p:nvSpPr>
          <p:cNvPr id="107" name="PlaceHolder 2"/>
          <p:cNvSpPr>
            <a:spLocks noGrp="1"/>
          </p:cNvSpPr>
          <p:nvPr>
            <p:ph/>
          </p:nvPr>
        </p:nvSpPr>
        <p:spPr>
          <a:xfrm>
            <a:off x="762120" y="2133360"/>
            <a:ext cx="7619760" cy="190476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our original schedu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our schedule for 2014 to be more convenient to increase attendance.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81AF-1B15-4DE4-876D-A69AE5B4DBF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20:14:57Z</dcterms:created>
  <dc:creator>jbevill</dc:creator>
  <dc:description/>
  <dc:language>en-US</dc:language>
  <cp:lastModifiedBy>Bill Hellinghausen</cp:lastModifiedBy>
  <cp:lastPrinted>2013-07-08T13:44:23Z</cp:lastPrinted>
  <dcterms:modified xsi:type="dcterms:W3CDTF">2013-10-04T16:45:05Z</dcterms:modified>
  <cp:revision>138</cp:revision>
  <dc:subject/>
  <dc:title>Slide 1</dc:title>
</cp:coreProperties>
</file>