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ED02087-C632-4189-8A71-F9799E8B38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055E21-13B8-4366-9C74-F72DB23E7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7BFBEEC-53FD-49FA-BAC9-17FC02BC6E2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7B010CA-E2BB-4560-8862-4245CA60BBE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02F9B6C-C93D-4F10-A387-41115A548B3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F1865A-0D7D-402F-B3B1-A5D4F73CD2C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4E4988B-9DFE-4ECD-8B18-DAB2380353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F1D8112-8355-4222-AB34-F377BC995BD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C1EDB5F-8E29-4812-98B9-C9ABDEAA34B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A800AF3-272F-4A51-A055-F611DD8EB90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701A465-78D5-4407-8BE1-48C3BBC740F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6FAC8C4-3D79-4DCE-A42E-C35F10EA34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E4815C4-30C7-4206-979E-927BA4EB53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57E9A-6188-4883-AB5B-9B3D9D6A6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CC3C4-319D-45FB-9BB2-484511B56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76EA6-15BB-434F-994D-7FD3B42C0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A8E06-8989-4CEC-9447-47FE66951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C213F-A7DF-47CF-83FC-3D9382F88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62AD2-D1C3-4057-8CEE-B4FBD6644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2D61B-0227-4421-B73C-747ED9665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595851D-671F-4DF8-A579-33D6A25EF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AF34A-8D6E-4A68-9BE7-BD8957F88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C1C72-5170-4688-9E1D-CAD39EA01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EF23D-7DF3-4458-9D28-D9983A32B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B5EE8-94C7-417D-ADE7-DABB30FD3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EF6A3-9E88-4FDB-AB30-A6BA28769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A8836AC-2BCC-41E6-BE98-6DF586D30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A5F55B-E73C-400A-AE2C-5AA742E066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F23703-2E42-4B50-9AD9-A56937E08F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2D62D7-4C80-4B11-8137-99B37A7AF2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528D317-A704-4FA3-8F5E-773577E5F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C76A737-1BC4-4ADB-9650-60AA36CF90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D950CCF-E5BB-4C2E-BE62-1891419A1D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01A4D7-6824-4E12-AA37-3F1FB26D90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D80052-C6EC-47ED-8581-43E80527F0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EBD997-8373-42E9-8C97-DB50EF52F0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9D0095-3FEF-41D4-A869-96B95C0A31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7D642B-A957-41B0-87C1-73D76C43A4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F1C1E4C-C8A3-4636-B82B-F4D7872832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621695A-3FD7-4CD3-B4EF-1D10E04615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9B3CECC-EFEB-4A1C-A7F8-6D7DB67691C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DBC8939-732C-4427-B76D-2139116B7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2439A8-BFC6-4CE1-8E4A-D3F3C2BD730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70646C-C791-4D12-9E08-F7AB6BF9357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841D563-21B0-40E9-A950-538B9EC4170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73B7C7-9BBC-4EDC-B0FA-D8AF2E8138E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C5E6A9-79DC-4CAD-8E68-13B73E0E5A0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275E73-B533-4074-8B1C-BF14E35B60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33E6D3-077F-4FD4-8705-41B89BF192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E9D7B8-DD3E-4D9D-ACB2-00B26E47480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3BEB07-712A-42D6-87FB-1C59192AE36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4FFE6E0-466D-44D5-ADD1-77B79086A36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0B8A3BC-23AC-469B-A949-660703C26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3C01875-0B70-4E00-91DB-4F36AB5A6B1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FA53F87-5D83-4579-B7F9-B75E21D8771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15B4941-6653-40DE-B911-33D6A5BAF0D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1821A05-6903-48AE-A8E8-AB1278ABA9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9AB699B-EE45-471D-B2FD-8B89320CECF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ACED8F0-EFFE-41D2-A64C-73870C6113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4DD870-EBFE-4A4D-B8F9-41903FC4C4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7FD24E-3E69-455B-93E6-F197E52661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4E4706-5ABE-4428-929B-B5957EC99E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6C7F84D-CEE7-4E9B-9F2B-0835052543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25E7283-CB6C-4A88-9AE9-8C868C2F0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3CFB443-8384-4853-A756-D5A45E45267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8B5539D-D5DA-4087-A623-94A02C89696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204572A-410F-4B9E-8254-F9AD18CC706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4C9A65F-3AF0-4ADD-A363-D29153DCC1E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1B47117-B36C-4310-A905-EE74C7A647B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9062AA8-C4F9-4BED-8E1A-A28C8C3FCA0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DE82A18-F5E3-4CB6-9B5B-00D6832E01F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B2044A-9339-4B46-B696-2C9371CBAAA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A10E274-938C-43F3-AF2D-681517D5FB8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4EA8958-3620-486D-ADD0-2980B1FB1D6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D9A8BE-89F2-4351-A9C7-512EFB5CC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713F5E0-CFBC-4203-90A5-D2C7E807F8B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7821FBA-E1EE-4424-9A5A-3B6C484C74C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471B3DB-04BB-4C2C-9232-83996B32437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6C1C159-D62D-4506-852B-C5693EB1C58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D06B94F-5520-4F69-9242-5A9A26840BB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6372B23-21A5-4F42-B666-A15F8381A7F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17DD9A6-F00A-4971-B8D4-0A89AEB3403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08B75B7-C43C-4D73-A1F2-80B2C384D85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D2FB9CB-AC7C-4A29-8C3B-939F2ACBA50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67DCB68-17BB-41E9-AD17-3A3609533B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2C5DCCC-AF2A-421D-B941-E1281863A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771EA9E-8911-47BE-BCDC-78A2C331096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634C75-956B-4F1F-A9C6-9B7031A6996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E5FAE4-9135-473C-8B00-63AA25F8B2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53488E2-33F0-4337-A097-1ECB4E0DCFE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20A5551-DAA0-4191-9A88-2EDCC0E7BD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D07C460-028F-44E2-B60C-9E59E68F660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2DBBFC7-B9F3-485F-8C57-1308D3D3F25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CFE21FE-6485-4725-A22C-6321B10CE4F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C1A6455-4F6F-4190-85B2-C62E3D13742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5D8848D-EA2E-44B3-86A4-E1CF4F166A74}"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F55A-E8E7-43D8-8F87-F13DFA57C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847C-537B-4421-8CDB-605ED0E04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17C8-97DC-4D67-B06A-1FAF1470DF8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524E-66E6-4734-BC6D-921EA361848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A9D5-3CDB-4DE5-BA71-3D48798C995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D4FC-0980-413C-ADFC-FF8A681C492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9ED1-B0A4-4865-BCBF-553CCDE5E86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CB06-356C-4395-A77A-B5109745864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2A43-09C5-4A12-8D58-6BAE2F447A7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rcot.com/content/meetings/board/keydocs/2013/0917/4.3_Operations_Report.pdf"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2"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13"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3, 2013</a:t>
            </a:r>
            <a:endParaRPr b="0" lang="en-US" sz="1200" spc="-1" strike="noStrike">
              <a:solidFill>
                <a:srgbClr val="000000"/>
              </a:solidFill>
              <a:latin typeface="Arial"/>
            </a:endParaRPr>
          </a:p>
        </p:txBody>
      </p:sp>
      <p:sp>
        <p:nvSpPr>
          <p:cNvPr id="414"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15"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BBC6-AF7E-4369-AC04-71397C17896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Voting Items </a:t>
            </a:r>
            <a:endParaRPr b="0" lang="en-US" sz="4300" spc="-1" strike="noStrike">
              <a:solidFill>
                <a:srgbClr val="572314"/>
              </a:solidFill>
              <a:latin typeface="Gill Sans MT"/>
            </a:endParaRPr>
          </a:p>
        </p:txBody>
      </p:sp>
      <p:sp>
        <p:nvSpPr>
          <p:cNvPr id="417" name=""/>
          <p:cNvSpPr txBox="1"/>
          <p:nvPr/>
        </p:nvSpPr>
        <p:spPr>
          <a:xfrm>
            <a:off x="990720" y="838080"/>
            <a:ext cx="8153280" cy="54864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GRR116</a:t>
            </a:r>
            <a:r>
              <a:rPr b="0" lang="en-US" sz="3200" spc="-1" strike="noStrike">
                <a:solidFill>
                  <a:srgbClr val="000000"/>
                </a:solidFill>
                <a:latin typeface="Gill Sans MT"/>
              </a:rPr>
              <a:t>, Updates to the Process for Acquisition Transfer Events</a:t>
            </a:r>
            <a:r>
              <a:rPr b="0" lang="en-US" sz="3600" spc="-1" strike="noStrike">
                <a:solidFill>
                  <a:srgbClr val="000000"/>
                </a:solidFill>
                <a:latin typeface="Gill Sans MT"/>
              </a:rPr>
              <a:t> </a:t>
            </a:r>
            <a:r>
              <a:rPr b="1" lang="en-US" sz="3200" spc="-1" strike="noStrike">
                <a:solidFill>
                  <a:srgbClr val="000000"/>
                </a:solidFill>
                <a:latin typeface="Gill Sans MT"/>
              </a:rPr>
              <a:t>(Vote)</a:t>
            </a:r>
            <a:endParaRPr b="0" lang="en-US" sz="3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Retail Market Guide Revision Request (RMGRR) updates and clarifies the process for an Acquisition Transfer event.</a:t>
            </a: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RMGRR provides additional detail needed to transfer large numbers of Electric Service Identifiers (ESI IDs) during an Acquisition Transfer event.</a:t>
            </a:r>
            <a:endParaRPr b="0" lang="en-US" sz="28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urrently Tabled at RMS </a:t>
            </a:r>
            <a:r>
              <a:rPr b="0" lang="en-US" sz="2000" spc="-1" strike="noStrike">
                <a:solidFill>
                  <a:srgbClr val="000000"/>
                </a:solidFill>
                <a:latin typeface="Gill Sans MT"/>
              </a:rPr>
              <a:t>to allow TX SET to address Staff’s concern, “what is the alternative if Losing CR doesn’t remove switch hold(s) from all ESI IDs involved in the transition?”</a:t>
            </a:r>
            <a:endParaRPr b="0" lang="en-US" sz="20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3, 2013</a:t>
            </a:r>
            <a:endParaRPr b="0" lang="en-US" sz="1200" spc="-1" strike="noStrike">
              <a:solidFill>
                <a:srgbClr val="000000"/>
              </a:solidFill>
              <a:latin typeface="Arial"/>
            </a:endParaRPr>
          </a:p>
        </p:txBody>
      </p:sp>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10D2-AFCB-4D4C-94EA-BABA66AEFCF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Voting Items </a:t>
            </a:r>
            <a:endParaRPr b="0" lang="en-US" sz="4300" spc="-1" strike="noStrike">
              <a:solidFill>
                <a:srgbClr val="572314"/>
              </a:solidFill>
              <a:latin typeface="Gill Sans MT"/>
            </a:endParaRPr>
          </a:p>
        </p:txBody>
      </p:sp>
      <p:sp>
        <p:nvSpPr>
          <p:cNvPr id="422" name=""/>
          <p:cNvSpPr txBox="1"/>
          <p:nvPr/>
        </p:nvSpPr>
        <p:spPr>
          <a:xfrm>
            <a:off x="1066320" y="762120"/>
            <a:ext cx="807732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GRR117</a:t>
            </a:r>
            <a:r>
              <a:rPr b="0" lang="en-US" sz="3200" spc="-1" strike="noStrike">
                <a:solidFill>
                  <a:srgbClr val="000000"/>
                </a:solidFill>
                <a:latin typeface="Gill Sans MT"/>
              </a:rPr>
              <a:t>, Clarification of Inadvertent Gain Valid Reject Reasons</a:t>
            </a:r>
            <a:r>
              <a:rPr b="0" lang="en-US" sz="3600" spc="-1" strike="noStrike">
                <a:solidFill>
                  <a:srgbClr val="000000"/>
                </a:solidFill>
                <a:latin typeface="Gill Sans MT"/>
              </a:rPr>
              <a:t> </a:t>
            </a:r>
            <a:r>
              <a:rPr b="1" lang="en-US" sz="3200" spc="-1" strike="noStrike">
                <a:solidFill>
                  <a:srgbClr val="000000"/>
                </a:solidFill>
                <a:latin typeface="Gill Sans MT"/>
              </a:rPr>
              <a:t>(Vote)</a:t>
            </a: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Retail Market Guide Revision Request (RMGRR) adds language to the RMG to clarify best business practices when processing inadvertent gain issues in MarkeTrak.</a:t>
            </a:r>
            <a:endParaRPr b="0" lang="en-US" sz="26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vides clarification to the inadvertent gain process for losing and gaining Competitive Retailers (CRs) when evaluating valid reject reasons.</a:t>
            </a:r>
            <a:endParaRPr b="0" lang="en-US" sz="26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9/18/13 Tabled at RMS: </a:t>
            </a:r>
            <a:r>
              <a:rPr b="0" lang="en-US" sz="2000" spc="-1" strike="noStrike">
                <a:solidFill>
                  <a:srgbClr val="000000"/>
                </a:solidFill>
                <a:latin typeface="Gill Sans MT"/>
              </a:rPr>
              <a:t>Taskforce redlines will need clarifications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9/24/13 - MarkeTrak Taskforce Consensus</a:t>
            </a:r>
            <a:r>
              <a:rPr b="0" lang="en-US" sz="2000" spc="-1" strike="noStrike">
                <a:solidFill>
                  <a:srgbClr val="000000"/>
                </a:solidFill>
                <a:latin typeface="Gill Sans MT"/>
              </a:rPr>
              <a:t>:  Withdraw RMGRR117 and create a replacement RMGRR that clarifies both valid and invalid Inadvertent Gain reject reasons.   </a:t>
            </a:r>
            <a:endParaRPr b="0" lang="en-US" sz="2000" spc="-1" strike="noStrike">
              <a:solidFill>
                <a:srgbClr val="000000"/>
              </a:solidFill>
              <a:latin typeface="Gill Sans MT"/>
            </a:endParaRPr>
          </a:p>
          <a:p>
            <a:pPr lvl="4" marL="10141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3, 2013</a:t>
            </a:r>
            <a:endParaRPr b="0" lang="en-US" sz="1200" spc="-1" strike="noStrike">
              <a:solidFill>
                <a:srgbClr val="000000"/>
              </a:solidFill>
              <a:latin typeface="Arial"/>
            </a:endParaRPr>
          </a:p>
        </p:txBody>
      </p:sp>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0B0E-FAF9-42FF-A61F-55C86C43567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Voting Items </a:t>
            </a:r>
            <a:endParaRPr b="0" lang="en-US" sz="4300" spc="-1" strike="noStrike">
              <a:solidFill>
                <a:srgbClr val="572314"/>
              </a:solidFill>
              <a:latin typeface="Gill Sans MT"/>
            </a:endParaRPr>
          </a:p>
        </p:txBody>
      </p:sp>
      <p:sp>
        <p:nvSpPr>
          <p:cNvPr id="427" name=""/>
          <p:cNvSpPr txBox="1"/>
          <p:nvPr/>
        </p:nvSpPr>
        <p:spPr>
          <a:xfrm>
            <a:off x="990720" y="762120"/>
            <a:ext cx="815328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S Unanimously Approved: </a:t>
            </a: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rvice Level Agreement (SLA) Exception for ERCOT’s  Release 5, September 28 – 29, 2013</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014 Market Flight Testing Schedule</a:t>
            </a:r>
            <a:endParaRPr b="0" lang="en-US" sz="2800" spc="-1" strike="noStrike">
              <a:solidFill>
                <a:srgbClr val="000000"/>
              </a:solidFill>
              <a:latin typeface="Gill Sans MT"/>
            </a:endParaRPr>
          </a:p>
          <a:p>
            <a:pPr lvl="4" marL="1206000" indent="-169560">
              <a:spcBef>
                <a:spcPts val="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ange Controls: </a:t>
            </a:r>
            <a:endParaRPr b="0" lang="en-US" sz="28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MWG Change Request 2013-017: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dentifies API changes needed to SMT to support REP of Record’s retrieval of their ESI ID(s) 15-minute historical usage data.    </a:t>
            </a:r>
            <a:endParaRPr b="0" lang="en-US" sz="20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X SET Change Control 2013-801: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n-Standard Metering Monthly Fee (PUC Project 41111)</a:t>
            </a:r>
            <a:endParaRPr b="0" lang="en-US" sz="20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X SET Change Control 2013-802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wer Cost Recovery Factor Reconciliation (PUC Project 41474)</a:t>
            </a:r>
            <a:endParaRPr b="0" lang="en-US" sz="20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2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3, 2013</a:t>
            </a:r>
            <a:endParaRPr b="0" lang="en-US" sz="1200" spc="-1" strike="noStrike">
              <a:solidFill>
                <a:srgbClr val="000000"/>
              </a:solidFill>
              <a:latin typeface="Arial"/>
            </a:endParaRPr>
          </a:p>
        </p:txBody>
      </p:sp>
      <p:sp>
        <p:nvSpPr>
          <p:cNvPr id="42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C3D8-EE33-4BD2-ABC1-3F51A6A056C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31" name="Object 2"/>
          <p:cNvGraphicFramePr/>
          <p:nvPr/>
        </p:nvGraphicFramePr>
        <p:xfrm>
          <a:off x="7010280" y="2209680"/>
          <a:ext cx="914400" cy="714600"/>
        </p:xfrm>
        <a:graphic>
          <a:graphicData uri="http://schemas.openxmlformats.org/presentationml/2006/ole">
            <p:oleObj progId="Word.Document.12" r:id="rId1" spid="">
              <p:embed/>
              <p:pic>
                <p:nvPicPr>
                  <p:cNvPr id="432" name="Object 2" descr=""/>
                  <p:cNvPicPr/>
                  <p:nvPr/>
                </p:nvPicPr>
                <p:blipFill>
                  <a:blip r:embed="rId2"/>
                  <a:stretch/>
                </p:blipFill>
                <p:spPr>
                  <a:xfrm>
                    <a:off x="7010280" y="22096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orking Group &amp; Taskforce Updates</a:t>
            </a:r>
            <a:endParaRPr b="0" lang="en-US" sz="3900" spc="-1" strike="noStrike">
              <a:solidFill>
                <a:srgbClr val="572314"/>
              </a:solidFill>
              <a:latin typeface="Gill Sans MT"/>
            </a:endParaRPr>
          </a:p>
        </p:txBody>
      </p:sp>
      <p:sp>
        <p:nvSpPr>
          <p:cNvPr id="434" name=""/>
          <p:cNvSpPr txBox="1"/>
          <p:nvPr/>
        </p:nvSpPr>
        <p:spPr>
          <a:xfrm>
            <a:off x="990360" y="914040"/>
            <a:ext cx="7848360" cy="53341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dvanced Metering Working Group </a:t>
            </a:r>
            <a:r>
              <a:rPr b="0" lang="en-US" sz="2400" spc="-1" strike="noStrike">
                <a:solidFill>
                  <a:srgbClr val="000000"/>
                </a:solidFill>
                <a:latin typeface="Gill Sans MT"/>
              </a:rPr>
              <a:t>(AMWG):</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RCOT Board Report for September 17, 2013</a:t>
            </a:r>
            <a:endParaRPr b="0" lang="en-US" sz="18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July 2013 </a:t>
            </a:r>
            <a:endParaRPr b="0" lang="en-US" sz="2000" spc="-1" strike="noStrike">
              <a:solidFill>
                <a:srgbClr val="000000"/>
              </a:solidFill>
              <a:latin typeface="Gill Sans MT"/>
            </a:endParaRPr>
          </a:p>
          <a:p>
            <a:pPr lvl="4" marL="1206000" indent="-1695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97.0</a:t>
            </a:r>
            <a:r>
              <a:rPr b="1" lang="en-US" sz="2000" spc="-1" strike="noStrike">
                <a:solidFill>
                  <a:srgbClr val="000000"/>
                </a:solidFill>
                <a:latin typeface="Gill Sans MT"/>
              </a:rPr>
              <a:t>% </a:t>
            </a:r>
            <a:r>
              <a:rPr b="0" lang="en-US" sz="2000" spc="-1" strike="noStrike">
                <a:solidFill>
                  <a:srgbClr val="000000"/>
                </a:solidFill>
                <a:latin typeface="Gill Sans MT"/>
              </a:rPr>
              <a:t>of ERCOT load settled with 15-minute interval data. </a:t>
            </a:r>
            <a:endParaRPr b="0" lang="en-US" sz="2000" spc="-1" strike="noStrike">
              <a:solidFill>
                <a:srgbClr val="000000"/>
              </a:solidFill>
              <a:latin typeface="Gill Sans MT"/>
            </a:endParaRPr>
          </a:p>
          <a:p>
            <a:pPr lvl="4" marL="1206000" indent="-1695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6.3M</a:t>
            </a:r>
            <a:r>
              <a:rPr b="0" lang="en-US" sz="2000" spc="-1" strike="noStrike">
                <a:solidFill>
                  <a:srgbClr val="000000"/>
                </a:solidFill>
                <a:latin typeface="Gill Sans MT"/>
              </a:rPr>
              <a:t> Advanced Metering System (AMS) Electric Service Identifier (ESIID)s included in settlement as of 7/31/13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meetings/board/keydocs/2013/0917/4.3_Operations_Report.pdf</a:t>
            </a:r>
            <a:r>
              <a:rPr b="0" lang="en-US" sz="2000" spc="-1" strike="noStrike">
                <a:solidFill>
                  <a:srgbClr val="000000"/>
                </a:solidFill>
                <a:latin typeface="Gill Sans MT"/>
              </a:rPr>
              <a:t>   (see slide 12)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DSP’s AMS Install Status Repor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 – approx.  </a:t>
            </a:r>
            <a:r>
              <a:rPr b="1" lang="en-US" sz="2000" spc="-1" strike="noStrike">
                <a:solidFill>
                  <a:srgbClr val="ff0000"/>
                </a:solidFill>
                <a:latin typeface="Gill Sans MT"/>
              </a:rPr>
              <a:t>89%</a:t>
            </a:r>
            <a:r>
              <a:rPr b="1" lang="en-US" sz="2000" spc="-1" strike="noStrike">
                <a:solidFill>
                  <a:srgbClr val="000000"/>
                </a:solidFill>
                <a:latin typeface="Gill Sans MT"/>
              </a:rPr>
              <a:t> complete:       </a:t>
            </a:r>
            <a:r>
              <a:rPr b="1" lang="en-US" sz="1800" spc="-1" strike="noStrike">
                <a:solidFill>
                  <a:srgbClr val="000000"/>
                </a:solidFill>
                <a:latin typeface="Gill Sans MT"/>
              </a:rPr>
              <a:t>860,804 </a:t>
            </a:r>
            <a:r>
              <a:rPr b="0" lang="en-US" sz="1800" spc="-1" strike="noStrike">
                <a:solidFill>
                  <a:srgbClr val="000000"/>
                </a:solidFill>
                <a:latin typeface="Gill Sans MT"/>
              </a:rPr>
              <a:t>as of </a:t>
            </a:r>
            <a:r>
              <a:rPr b="1" lang="en-US" sz="1800" spc="-1" strike="noStrike">
                <a:solidFill>
                  <a:srgbClr val="000000"/>
                </a:solidFill>
                <a:latin typeface="Gill Sans MT"/>
              </a:rPr>
              <a:t>08.31.2013</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NMP – approx. </a:t>
            </a:r>
            <a:r>
              <a:rPr b="1" lang="en-US" sz="2000" spc="-1" strike="noStrike">
                <a:solidFill>
                  <a:srgbClr val="ff0000"/>
                </a:solidFill>
                <a:latin typeface="Gill Sans MT"/>
              </a:rPr>
              <a:t>51%</a:t>
            </a:r>
            <a:r>
              <a:rPr b="1" lang="en-US" sz="2000" spc="-1" strike="noStrike">
                <a:solidFill>
                  <a:srgbClr val="000000"/>
                </a:solidFill>
                <a:latin typeface="Gill Sans MT"/>
              </a:rPr>
              <a:t> complete:    </a:t>
            </a:r>
            <a:r>
              <a:rPr b="1" lang="en-US" sz="1800" spc="-1" strike="noStrike">
                <a:solidFill>
                  <a:srgbClr val="000000"/>
                </a:solidFill>
                <a:latin typeface="Gill Sans MT"/>
              </a:rPr>
              <a:t>116,165</a:t>
            </a:r>
            <a:r>
              <a:rPr b="0" lang="en-US" sz="1800" spc="-1" strike="noStrike">
                <a:solidFill>
                  <a:srgbClr val="000000"/>
                </a:solidFill>
                <a:latin typeface="Gill Sans MT"/>
              </a:rPr>
              <a:t> as of </a:t>
            </a:r>
            <a:r>
              <a:rPr b="1" lang="en-US" sz="1800" spc="-1" strike="noStrike">
                <a:solidFill>
                  <a:srgbClr val="000000"/>
                </a:solidFill>
                <a:latin typeface="Gill Sans MT"/>
              </a:rPr>
              <a:t>08.31.2013</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ncor – </a:t>
            </a:r>
            <a:r>
              <a:rPr b="1" lang="en-US" sz="2000" spc="-1" strike="noStrike">
                <a:solidFill>
                  <a:srgbClr val="ff0000"/>
                </a:solidFill>
                <a:latin typeface="Gill Sans MT"/>
              </a:rPr>
              <a:t>100%</a:t>
            </a:r>
            <a:r>
              <a:rPr b="1" lang="en-US" sz="2000" spc="-1" strike="noStrike">
                <a:solidFill>
                  <a:srgbClr val="000000"/>
                </a:solidFill>
                <a:latin typeface="Gill Sans MT"/>
              </a:rPr>
              <a:t> complete:</a:t>
            </a:r>
            <a:r>
              <a:rPr b="0" lang="en-US" sz="1800" spc="-1" strike="noStrike">
                <a:solidFill>
                  <a:srgbClr val="000000"/>
                </a:solidFill>
                <a:latin typeface="Gill Sans MT"/>
              </a:rPr>
              <a:t>              </a:t>
            </a:r>
            <a:r>
              <a:rPr b="1" lang="en-US" sz="1800" spc="-1" strike="noStrike">
                <a:solidFill>
                  <a:srgbClr val="000000"/>
                </a:solidFill>
                <a:latin typeface="Gill Sans MT"/>
              </a:rPr>
              <a:t>3,262,864 </a:t>
            </a:r>
            <a:r>
              <a:rPr b="0" lang="en-US" sz="1800" spc="-1" strike="noStrike">
                <a:solidFill>
                  <a:srgbClr val="000000"/>
                </a:solidFill>
                <a:latin typeface="Gill Sans MT"/>
              </a:rPr>
              <a:t>as of </a:t>
            </a:r>
            <a:r>
              <a:rPr b="1" lang="en-US" sz="1800" spc="-1" strike="noStrike">
                <a:solidFill>
                  <a:srgbClr val="000000"/>
                </a:solidFill>
                <a:latin typeface="Gill Sans MT"/>
              </a:rPr>
              <a:t>12.31.2012</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NP –    </a:t>
            </a:r>
            <a:r>
              <a:rPr b="1" lang="en-US" sz="2000" spc="-1" strike="noStrike">
                <a:solidFill>
                  <a:srgbClr val="ff0000"/>
                </a:solidFill>
                <a:latin typeface="Gill Sans MT"/>
              </a:rPr>
              <a:t>100%</a:t>
            </a:r>
            <a:r>
              <a:rPr b="1" lang="en-US" sz="2000" spc="-1" strike="noStrike">
                <a:solidFill>
                  <a:srgbClr val="000000"/>
                </a:solidFill>
                <a:latin typeface="Gill Sans MT"/>
              </a:rPr>
              <a:t> complete:</a:t>
            </a:r>
            <a:r>
              <a:rPr b="0" lang="en-US" sz="2000" spc="-1" strike="noStrike">
                <a:solidFill>
                  <a:srgbClr val="000000"/>
                </a:solidFill>
                <a:latin typeface="Gill Sans MT"/>
              </a:rPr>
              <a:t>            </a:t>
            </a:r>
            <a:r>
              <a:rPr b="1" lang="en-US" sz="1800" spc="-1" strike="noStrike">
                <a:solidFill>
                  <a:srgbClr val="000000"/>
                </a:solidFill>
                <a:latin typeface="Gill Sans MT"/>
              </a:rPr>
              <a:t>2,283,012 </a:t>
            </a:r>
            <a:r>
              <a:rPr b="0" lang="en-US" sz="1800" spc="-1" strike="noStrike">
                <a:solidFill>
                  <a:srgbClr val="000000"/>
                </a:solidFill>
                <a:latin typeface="Gill Sans MT"/>
              </a:rPr>
              <a:t>as of  </a:t>
            </a:r>
            <a:r>
              <a:rPr b="1" lang="en-US" sz="1800" spc="-1" strike="noStrike">
                <a:solidFill>
                  <a:srgbClr val="000000"/>
                </a:solidFill>
                <a:latin typeface="Gill Sans MT"/>
              </a:rPr>
              <a:t>07.31.2012</a:t>
            </a:r>
            <a:endParaRPr b="0" lang="en-US" sz="1800" spc="-1" strike="noStrike">
              <a:solidFill>
                <a:srgbClr val="000000"/>
              </a:solidFill>
              <a:latin typeface="Gill Sans MT"/>
            </a:endParaRPr>
          </a:p>
          <a:p>
            <a:pPr lvl="3" marL="1019880" indent="-16092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tal Number of AMS Meters Installed: </a:t>
            </a:r>
            <a:r>
              <a:rPr b="1" lang="en-US" sz="2400" spc="-1" strike="noStrike">
                <a:solidFill>
                  <a:srgbClr val="ff3300"/>
                </a:solidFill>
                <a:latin typeface="Gill Sans MT"/>
              </a:rPr>
              <a:t>6,575,903</a:t>
            </a:r>
            <a:endParaRPr b="0" lang="en-US" sz="2400" spc="-1" strike="noStrike">
              <a:solidFill>
                <a:srgbClr val="000000"/>
              </a:solidFill>
              <a:latin typeface="Gill Sans MT"/>
            </a:endParaRPr>
          </a:p>
          <a:p>
            <a:pPr lvl="3" marL="1019880" indent="-16092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3, 2013</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95B3-B578-4C91-9CD3-3EBE9BB7F83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orking Group &amp; Taskforce Updates</a:t>
            </a:r>
            <a:endParaRPr b="0" lang="en-US" sz="3900" spc="-1" strike="noStrike">
              <a:solidFill>
                <a:srgbClr val="572314"/>
              </a:solidFill>
              <a:latin typeface="Gill Sans MT"/>
            </a:endParaRPr>
          </a:p>
        </p:txBody>
      </p:sp>
      <p:sp>
        <p:nvSpPr>
          <p:cNvPr id="439" name=""/>
          <p:cNvSpPr txBox="1"/>
          <p:nvPr/>
        </p:nvSpPr>
        <p:spPr>
          <a:xfrm>
            <a:off x="990360" y="762120"/>
            <a:ext cx="8001000" cy="4952880"/>
          </a:xfrm>
          <a:prstGeom prst="rect">
            <a:avLst/>
          </a:prstGeom>
          <a:noFill/>
          <a:ln w="0">
            <a:noFill/>
          </a:ln>
        </p:spPr>
        <p:txBody>
          <a:bodyPr anchor="t">
            <a:normAutofit fontScale="87000"/>
          </a:bodyPr>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X SET Working Group </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770760" indent="-198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arifying RMGRR116 to include a switch hold removal process that allows the transition to be completed with and/or without Losing CR’s participation. </a:t>
            </a:r>
            <a:endParaRPr b="0" lang="en-US" sz="2000" spc="-1" strike="noStrike">
              <a:solidFill>
                <a:srgbClr val="000000"/>
              </a:solidFill>
              <a:latin typeface="Gill Sans MT"/>
            </a:endParaRPr>
          </a:p>
          <a:p>
            <a:pPr lvl="2" marL="770760" indent="-198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Action Item: Discuss and Evaluate Mass Transition processes to determine if there are:</a:t>
            </a:r>
            <a:endParaRPr b="0" lang="en-US" sz="2000" spc="-1" strike="noStrike">
              <a:solidFill>
                <a:srgbClr val="000000"/>
              </a:solidFill>
              <a:latin typeface="Gill Sans MT"/>
            </a:endParaRPr>
          </a:p>
          <a:p>
            <a:pPr lvl="3" marL="954000" indent="-15048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ays that the transition process can be streamlined to reduce the current timeline needed to complete the mass transition from beginning to end (all ESI IDs transferred from Losing CR) in order to reduce market credit risk and potential market credit exposure </a:t>
            </a:r>
            <a:endParaRPr b="0" lang="en-US" sz="1600" spc="-1" strike="noStrike">
              <a:solidFill>
                <a:srgbClr val="000000"/>
              </a:solidFill>
              <a:latin typeface="Gill Sans MT"/>
            </a:endParaRPr>
          </a:p>
          <a:p>
            <a:pPr lvl="3" marL="954000" indent="-15048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SI ID volume limitations that can be transitioned at one time by the market in the event of a large CR default, if limitations are identified what are the limits  and over what duration of time is needed to transition the full ESI ID population?  </a:t>
            </a:r>
            <a:endParaRPr b="0" lang="en-US" sz="1600" spc="-1" strike="noStrike">
              <a:solidFill>
                <a:srgbClr val="000000"/>
              </a:solidFill>
              <a:latin typeface="Gill Sans MT"/>
            </a:endParaRPr>
          </a:p>
          <a:p>
            <a:pPr lvl="2" marL="770760" indent="-198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Action Item: Non-Standard Metering Service PUCT Rulemaking 25.133 (Project 41111) </a:t>
            </a:r>
            <a:endParaRPr b="0" lang="en-US" sz="2000" spc="-1" strike="noStrike">
              <a:solidFill>
                <a:srgbClr val="000000"/>
              </a:solidFill>
              <a:latin typeface="Gill Sans MT"/>
            </a:endParaRPr>
          </a:p>
          <a:p>
            <a:pPr lvl="3" marL="954000" indent="-1504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X SET is developing  an RMGRR that outlines market processes for both 3 day and 30 day TDSP to ROR notifications of Non-Standard Metering Services as required in 25.133.  </a:t>
            </a:r>
            <a:endParaRPr b="0" lang="en-US" sz="2000" spc="-1" strike="noStrike">
              <a:solidFill>
                <a:srgbClr val="000000"/>
              </a:solidFill>
              <a:latin typeface="Gill Sans MT"/>
            </a:endParaRPr>
          </a:p>
          <a:p>
            <a:pPr lvl="2" marL="770760" indent="-198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3 , 2013</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03B2-6E7A-4960-96E2-A8936F263DB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orking Group &amp; Taskforce Updates</a:t>
            </a:r>
            <a:endParaRPr b="0" lang="en-US" sz="3900" spc="-1" strike="noStrike">
              <a:solidFill>
                <a:srgbClr val="572314"/>
              </a:solidFill>
              <a:latin typeface="Gill Sans MT"/>
            </a:endParaRPr>
          </a:p>
        </p:txBody>
      </p:sp>
      <p:sp>
        <p:nvSpPr>
          <p:cNvPr id="444" name=""/>
          <p:cNvSpPr txBox="1"/>
          <p:nvPr/>
        </p:nvSpPr>
        <p:spPr>
          <a:xfrm>
            <a:off x="990720" y="761760"/>
            <a:ext cx="8076960" cy="57150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X Data Transport Working Group </a:t>
            </a:r>
            <a:r>
              <a:rPr b="0" lang="en-US" sz="2400" spc="-1" strike="noStrike">
                <a:solidFill>
                  <a:srgbClr val="000000"/>
                </a:solidFill>
                <a:latin typeface="Gill Sans MT"/>
              </a:rPr>
              <a:t>(TDTWG):</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ceived approval from NAESB to include Registration Agent’s (ERCOT’s) model into the North American Energy Standards Board (NAESB) guides for NAESB’s Version 2.2.   </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arting to develop a new NAESB EDM V2.2 IMPLEMENTATION GUIDE and discuss NAESB V2.2 Market implementation project plan</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 ERCOT’s proposal for the 2014 Retail Service Level Agreement (SLA) that should become a recommendation to RMS</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haryland Transition Taskforce</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s to work through market issues to allow for a smooth transition of affected ESI IDs from NOIE to the Competitive Market </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ing what would a delay in the Approval of Docket 41474 look like for Sharyland Utilities’ Transition to Competition?  </a:t>
            </a:r>
            <a:endParaRPr b="0" lang="en-US" sz="2000" spc="-1" strike="noStrike">
              <a:solidFill>
                <a:srgbClr val="000000"/>
              </a:solidFill>
              <a:latin typeface="Gill Sans MT"/>
            </a:endParaRPr>
          </a:p>
          <a:p>
            <a:pPr lvl="3" marL="975960" indent="-1540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s prefer a day-to-day transition plan</a:t>
            </a:r>
            <a:endParaRPr b="0" lang="en-US" sz="2000" spc="-1" strike="noStrike">
              <a:solidFill>
                <a:srgbClr val="000000"/>
              </a:solidFill>
              <a:latin typeface="Gill Sans MT"/>
            </a:endParaRPr>
          </a:p>
          <a:p>
            <a:pPr lvl="3" marL="975960" indent="-1540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haryland Utilities prefer a month-to-month transition plan</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9160" indent="-210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585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9160" indent="-210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3, 2013</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D7DC-3545-4DB6-A197-80D06451953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ditional Updates</a:t>
            </a:r>
            <a:endParaRPr b="0" lang="en-US" sz="4300" spc="-1" strike="noStrike">
              <a:solidFill>
                <a:srgbClr val="572314"/>
              </a:solidFill>
              <a:latin typeface="Gill Sans MT"/>
            </a:endParaRPr>
          </a:p>
        </p:txBody>
      </p:sp>
      <p:sp>
        <p:nvSpPr>
          <p:cNvPr id="449" name=""/>
          <p:cNvSpPr txBox="1"/>
          <p:nvPr/>
        </p:nvSpPr>
        <p:spPr>
          <a:xfrm>
            <a:off x="990360" y="1294920"/>
            <a:ext cx="8001000" cy="4953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Lessons Learned Taskforce</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 September 5, 2013  TAC approved RMGRR115, Manual Work-Around Processes to be Utilized During Extended Retail Outages, therefore,  with these changes taking effect on October 1, 2013-- RMS agreed to sunset the Retail Lessons Learned Taskforce.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bserved Selection of Electric Providers </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96920" indent="-173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96920" indent="-1731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3, 2013</a:t>
            </a:r>
            <a:endParaRPr b="0" lang="en-US" sz="1200" spc="-1" strike="noStrike">
              <a:solidFill>
                <a:srgbClr val="000000"/>
              </a:solidFill>
              <a:latin typeface="Arial"/>
            </a:endParaRPr>
          </a:p>
        </p:txBody>
      </p:sp>
      <p:sp>
        <p:nvSpPr>
          <p:cNvPr id="45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74AD-246D-47DE-B371-5C389FA9901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3" name="Object 2"/>
          <p:cNvGraphicFramePr/>
          <p:nvPr/>
        </p:nvGraphicFramePr>
        <p:xfrm>
          <a:off x="4343400" y="4419720"/>
          <a:ext cx="914400" cy="714240"/>
        </p:xfrm>
        <a:graphic>
          <a:graphicData uri="http://schemas.openxmlformats.org/presentationml/2006/ole">
            <p:oleObj r:id="rId1" spid="">
              <p:embed/>
              <p:pic>
                <p:nvPicPr>
                  <p:cNvPr id="454" name="Object 2" descr=""/>
                  <p:cNvPicPr/>
                  <p:nvPr/>
                </p:nvPicPr>
                <p:blipFill>
                  <a:blip r:embed="rId2"/>
                  <a:stretch/>
                </p:blipFill>
                <p:spPr>
                  <a:xfrm>
                    <a:off x="4343400" y="44197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6854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56" name="Picture 5" descr="MCj04344110000[1]"/>
          <p:cNvPicPr/>
          <p:nvPr/>
        </p:nvPicPr>
        <p:blipFill>
          <a:blip r:embed="rId1"/>
          <a:stretch/>
        </p:blipFill>
        <p:spPr>
          <a:xfrm>
            <a:off x="2286000" y="1905120"/>
            <a:ext cx="5029200" cy="4038480"/>
          </a:xfrm>
          <a:prstGeom prst="rect">
            <a:avLst/>
          </a:prstGeom>
          <a:ln w="0">
            <a:noFill/>
          </a:ln>
        </p:spPr>
      </p:pic>
      <p:sp>
        <p:nvSpPr>
          <p:cNvPr id="45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4B88-9CFD-4102-91CF-076318A1C93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3, 2013</a:t>
            </a:r>
            <a:endParaRPr b="0" lang="en-US" sz="1200" spc="-1" strike="noStrike">
              <a:solidFill>
                <a:srgbClr val="000000"/>
              </a:solidFill>
              <a:latin typeface="Arial"/>
            </a:endParaRPr>
          </a:p>
        </p:txBody>
      </p:sp>
      <p:sp>
        <p:nvSpPr>
          <p:cNvPr id="45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TX SET</cp:lastModifiedBy>
  <dcterms:modified xsi:type="dcterms:W3CDTF">2013-10-01T02:53:06Z</dcterms:modified>
  <cp:revision>331</cp:revision>
  <dc:subject/>
  <dc:title>Instructions</dc:title>
</cp:coreProperties>
</file>