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84F7-3A79-4167-AC5E-508A2D34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AFF4-1BDE-487E-AF1A-44B9513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D6A8-1FD0-4A01-944A-1DA8C8BB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7ED0-51C1-4C3F-B0B1-1D6F8C40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4131-7871-40F5-A265-AEC3BB32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D374-219C-4A96-A433-B88544FE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158D-AFEB-4495-AFA6-AF60060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6757-CC64-4E92-AC4F-F08DE5B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5832-6CC1-404F-93F4-54435D7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C318-E427-434C-9B3B-1257DDF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A926-7E30-45E6-9917-85FE244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3B85-9014-4377-9258-6EC433A0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C25-C912-4D89-B09F-C9FAC7A9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417D-F54C-43E1-B1CB-C422621B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3/09/20130923-CSW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3/09/20130923-CSW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OCTOBER 2013 UPDATE TO TA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/03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me is: How low can we go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Content Placeholder 5" descr="limbo.jpg"/>
          <p:cNvPicPr/>
          <p:nvPr/>
        </p:nvPicPr>
        <p:blipFill>
          <a:blip r:embed="rId1"/>
          <a:stretch/>
        </p:blipFill>
        <p:spPr>
          <a:xfrm>
            <a:off x="380880" y="137160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limbo.MID" descr=""/>
          <p:cNvPicPr/>
          <p:nvPr/>
        </p:nvPicPr>
        <p:blipFill>
          <a:blip r:embed="rId2"/>
          <a:stretch/>
        </p:blipFill>
        <p:spPr>
          <a:xfrm>
            <a:off x="7848720" y="426708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56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Steps to Reduce the RTM Settlement Timel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d a second workshop in lieu of September 10,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agreed to continue the phased approach &amp; reduce it to OD + 5 days by 6/1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agreed to continue discussing the next  steps necessary to reduce it furth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ed the draft NPRR at the September 23, CSWG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agreed to implement OD + 6 on 1/1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agreed to implement OD + 5 on 5/1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statement will be reduced to OD + 55 on 5/1/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itted NPRR 570,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Reduce RTM Settlement Timeline to Operating Day Plus F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urgent status on September 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submitted COPMGRR036,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lignment with NPRR570, Reduce RTM Settlement Timeline to Operating Day Plus F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570 and COPMGRR 036 will be discussed at October PR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60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60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4480" indent="-2606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ING GROUPS  CSWG 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 Timeline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WG continues to discuss steps to reduce RTM timeline to &lt; 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drafted possible options for new settlement mechanisms  to go to OD + 3 days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for discussion purposes only, not official ERCOT proposa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Accelerated RTM Initial Sett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Complete Additional RTM Sett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Limited Additional RTM Sett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Settle Relevant Activity on DAM Sett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Combine DAM &amp; RTM into Single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ption has different impact on Staffing and data aggrega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s usually do not default on the Settlement  invoice but default on the collateral call initiated by ERCOT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ing the time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ransition to POL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ducing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he cure period for collateral c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have more benefits than reducing the RTM 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 and CWG will be looking into those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ING GROUPS  CSWG cont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pay Account update by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 developing NPPR and OBD to be reviewed by COPS/CS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there is no clearly defined process in the protoc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process with no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pay account has NO IMPACT on collateral or ACL (Available Credit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from invoices goes to pre-pay account and invoices are paid out of pre-pay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benefit of using pre pay is the reduction in wire fees for ERCOT &amp; 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r company is using or interested i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ing pre pay ac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lease participate in the upcoming CSWG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esentation about pre pay account can be foun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3/09/20130923-CS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ING GROUPS  CSWG cont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of reducing RTM Settlement Timeline on Retail Extr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some time variation between posting of Wholesale and Retail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Extracts are not published following an Operating Day but a “post” or “change” 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Extracts are published 3 days after the data has been in ERCOT’s systems and they have used it for aggregation purpo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Participants wanting to shadow retail aggregation processes need to wait 2 extra days after Wholesale Extracts have been published to perform complete valid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r company is interested i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tail Extracts posting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lease participate in next CSWG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aska’s presentation about retail extracts  can be foun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3/09/20130923-CS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ing W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met on September 20,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PGRR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ges the Review of Additional Validations from a Quarterly Review to an Annu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r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us is requested to avoid the need for ERCOT to perform the upcoming quarterly validation in December of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asks to be completed by November of 2013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 ID Annual Validation Resid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 ID Annual Validation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 COPS MEETING IS ON JUNE 11 TUESDAY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OCTOBER 8 TUESDAY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SWG MEETING IS ON OCTOBER 14 MONDAY, 2013 (WEBEX ON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10-02T19:00:33Z</dcterms:modified>
  <cp:revision>802</cp:revision>
  <dc:subject/>
  <dc:title>Instructions</dc:title>
</cp:coreProperties>
</file>