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2FD-079B-4BA0-A176-1000FAD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871-B0D8-4924-8A5A-0E2531F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174-5190-40C7-97DF-1AF3328A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DCB-EBD8-40D1-9509-4FB4CE5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ED2-A5F3-4835-9F9E-1D5F639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50D-7655-4D2E-93CD-E9E1BDDB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8D6-1D69-4AB9-BE2E-F4C00DE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8B2-8964-4A62-8FE9-B4297EC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BB5-5C4B-4A74-8326-73DA1963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9C2-18BC-43E1-B736-5AB96B4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5F6-792C-41C2-831D-21C297C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A50-6EB9-4AA2-AC23-423A424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ADAC-F435-4F90-8526-39800A36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MWG Report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. Lo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ptember 11, 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s to QM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cern of ERCOT regarding availability of SASM off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Requested QMWG members to bring suggestions to October meet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NPRR535, Resource Status Startup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Continues to be tabled by the NPRR spons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Review of DC-Tie Operations and Cos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Assignment transferred to ERCOT through a workshop form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Regulation Bias, SCR773/NPRR486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Working this in conjunction with PDCW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Reactive Testing Concern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- Changes to the reactive test form in NDCRC are currently in the drafting stage.  Once a finalized mark-up of intended changes to the form will be presented to QMWG for final edits.  Expected mark-up completion date is 10-1-13 and expected date of implementation is early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rter 2014. 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 Bias – SCR773/NPRR48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Results of August 26, 2013 joint meeting with PDCW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es SCR 773 address the problem identified in NPRR 486?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here is improvement, but the problem has not yet been solv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market objective of NPRR 486?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o minimize the un-priced energy between SCED ru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the reliability objective of NPRR 486?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o minimize the regulation deployment bias and to maintain the appropriate amount of operating reserves held in reserve.  Decrease Regulation exhaustion rate(normalized across different yea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the reliability objective been met?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artial improvement has been show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next steps for reliability concerns?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Evaluate metrics/targets for reporting to ROS/WMS.  More root cause analysis during chronic regulation bias interval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 486/ SCR 77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valuation and changes going forw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ly Integrated feedback was discu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ggested that ERCOT evaluate using a PID (Proportional-Integral-Derivative) type controller sc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will be gathered for review at September mee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ion dev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D scheme &amp; modeled results if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 zero cross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MWG – Relevant Workshops/Future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orkshop for SCR774, Enhancement to Outage Scheduler and Re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September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valuation of Regulation Bias issue, PDCWG Open Mee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eptember 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MWG Mee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Octobe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8:50:24Z</dcterms:created>
  <dc:creator>Luminant</dc:creator>
  <dc:description/>
  <dc:language>en-US</dc:language>
  <cp:lastModifiedBy>Albracht, Brittney</cp:lastModifiedBy>
  <dcterms:modified xsi:type="dcterms:W3CDTF">2013-09-09T22:13:31Z</dcterms:modified>
  <cp:revision>4</cp:revision>
  <dc:subject/>
  <dc:title>QMWG Report to WMS</dc:title>
</cp:coreProperties>
</file>