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DB8A-72E2-4C56-B029-6DAEC8E5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5D54-1CB0-4FE0-A625-97EE2562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DF85-35B0-4446-9961-1C5FB31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4D9A-B13C-40D8-9AE4-E90F8E3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0A04-073D-4654-B8B7-35D5273B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A189-2EF9-42A8-96E9-8DA817A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5B8A-8E98-49AB-A9E2-BD122BB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4DE9-5729-4721-8C67-2B0E6A03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784F-5CE5-44D1-9A0C-A8B4878D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30AB-675F-4244-ADC7-6540F17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C750-D85B-4182-96C5-B1E8770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8F55-91AC-449B-8331-DA3D2C90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73BA-4442-4A4E-AAE9-B010D470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9DCD-1B9D-496C-A24D-AAC03AAB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5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MS Upd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1960" y="29714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b Bev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Voting Item.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MGRR115 - Manual Workaround Processes to be Utilized During Extended Retail Ou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sponse to extended ERCOT outage on Dec. 2, 2012, which lasted approximately 24 hou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s new section which addresses move-in, move-out and switch-holds during prolonged system ou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age could be at any market participant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7617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dvanced Metering Working Group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WG met on 9/4/13 to consider a change request to increase capacity of the SMT API for me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 receiving many data requests from REPs it cannot effectively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hanges on hold while PUCT staff and SMT assess results of usability study and identify requir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7617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mart Meter Opt-out Rul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-out rule adopted 8/9/13 (411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date ~Feb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SET to identify any new processes or documentation required to support the new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Bevill, Rob</cp:lastModifiedBy>
  <dcterms:modified xsi:type="dcterms:W3CDTF">2013-08-30T21:52:10Z</dcterms:modified>
  <cp:revision>226</cp:revision>
  <dc:subject/>
  <dc:title>Instructions</dc:title>
</cp:coreProperties>
</file>