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955CC-9CB5-4A66-ACF7-FAB4B77BF5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D2DEA-84BE-441C-A907-4D73142FAFB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3A0DB-85D6-4816-AE7B-D13C11F6C70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69197-DAB8-422B-9C35-D6764F0CAAD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0CD92-3487-484F-8D6F-825D6F492FC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E463E-D33B-4B9D-BD04-7608C445952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3E291-5573-4610-9F79-AD86057E58C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330D6-F265-4DCB-93F5-0829E3EA7D2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02971-096C-4076-8F34-1200B5BDCE5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641E2-8BC4-480A-B984-DF30986915C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83ABA-DE94-4610-B286-4FFD6FF7233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63F82-29AB-4A3D-89C4-B9F081DD00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82081-1DB9-416C-ABA9-6D27F99CD6B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7BDB1-4D1D-4B4E-AEC4-DE89A66E324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2FC78-CC4C-48FF-B4BC-EBB8D2E584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E2F12-60F9-40C6-83E5-2C66B03F16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9B5D4-F24C-4888-A609-27633AA9DC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387D8-EDB3-4337-9A80-15CF23D6CD7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A34BE-3CC7-422A-903E-8867D9EF35E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EFA99-4DDA-4C20-8F7D-06469271F57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2E908-D20B-4DD3-8E38-2981D39BFFA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7043F5F-92CE-4EB3-A286-46DD422CE5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DE89711-8B74-4728-88EC-FB77BD7685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67299F2-B829-4014-A4A6-80F1A79DFA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8354100-2AA2-49CB-927F-E90E7B428B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BA42074-588A-41C0-9C5A-BF3EB0DB1C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D16D7F7-E29F-49D8-A93F-90C1512672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21F4A3C-274D-4B81-811C-DF3250BCD0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A2F96E9-2F58-474F-A3E5-6870CC14C1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DE2AC7B-B00C-4349-B459-A6C89C0CB3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9DC4480-A1E6-4FFC-A6A5-58254210DB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A6AFCFB-ACCD-4762-B71C-2C4158284A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B4B4712-8259-4CF9-94EB-0EA4AEE06EF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ADC50-30F1-4AD1-9ACA-CAAE944283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S</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5, 2010</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E06CA-CF2E-4A1D-A9AC-4082229A6E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5, 2010</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rotocol Revision Subcommittee</a:t>
            </a:r>
            <a:endParaRPr b="0" lang="en-US" sz="2800" spc="-1" strike="noStrike">
              <a:solidFill>
                <a:srgbClr val="000000"/>
              </a:solidFill>
              <a:latin typeface="Arial Black"/>
            </a:endParaRPr>
          </a:p>
        </p:txBody>
      </p:sp>
      <p:sp>
        <p:nvSpPr>
          <p:cNvPr id="94"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John Varnell</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eptember 5, 2013</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192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543, Message for Confirmed E-Tags </a:t>
            </a:r>
            <a:br>
              <a:rPr sz="2000"/>
            </a:br>
            <a:endParaRPr b="0" lang="en-US" sz="2000" spc="-1" strike="noStrike">
              <a:solidFill>
                <a:srgbClr val="000000"/>
              </a:solidFill>
              <a:latin typeface="Arial Black"/>
            </a:endParaRPr>
          </a:p>
        </p:txBody>
      </p:sp>
      <p:graphicFrame>
        <p:nvGraphicFramePr>
          <p:cNvPr id="116" name=""/>
          <p:cNvGraphicFramePr/>
          <p:nvPr/>
        </p:nvGraphicFramePr>
        <p:xfrm>
          <a:off x="228600" y="762120"/>
          <a:ext cx="8763120" cy="5583240"/>
        </p:xfrm>
        <a:graphic>
          <a:graphicData uri="http://schemas.openxmlformats.org/drawingml/2006/table">
            <a:tbl>
              <a:tblPr/>
              <a:tblGrid>
                <a:gridCol w="2397240"/>
                <a:gridCol w="6365880"/>
              </a:tblGrid>
              <a:tr h="998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nask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PRR provides for notification when a confirmed Electronic Tag (e-Tag) is downloaded, cancelled, or curtailed by ERCOT’s system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377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6/20/13, PRS voted to recommend approval of NPRR543 as submitted.  There was one abstention from the IOU Market Segment.  On 7/18/13, PRS unanimously voted to endorse and forward the 6/20/13 PRS Report and Impact Analysis for NPRR543 to TAC with a recommended priority of 2014 and rank of 98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02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on System Implementation – Priority 2014; Rank 98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k - $60k; no impacts to ERCOT staffing; impacts to MIS, MMS, EI, and MMS UI; no impacts to ERCOT business functions; no impacts to ERCOT grid operations and practi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679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s future Settlement disputes regarding DC Tie scheduling; data transparency and reduction in error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7" name="Date Placeholder 3"/>
          <p:cNvSpPr/>
          <p:nvPr/>
        </p:nvSpPr>
        <p:spPr>
          <a:xfrm>
            <a:off x="6553080" y="63658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Public</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15192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545, Removal of Reference to Wave Traps </a:t>
            </a:r>
            <a:br>
              <a:rPr sz="2000"/>
            </a:br>
            <a:endParaRPr b="0" lang="en-US" sz="2000" spc="-1" strike="noStrike">
              <a:solidFill>
                <a:srgbClr val="000000"/>
              </a:solidFill>
              <a:latin typeface="Arial Black"/>
            </a:endParaRPr>
          </a:p>
        </p:txBody>
      </p:sp>
      <p:graphicFrame>
        <p:nvGraphicFramePr>
          <p:cNvPr id="119" name=""/>
          <p:cNvGraphicFramePr/>
          <p:nvPr/>
        </p:nvGraphicFramePr>
        <p:xfrm>
          <a:off x="228600" y="762120"/>
          <a:ext cx="8763120" cy="4989240"/>
        </p:xfrm>
        <a:graphic>
          <a:graphicData uri="http://schemas.openxmlformats.org/drawingml/2006/table">
            <a:tbl>
              <a:tblPr/>
              <a:tblGrid>
                <a:gridCol w="2397240"/>
                <a:gridCol w="6365880"/>
              </a:tblGrid>
              <a:tr h="10666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PRR removes a reference to wave traps as this equipment is not modeled in ERCOT system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524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6/20/13, PRS unanimously voted to recommend approval of NPRR545 as submitted.   On 7/18/13, PRS unanimously voted to endorse and forward the 6/20/13 PRS Report and Impact Analysis for NPRR545 to TA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6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ember 1, 20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impac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554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rifies the Protocols by removing an irrelevant equipment refere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0" name="Date Placeholder 3"/>
          <p:cNvSpPr/>
          <p:nvPr/>
        </p:nvSpPr>
        <p:spPr>
          <a:xfrm>
            <a:off x="6553080" y="63658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Public</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15192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546, Removal of References to RUC Notifications </a:t>
            </a:r>
            <a:br>
              <a:rPr sz="2000"/>
            </a:br>
            <a:endParaRPr b="0" lang="en-US" sz="2000" spc="-1" strike="noStrike">
              <a:solidFill>
                <a:srgbClr val="000000"/>
              </a:solidFill>
              <a:latin typeface="Arial Black"/>
            </a:endParaRPr>
          </a:p>
        </p:txBody>
      </p:sp>
      <p:graphicFrame>
        <p:nvGraphicFramePr>
          <p:cNvPr id="122" name=""/>
          <p:cNvGraphicFramePr/>
          <p:nvPr/>
        </p:nvGraphicFramePr>
        <p:xfrm>
          <a:off x="228600" y="762120"/>
          <a:ext cx="8763120" cy="5386320"/>
        </p:xfrm>
        <a:graphic>
          <a:graphicData uri="http://schemas.openxmlformats.org/drawingml/2006/table">
            <a:tbl>
              <a:tblPr/>
              <a:tblGrid>
                <a:gridCol w="2397240"/>
                <a:gridCol w="6365880"/>
              </a:tblGrid>
              <a:tr h="14634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PRR removes outstanding references to “RUC Notifications.”  This language is no longer relevant as a result of changes made through NPRR321, Allow Change to Energy Offer Curve MW Amounts in the Adjustment Period, which was approved by the ERCOT Board on 9/20/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528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6/20/13, PRS unanimously voted to recommend approval of NPRR546 as submitted.  On 7/18/13, PRS unanimously voted to endorse and forward the 6/20/13 PRS Report and Impact Analysis for NPRR546 to TA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ember 1, 20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impac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557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s irrelevant references and promotes consistency within the Protocol languag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3" name="Date Placeholder 3"/>
          <p:cNvSpPr/>
          <p:nvPr/>
        </p:nvSpPr>
        <p:spPr>
          <a:xfrm>
            <a:off x="6553080" y="63658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Public</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15192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547, Governor Test Data </a:t>
            </a:r>
            <a:br>
              <a:rPr sz="2000"/>
            </a:br>
            <a:endParaRPr b="0" lang="en-US" sz="2000" spc="-1" strike="noStrike">
              <a:solidFill>
                <a:srgbClr val="000000"/>
              </a:solidFill>
              <a:latin typeface="Arial Black"/>
            </a:endParaRPr>
          </a:p>
        </p:txBody>
      </p:sp>
      <p:graphicFrame>
        <p:nvGraphicFramePr>
          <p:cNvPr id="125" name=""/>
          <p:cNvGraphicFramePr/>
          <p:nvPr/>
        </p:nvGraphicFramePr>
        <p:xfrm>
          <a:off x="228600" y="762120"/>
          <a:ext cx="8763120" cy="4989240"/>
        </p:xfrm>
        <a:graphic>
          <a:graphicData uri="http://schemas.openxmlformats.org/drawingml/2006/table">
            <a:tbl>
              <a:tblPr/>
              <a:tblGrid>
                <a:gridCol w="2397240"/>
                <a:gridCol w="6365880"/>
              </a:tblGrid>
              <a:tr h="10666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PRR aligns the Protocols with current practice by clarifying that Governor test results are made available to TSP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524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6/20/13, PRS unanimously voted to recommend approval of NPRR547 as submitted.  On 7/18/13, PRS unanimously voted to endorse and forward the 6/20/13 PRS Report and Impact Analysis for NPRR547 to TA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6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ember 1, 20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impac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554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rifies Protocol languag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6" name="Date Placeholder 3"/>
          <p:cNvSpPr/>
          <p:nvPr/>
        </p:nvSpPr>
        <p:spPr>
          <a:xfrm>
            <a:off x="6553080" y="63658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Public</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192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548, Remove NPRR153 Grey Boxes and Clarify Fixed Quantity Block Treatment in the DAM </a:t>
            </a:r>
            <a:br>
              <a:rPr sz="2000"/>
            </a:br>
            <a:endParaRPr b="0" lang="en-US" sz="2000" spc="-1" strike="noStrike">
              <a:solidFill>
                <a:srgbClr val="000000"/>
              </a:solidFill>
              <a:latin typeface="Arial Black"/>
            </a:endParaRPr>
          </a:p>
        </p:txBody>
      </p:sp>
      <p:graphicFrame>
        <p:nvGraphicFramePr>
          <p:cNvPr id="128" name=""/>
          <p:cNvGraphicFramePr/>
          <p:nvPr/>
        </p:nvGraphicFramePr>
        <p:xfrm>
          <a:off x="228600" y="762120"/>
          <a:ext cx="8763120" cy="5661000"/>
        </p:xfrm>
        <a:graphic>
          <a:graphicData uri="http://schemas.openxmlformats.org/drawingml/2006/table">
            <a:tbl>
              <a:tblPr/>
              <a:tblGrid>
                <a:gridCol w="2397240"/>
                <a:gridCol w="6365880"/>
              </a:tblGrid>
              <a:tr h="17377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PRR removes the grey boxes that are pending implementation of system changes associated with NPRR153, Generation Resource Fixed Quantity Block.  Further, this NPRR provides clarification for how the DAM currently considers block offers and bids for Ancillary Servi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521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7/18/13, PRS unanimously voted to recommend approval of NPRR548 as revised by PRS and to request that WMS review NPRR548 and submit comments.  On 8/22/13, PRS unanimously voted to endorse and forward the 7/18/13 PRS Report as amended by the 8/20/13 ERCOT comments and Impact Analysis for NPRR548 to TA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7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ember 1, 20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impac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550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s NPRR153 grey boxes due to the risk of undesirable clearing behaviors; clarifies existing clearing process in the Protocol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9" name="Date Placeholder 3"/>
          <p:cNvSpPr/>
          <p:nvPr/>
        </p:nvSpPr>
        <p:spPr>
          <a:xfrm>
            <a:off x="6553080" y="63658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Public</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15192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549, Clarification for Posting Transmission Loss Factors </a:t>
            </a:r>
            <a:br>
              <a:rPr sz="2000"/>
            </a:br>
            <a:endParaRPr b="0" lang="en-US" sz="2000" spc="-1" strike="noStrike">
              <a:solidFill>
                <a:srgbClr val="000000"/>
              </a:solidFill>
              <a:latin typeface="Arial Black"/>
            </a:endParaRPr>
          </a:p>
        </p:txBody>
      </p:sp>
      <p:graphicFrame>
        <p:nvGraphicFramePr>
          <p:cNvPr id="131" name=""/>
          <p:cNvGraphicFramePr/>
          <p:nvPr/>
        </p:nvGraphicFramePr>
        <p:xfrm>
          <a:off x="228600" y="762120"/>
          <a:ext cx="8763120" cy="5333760"/>
        </p:xfrm>
        <a:graphic>
          <a:graphicData uri="http://schemas.openxmlformats.org/drawingml/2006/table">
            <a:tbl>
              <a:tblPr/>
              <a:tblGrid>
                <a:gridCol w="2397240"/>
                <a:gridCol w="6365880"/>
              </a:tblGrid>
              <a:tr h="11397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PRR clarifies the posting requirements for TLF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748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7/18/13, PRS unanimously voted to recommend approval of NPRR549 as submitted.  On 8/22/13, PRS voted to endorse and forward the 7/18/13 PRS Report as revised by PRS and Impact Analysis for NPRR549 to TAC.  There was one opposing vote from the Independent Generator Market Seg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42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ember 1, 20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55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impac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493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clarification of existing Protocol language so that it aligns with the current business proces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2" name="Date Placeholder 3"/>
          <p:cNvSpPr/>
          <p:nvPr/>
        </p:nvSpPr>
        <p:spPr>
          <a:xfrm>
            <a:off x="6553080" y="63658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Public</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15192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551, Posting of Annual Planning Model – URGENT</a:t>
            </a:r>
            <a:br>
              <a:rPr sz="2000"/>
            </a:br>
            <a:endParaRPr b="0" lang="en-US" sz="2000" spc="-1" strike="noStrike">
              <a:solidFill>
                <a:srgbClr val="000000"/>
              </a:solidFill>
              <a:latin typeface="Arial Black"/>
            </a:endParaRPr>
          </a:p>
        </p:txBody>
      </p:sp>
      <p:graphicFrame>
        <p:nvGraphicFramePr>
          <p:cNvPr id="134" name=""/>
          <p:cNvGraphicFramePr/>
          <p:nvPr/>
        </p:nvGraphicFramePr>
        <p:xfrm>
          <a:off x="228600" y="762120"/>
          <a:ext cx="8763120" cy="5522760"/>
        </p:xfrm>
        <a:graphic>
          <a:graphicData uri="http://schemas.openxmlformats.org/drawingml/2006/table">
            <a:tbl>
              <a:tblPr/>
              <a:tblGrid>
                <a:gridCol w="2397240"/>
                <a:gridCol w="6365880"/>
              </a:tblGrid>
              <a:tr h="10666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PRR establishes the date for which ERCOT should post the Annual Planning Model consistent with current processes.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860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7/18/13, PRS voted to grant NPRR551 Urgent status.  There was one opposing vote from the Independent Generator Market Segment and two abstentions from the IPM and Consumer Market Segments.  PRS then voted to recommend approval of NPRR551 as submitted and to forward to TAC.  There was one opposing vote from the Independent Generator Market Segment and one abstention from the IPM Market Seg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ober 1, 20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impac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557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es the need for ERCOT to post the Annual Planning Model prior to its comple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5" name="Date Placeholder 3"/>
          <p:cNvSpPr/>
          <p:nvPr/>
        </p:nvSpPr>
        <p:spPr>
          <a:xfrm>
            <a:off x="6553080" y="63658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Public</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15192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552, Additional Counter-Party Criteria – URGENT</a:t>
            </a:r>
            <a:br>
              <a:rPr sz="2000"/>
            </a:br>
            <a:endParaRPr b="0" lang="en-US" sz="2000" spc="-1" strike="noStrike">
              <a:solidFill>
                <a:srgbClr val="000000"/>
              </a:solidFill>
              <a:latin typeface="Arial Black"/>
            </a:endParaRPr>
          </a:p>
        </p:txBody>
      </p:sp>
      <p:graphicFrame>
        <p:nvGraphicFramePr>
          <p:cNvPr id="137" name=""/>
          <p:cNvGraphicFramePr/>
          <p:nvPr/>
        </p:nvGraphicFramePr>
        <p:xfrm>
          <a:off x="228600" y="762120"/>
          <a:ext cx="8763120" cy="5773680"/>
        </p:xfrm>
        <a:graphic>
          <a:graphicData uri="http://schemas.openxmlformats.org/drawingml/2006/table">
            <a:tbl>
              <a:tblPr/>
              <a:tblGrid>
                <a:gridCol w="2397240"/>
                <a:gridCol w="6365880"/>
              </a:tblGrid>
              <a:tr h="28350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the CFTC’s “Final Order on RTO and ISO Exemption for Certain Specified Transactions” issued in response to the ISO/RTO Joint Application for Exemption (Final Order), to be eligible for the exemption, applicable transactions must be entered into by persons who are either “appropriate persons” or “eligible contract participants” as defined in the CEA, or that meet other conditions as defined in the Final Order.  This NPRR incorporates these requirements into the Protocols and mandates an annual certification by Counter-Parties that they are in complia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7/18/13, PRS unanimously voted to grant NPRR552 Urgent status, to recommend approval of NPRR552 as submitted and to forward to TA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ober 1, 20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impac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654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the likelihood that ERCOT remains in compliance with the terms of the exemption granted under the Final Ord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8" name="Date Placeholder 3"/>
          <p:cNvSpPr/>
          <p:nvPr/>
        </p:nvSpPr>
        <p:spPr>
          <a:xfrm>
            <a:off x="6553080" y="63658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Public</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192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553, Monthly BLT Payment and Charge for Presidio Exception</a:t>
            </a:r>
            <a:br>
              <a:rPr sz="2000"/>
            </a:br>
            <a:endParaRPr b="0" lang="en-US" sz="2000" spc="-1" strike="noStrike">
              <a:solidFill>
                <a:srgbClr val="000000"/>
              </a:solidFill>
              <a:latin typeface="Arial Black"/>
            </a:endParaRPr>
          </a:p>
        </p:txBody>
      </p:sp>
      <p:graphicFrame>
        <p:nvGraphicFramePr>
          <p:cNvPr id="140" name=""/>
          <p:cNvGraphicFramePr/>
          <p:nvPr/>
        </p:nvGraphicFramePr>
        <p:xfrm>
          <a:off x="228600" y="762120"/>
          <a:ext cx="8763120" cy="5454360"/>
        </p:xfrm>
        <a:graphic>
          <a:graphicData uri="http://schemas.openxmlformats.org/drawingml/2006/table">
            <a:tbl>
              <a:tblPr/>
              <a:tblGrid>
                <a:gridCol w="2397240"/>
                <a:gridCol w="6365880"/>
              </a:tblGrid>
              <a:tr h="10666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SW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PRR introduces a new monthly charge type allocated through monthly LRS for energy associated with the Presidio Excep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521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7/18/13, PRS unanimously voted to recommend approval of NPRR553 as submitted.  On 8/22/13, PRS voted to endorse and forward the 7/18/13 PRS Report and Impact Analysis for NPRR553 to TAC with a recommended priority of 2014 and rank of 1000.  There was one abstention from the Independent Generator Market Segmen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ember 1, 2013 (for manual process); Upon System Implementation – Priority 2014; Rank 1000 (for automation)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k - $25k; impacts to S&amp;B; ERCOT business functions will be updated;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546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s a Settlement charge type for a charge that is currently calculated manually as a miscellaneous charg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1" name="Date Placeholder 3"/>
          <p:cNvSpPr/>
          <p:nvPr/>
        </p:nvSpPr>
        <p:spPr>
          <a:xfrm>
            <a:off x="6553080" y="63658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Public</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5192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554, Clarification of Future Credit Exposure Calculation - URGENT</a:t>
            </a:r>
            <a:br>
              <a:rPr sz="2000"/>
            </a:br>
            <a:endParaRPr b="0" lang="en-US" sz="2000" spc="-1" strike="noStrike">
              <a:solidFill>
                <a:srgbClr val="000000"/>
              </a:solidFill>
              <a:latin typeface="Arial Black"/>
            </a:endParaRPr>
          </a:p>
        </p:txBody>
      </p:sp>
      <p:graphicFrame>
        <p:nvGraphicFramePr>
          <p:cNvPr id="143" name=""/>
          <p:cNvGraphicFramePr/>
          <p:nvPr/>
        </p:nvGraphicFramePr>
        <p:xfrm>
          <a:off x="228600" y="762120"/>
          <a:ext cx="8763120" cy="5370480"/>
        </p:xfrm>
        <a:graphic>
          <a:graphicData uri="http://schemas.openxmlformats.org/drawingml/2006/table">
            <a:tbl>
              <a:tblPr/>
              <a:tblGrid>
                <a:gridCol w="2397240"/>
                <a:gridCol w="6365880"/>
              </a:tblGrid>
              <a:tr h="22863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PRR clarifies language that was introduced by NPRR484; and proposes (1) revisions to the FCE calculation to explicitly recognize deferred Invoice-related exposure separate from mark-to-market exposure; (2) modification of certain variables and subscripts that would otherwise appear to require calculation of certain portfolio-level values based on path-specific inputs; and (3) various administrative revisions.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7/18/13, PRS unanimously voted to grant NPRR554 Urgent status, to recommend approval of NPRR554 as submitted and to forward to TA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72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ober 1, 20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impac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550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rifies NPRR484 language and provides additional transparency to Market Participa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4" name="Date Placeholder 3"/>
          <p:cNvSpPr/>
          <p:nvPr/>
        </p:nvSpPr>
        <p:spPr>
          <a:xfrm>
            <a:off x="6553080" y="63658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Public</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304920" y="0"/>
            <a:ext cx="8229600" cy="79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ummary of Revision Requests</a:t>
            </a:r>
            <a:endParaRPr b="0" lang="en-US" sz="2000" spc="-1" strike="noStrike">
              <a:solidFill>
                <a:srgbClr val="000000"/>
              </a:solidFill>
              <a:latin typeface="Arial"/>
            </a:endParaRPr>
          </a:p>
        </p:txBody>
      </p:sp>
      <p:sp>
        <p:nvSpPr>
          <p:cNvPr id="96" name="Rectangle 3"/>
          <p:cNvSpPr/>
          <p:nvPr/>
        </p:nvSpPr>
        <p:spPr>
          <a:xfrm>
            <a:off x="304920" y="990720"/>
            <a:ext cx="8153280" cy="563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 NPRRs Recommended for Approv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NPRR Withdraw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15192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555, Load Resource Participation in Security-Constrained Economic Dispatch – URGENT</a:t>
            </a:r>
            <a:br>
              <a:rPr sz="2000"/>
            </a:br>
            <a:endParaRPr b="0" lang="en-US" sz="2000" spc="-1" strike="noStrike">
              <a:solidFill>
                <a:srgbClr val="000000"/>
              </a:solidFill>
              <a:latin typeface="Arial Black"/>
            </a:endParaRPr>
          </a:p>
        </p:txBody>
      </p:sp>
      <p:graphicFrame>
        <p:nvGraphicFramePr>
          <p:cNvPr id="146" name=""/>
          <p:cNvGraphicFramePr/>
          <p:nvPr/>
        </p:nvGraphicFramePr>
        <p:xfrm>
          <a:off x="228600" y="762120"/>
          <a:ext cx="8763120" cy="5943600"/>
        </p:xfrm>
        <a:graphic>
          <a:graphicData uri="http://schemas.openxmlformats.org/drawingml/2006/table">
            <a:tbl>
              <a:tblPr/>
              <a:tblGrid>
                <a:gridCol w="2397240"/>
                <a:gridCol w="6365880"/>
              </a:tblGrid>
              <a:tr h="17967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NPRR enables Demand response from Controllable Load Resources, as re-defined, to be Dispatched by SCED based on an RTM Energy Bid;  clarifies the rules for participation in the RTM by newly-defined “Aggregate Load Resources” (ALRs), consisting of multiple metered sites within a single ERCOT Load Zone; and establishes a long-term solution for Controllable Load Resource provision of Non-Spin Service by allowing participating Controllable Load Resources providing Non-Spin to be Dispatched economicall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098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8/22/13, PRS voted to recommend approval of NPRR555 as amended by the 8/20/13 CPS Energy comments and as revised by PRS with a recommended priority of 2013 and rank of 865.  There was one abstention from the Municipal Market Segment.  PRS then voted to recommend the values for the X and Y variables relative to Base Point Deviation Charges and CLREDP as set forth in the 8/15/13 WMS comments and 8/19/13 ROS comments and that these values be subject to approval and review by TAC and be posted to the MIS.  There were three abstentions from the Consumer (2) and IOU Market Segme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on System Implementation – Priority 2013; Rank 86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1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 (Prelimina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k - $500k; no impacts to ERCOT staffing; impacts to MMS, EMS, S&amp;B, EI, ISM, MIS, and CDR; ERCOT business functions and grid operations and practices will be updat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05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ows Load Resources to contribute to price formation by setting a price based on their opportunity cost or the value of lost Load; provides participating price certainty in the form of SCED Base Point instructions; benefits Load Resources by providing price certainty in the form of SCED Dispat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7" name="Date Placeholder 3"/>
          <p:cNvSpPr/>
          <p:nvPr/>
        </p:nvSpPr>
        <p:spPr>
          <a:xfrm>
            <a:off x="6553080" y="63658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Public</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192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557, Clarification of Treatment of Holidays for RTM Settlement Timeline – URGENT</a:t>
            </a:r>
            <a:br>
              <a:rPr sz="2000"/>
            </a:br>
            <a:endParaRPr b="0" lang="en-US" sz="2000" spc="-1" strike="noStrike">
              <a:solidFill>
                <a:srgbClr val="000000"/>
              </a:solidFill>
              <a:latin typeface="Arial Black"/>
            </a:endParaRPr>
          </a:p>
        </p:txBody>
      </p:sp>
      <p:graphicFrame>
        <p:nvGraphicFramePr>
          <p:cNvPr id="149" name=""/>
          <p:cNvGraphicFramePr/>
          <p:nvPr/>
        </p:nvGraphicFramePr>
        <p:xfrm>
          <a:off x="228600" y="762120"/>
          <a:ext cx="8763120" cy="5257800"/>
        </p:xfrm>
        <a:graphic>
          <a:graphicData uri="http://schemas.openxmlformats.org/drawingml/2006/table">
            <a:tbl>
              <a:tblPr/>
              <a:tblGrid>
                <a:gridCol w="2397240"/>
                <a:gridCol w="6365880"/>
              </a:tblGrid>
              <a:tr h="14619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PRR corrects one word in the Section 9.5.4 by replacing “withstanding” with “notwithstanding” to align the sentence with the purpose of addressing treatment of holidays.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257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8/22/13, PRS unanimously voted to grant NPRR557 Urgent status; and to recommend approval of NPRR557 as amended by the 7/31/13 ERCOT comments.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26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ober 1, 20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88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impac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68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gnment of Protocols with original intent of NPRR509; Clarification of treatment of holidays associated with Real-Time Market (RTM) Settlement Time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0" name="Date Placeholder 3"/>
          <p:cNvSpPr/>
          <p:nvPr/>
        </p:nvSpPr>
        <p:spPr>
          <a:xfrm>
            <a:off x="6553080" y="63658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Public</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304920" y="0"/>
            <a:ext cx="8229600" cy="79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dditional PRS Items</a:t>
            </a:r>
            <a:endParaRPr b="0" lang="en-US" sz="2000" spc="-1" strike="noStrike">
              <a:solidFill>
                <a:srgbClr val="000000"/>
              </a:solidFill>
              <a:latin typeface="Arial"/>
            </a:endParaRPr>
          </a:p>
        </p:txBody>
      </p:sp>
      <p:sp>
        <p:nvSpPr>
          <p:cNvPr id="152" name="Rectangle 3"/>
          <p:cNvSpPr/>
          <p:nvPr/>
        </p:nvSpPr>
        <p:spPr>
          <a:xfrm>
            <a:off x="304920" y="990720"/>
            <a:ext cx="8153280" cy="56386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ition of Other Binding Documents to OBD List</a:t>
            </a:r>
            <a:endParaRPr b="0" lang="en-US" sz="2000" spc="-1" strike="noStrike">
              <a:solidFill>
                <a:srgbClr val="000000"/>
              </a:solidFill>
              <a:latin typeface="Arial"/>
            </a:endParaRPr>
          </a:p>
          <a:p>
            <a:pPr lvl="1" marL="1085760" indent="-342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ments for Aggregate Load Resource Participation in the ERCOT Market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rioritization of NPRR210, Wind Forecasting Change to P50, Synchronization with PRR841</a:t>
            </a:r>
            <a:endParaRPr b="0" lang="en-US" sz="2000" spc="-1" strike="noStrike">
              <a:solidFill>
                <a:srgbClr val="000000"/>
              </a:solidFill>
              <a:latin typeface="Arial"/>
            </a:endParaRPr>
          </a:p>
          <a:p>
            <a:pPr lvl="1" marL="1085760" indent="-342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rioritized to Priority of 2014 and rank of 1010</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tems for a Vote</a:t>
            </a:r>
            <a:endParaRPr b="0" lang="en-US" sz="2000" spc="-1" strike="noStrike">
              <a:solidFill>
                <a:srgbClr val="000000"/>
              </a:solidFill>
              <a:latin typeface="Arial Black"/>
            </a:endParaRPr>
          </a:p>
        </p:txBody>
      </p:sp>
      <p:sp>
        <p:nvSpPr>
          <p:cNvPr id="98" name="PlaceHolder 2"/>
          <p:cNvSpPr>
            <a:spLocks noGrp="1"/>
          </p:cNvSpPr>
          <p:nvPr>
            <p:ph/>
          </p:nvPr>
        </p:nvSpPr>
        <p:spPr>
          <a:xfrm>
            <a:off x="228600" y="838080"/>
            <a:ext cx="8153280" cy="5639040"/>
          </a:xfrm>
          <a:prstGeom prst="rect">
            <a:avLst/>
          </a:prstGeom>
          <a:noFill/>
          <a:ln w="0">
            <a:noFill/>
          </a:ln>
        </p:spPr>
        <p:txBody>
          <a:bodyPr anchor="t">
            <a:normAutofit fontScale="71000"/>
          </a:bodyPr>
          <a:p>
            <a:pPr marL="243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Unopposed Recommendations</a:t>
            </a:r>
            <a:endParaRPr b="1" lang="en-US" sz="1800" spc="-1" strike="noStrike">
              <a:solidFill>
                <a:srgbClr val="000000"/>
              </a:solidFill>
              <a:latin typeface="Arial"/>
            </a:endParaRPr>
          </a:p>
          <a:p>
            <a:pPr marL="243360" indent="-243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527, Required Combined Cycle Telemetry for Operational Awareness and PDCWG Analysis</a:t>
            </a:r>
            <a:endParaRPr b="1" lang="en-US" sz="1800" spc="-1" strike="noStrike">
              <a:solidFill>
                <a:srgbClr val="000000"/>
              </a:solidFill>
              <a:latin typeface="Arial"/>
            </a:endParaRPr>
          </a:p>
          <a:p>
            <a:pPr marL="243360" indent="-243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543, Message for Confirmed E-Tags</a:t>
            </a:r>
            <a:endParaRPr b="1" lang="en-US" sz="1800" spc="-1" strike="noStrike">
              <a:solidFill>
                <a:srgbClr val="000000"/>
              </a:solidFill>
              <a:latin typeface="Arial"/>
            </a:endParaRPr>
          </a:p>
          <a:p>
            <a:pPr marL="243360" indent="-243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545, Removal of Reference to Wave Traps*</a:t>
            </a:r>
            <a:endParaRPr b="1" lang="en-US" sz="1800" spc="-1" strike="noStrike">
              <a:solidFill>
                <a:srgbClr val="000000"/>
              </a:solidFill>
              <a:latin typeface="Arial"/>
            </a:endParaRPr>
          </a:p>
          <a:p>
            <a:pPr marL="243360" indent="-243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546, Removal of References to RUC Notifications*</a:t>
            </a:r>
            <a:endParaRPr b="1" lang="en-US" sz="1800" spc="-1" strike="noStrike">
              <a:solidFill>
                <a:srgbClr val="000000"/>
              </a:solidFill>
              <a:latin typeface="Arial"/>
            </a:endParaRPr>
          </a:p>
          <a:p>
            <a:pPr marL="243360" indent="-243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547, Governor Test Data*</a:t>
            </a:r>
            <a:r>
              <a:rPr b="1" i="1" lang="en-US" sz="1800" spc="-1" strike="noStrike">
                <a:solidFill>
                  <a:srgbClr val="000000"/>
                </a:solidFill>
                <a:latin typeface="Arial"/>
              </a:rPr>
              <a:t> </a:t>
            </a:r>
            <a:endParaRPr b="1" lang="en-US" sz="1800" spc="-1" strike="noStrike">
              <a:solidFill>
                <a:srgbClr val="000000"/>
              </a:solidFill>
              <a:latin typeface="Arial"/>
            </a:endParaRPr>
          </a:p>
          <a:p>
            <a:pPr marL="243360" indent="-243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548, Remove NPRR153 Grey Boxes and Clarify Fixed Quantity Block Treatment in the DAM</a:t>
            </a:r>
            <a:endParaRPr b="1" lang="en-US" sz="1800" spc="-1" strike="noStrike">
              <a:solidFill>
                <a:srgbClr val="000000"/>
              </a:solidFill>
              <a:latin typeface="Arial"/>
            </a:endParaRPr>
          </a:p>
          <a:p>
            <a:pPr marL="243360" indent="-243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552, Additional Counter-Party Criteria - URGENT *</a:t>
            </a:r>
            <a:endParaRPr b="1" lang="en-US" sz="1800" spc="-1" strike="noStrike">
              <a:solidFill>
                <a:srgbClr val="000000"/>
              </a:solidFill>
              <a:latin typeface="Arial"/>
            </a:endParaRPr>
          </a:p>
          <a:p>
            <a:pPr marL="243360" indent="-243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553, Monthly BLT Payment and Charge for Presidio Exception</a:t>
            </a:r>
            <a:endParaRPr b="1" lang="en-US" sz="1800" spc="-1" strike="noStrike">
              <a:solidFill>
                <a:srgbClr val="000000"/>
              </a:solidFill>
              <a:latin typeface="Arial"/>
            </a:endParaRPr>
          </a:p>
          <a:p>
            <a:pPr marL="243360" indent="-243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554, Clarification of Future Credit Exposure Calculation - URGENT*</a:t>
            </a:r>
            <a:endParaRPr b="1" lang="en-US" sz="1800" spc="-1" strike="noStrike">
              <a:solidFill>
                <a:srgbClr val="000000"/>
              </a:solidFill>
              <a:latin typeface="Arial"/>
            </a:endParaRPr>
          </a:p>
          <a:p>
            <a:pPr marL="243360" indent="-243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555, Load Resource Participation in Security-Constrained Economic Dispatch – URGENT</a:t>
            </a:r>
            <a:endParaRPr b="1" lang="en-US" sz="1800" spc="-1" strike="noStrike">
              <a:solidFill>
                <a:srgbClr val="000000"/>
              </a:solidFill>
              <a:latin typeface="Arial"/>
            </a:endParaRPr>
          </a:p>
          <a:p>
            <a:pPr marL="243360" indent="-243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557, Administrative Change for August 1, 2013 Nodal Protocols – URGENT*</a:t>
            </a:r>
            <a:endParaRPr b="1" lang="en-US" sz="1800" spc="-1" strike="noStrike">
              <a:solidFill>
                <a:srgbClr val="000000"/>
              </a:solidFill>
              <a:latin typeface="Arial"/>
            </a:endParaRPr>
          </a:p>
          <a:p>
            <a:pPr lvl="1" marL="324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43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denotes no impacts)</a:t>
            </a:r>
            <a:endParaRPr b="1" lang="en-US" sz="1600" spc="-1" strike="noStrike">
              <a:solidFill>
                <a:srgbClr val="000000"/>
              </a:solidFill>
              <a:latin typeface="Arial"/>
            </a:endParaRPr>
          </a:p>
          <a:p>
            <a:pPr lvl="1" marL="324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24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24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24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24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24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43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70c0"/>
                </a:solidFill>
                <a:latin typeface="Arial"/>
              </a:rPr>
              <a:t>	</a:t>
            </a:r>
            <a:endParaRPr b="1" lang="en-US" sz="1600" spc="-1" strike="noStrike">
              <a:solidFill>
                <a:srgbClr val="000000"/>
              </a:solidFill>
              <a:latin typeface="Arial"/>
            </a:endParaRPr>
          </a:p>
          <a:p>
            <a:pPr marL="243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43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0949a"/>
                </a:solidFill>
                <a:latin typeface="Arial"/>
              </a:rPr>
              <a:t>	</a:t>
            </a:r>
            <a:endParaRPr b="1" lang="en-US" sz="1600" spc="-1" strike="noStrike">
              <a:solidFill>
                <a:srgbClr val="000000"/>
              </a:solidFill>
              <a:latin typeface="Arial"/>
            </a:endParaRPr>
          </a:p>
          <a:p>
            <a:pPr marL="243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	</a:t>
            </a:r>
            <a:endParaRPr b="1" lang="en-US" sz="1600" spc="-1" strike="noStrike">
              <a:solidFill>
                <a:srgbClr val="000000"/>
              </a:solidFill>
              <a:latin typeface="Arial"/>
            </a:endParaRPr>
          </a:p>
          <a:p>
            <a:pPr marL="243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43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tems for a Vote</a:t>
            </a:r>
            <a:endParaRPr b="0" lang="en-US" sz="2000" spc="-1" strike="noStrike">
              <a:solidFill>
                <a:srgbClr val="000000"/>
              </a:solidFill>
              <a:latin typeface="Arial Black"/>
            </a:endParaRPr>
          </a:p>
        </p:txBody>
      </p:sp>
      <p:sp>
        <p:nvSpPr>
          <p:cNvPr id="101" name="PlaceHolder 2"/>
          <p:cNvSpPr>
            <a:spLocks noGrp="1"/>
          </p:cNvSpPr>
          <p:nvPr>
            <p:ph/>
          </p:nvPr>
        </p:nvSpPr>
        <p:spPr>
          <a:xfrm>
            <a:off x="228600" y="838080"/>
            <a:ext cx="8153280" cy="5639040"/>
          </a:xfrm>
          <a:prstGeom prst="rect">
            <a:avLst/>
          </a:prstGeom>
          <a:noFill/>
          <a:ln w="0">
            <a:noFill/>
          </a:ln>
        </p:spPr>
        <p:txBody>
          <a:bodyPr anchor="t">
            <a:normAutofit fontScale="65000"/>
          </a:bodyPr>
          <a:p>
            <a:pPr marL="222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commendations with Opposing Votes</a:t>
            </a:r>
            <a:endParaRPr b="1" lang="en-US" sz="1800" spc="-1" strike="noStrike">
              <a:solidFill>
                <a:srgbClr val="000000"/>
              </a:solidFill>
              <a:latin typeface="Arial"/>
            </a:endParaRPr>
          </a:p>
          <a:p>
            <a:pPr marL="222840" indent="-222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524, Resource Limits in Providing Ancillary Service - URGENT</a:t>
            </a:r>
            <a:endParaRPr b="1" lang="en-US" sz="1800" spc="-1" strike="noStrike">
              <a:solidFill>
                <a:srgbClr val="000000"/>
              </a:solidFill>
              <a:latin typeface="Arial"/>
            </a:endParaRPr>
          </a:p>
          <a:p>
            <a:pPr marL="222840" indent="-222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532, Performance Measurement and Verification and Telemetry Requirements for Load Resources Providing Non-Spin – URGENT</a:t>
            </a:r>
            <a:endParaRPr b="1" lang="en-US" sz="1800" spc="-1" strike="noStrike">
              <a:solidFill>
                <a:srgbClr val="000000"/>
              </a:solidFill>
              <a:latin typeface="Arial"/>
            </a:endParaRPr>
          </a:p>
          <a:p>
            <a:pPr marL="222840" indent="-222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536, ERS Time Obligation Certainty*</a:t>
            </a:r>
            <a:endParaRPr b="1" lang="en-US" sz="1800" spc="-1" strike="noStrike">
              <a:solidFill>
                <a:srgbClr val="000000"/>
              </a:solidFill>
              <a:latin typeface="Arial"/>
            </a:endParaRPr>
          </a:p>
          <a:p>
            <a:pPr marL="222840" indent="-222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549, Clarification for Posting Transmission Loss Factors*</a:t>
            </a:r>
            <a:endParaRPr b="1" lang="en-US" sz="1800" spc="-1" strike="noStrike">
              <a:solidFill>
                <a:srgbClr val="000000"/>
              </a:solidFill>
              <a:latin typeface="Arial"/>
            </a:endParaRPr>
          </a:p>
          <a:p>
            <a:pPr marL="222840" indent="-222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551,  Posting of Annual Planning Model - URGENT*</a:t>
            </a:r>
            <a:endParaRPr b="1" lang="en-US" sz="1800" spc="-1" strike="noStrike">
              <a:solidFill>
                <a:srgbClr val="000000"/>
              </a:solidFill>
              <a:latin typeface="Arial"/>
            </a:endParaRPr>
          </a:p>
          <a:p>
            <a:pPr lvl="1" marL="482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2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Withdrawn Revision Requests</a:t>
            </a:r>
            <a:endParaRPr b="1" lang="en-US" sz="1800" spc="-1" strike="noStrike">
              <a:solidFill>
                <a:srgbClr val="000000"/>
              </a:solidFill>
              <a:latin typeface="Arial"/>
            </a:endParaRPr>
          </a:p>
          <a:p>
            <a:pPr marL="222840" indent="-222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490, Clarification of TSP Definition and Confidentiality Obligations </a:t>
            </a:r>
            <a:endParaRPr b="1" lang="en-US" sz="1800" spc="-1" strike="noStrike">
              <a:solidFill>
                <a:srgbClr val="000000"/>
              </a:solidFill>
              <a:latin typeface="Arial"/>
            </a:endParaRPr>
          </a:p>
          <a:p>
            <a:pPr lvl="1" marL="482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82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82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82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82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82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2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denotes no impacts)</a:t>
            </a:r>
            <a:endParaRPr b="1" lang="en-US" sz="1600" spc="-1" strike="noStrike">
              <a:solidFill>
                <a:srgbClr val="000000"/>
              </a:solidFill>
              <a:latin typeface="Arial"/>
            </a:endParaRPr>
          </a:p>
          <a:p>
            <a:pPr lvl="1" marL="482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82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82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82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82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82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2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70c0"/>
                </a:solidFill>
                <a:latin typeface="Arial"/>
              </a:rPr>
              <a:t>	</a:t>
            </a:r>
            <a:endParaRPr b="1" lang="en-US" sz="1600" spc="-1" strike="noStrike">
              <a:solidFill>
                <a:srgbClr val="000000"/>
              </a:solidFill>
              <a:latin typeface="Arial"/>
            </a:endParaRPr>
          </a:p>
          <a:p>
            <a:pPr marL="222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2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0949a"/>
                </a:solidFill>
                <a:latin typeface="Arial"/>
              </a:rPr>
              <a:t>	</a:t>
            </a:r>
            <a:endParaRPr b="1" lang="en-US" sz="1600" spc="-1" strike="noStrike">
              <a:solidFill>
                <a:srgbClr val="000000"/>
              </a:solidFill>
              <a:latin typeface="Arial"/>
            </a:endParaRPr>
          </a:p>
          <a:p>
            <a:pPr marL="222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	</a:t>
            </a:r>
            <a:endParaRPr b="1" lang="en-US" sz="1600" spc="-1" strike="noStrike">
              <a:solidFill>
                <a:srgbClr val="000000"/>
              </a:solidFill>
              <a:latin typeface="Arial"/>
            </a:endParaRPr>
          </a:p>
          <a:p>
            <a:pPr marL="222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2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2"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PRR Descriptions</a:t>
            </a:r>
            <a:endParaRPr b="0" lang="en-US" sz="2000" spc="-1" strike="noStrike">
              <a:solidFill>
                <a:srgbClr val="000000"/>
              </a:solidFill>
              <a:latin typeface="Arial Black"/>
            </a:endParaRPr>
          </a:p>
        </p:txBody>
      </p:sp>
      <p:sp>
        <p:nvSpPr>
          <p:cNvPr id="104" name=""/>
          <p:cNvSpPr txBox="1"/>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NPRRs Recommended for Approval</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Black"/>
              </a:rPr>
              <a:t>NPRR524, Resource Limits in Providing Ancillary Service - URGENT</a:t>
            </a:r>
            <a:endParaRPr b="0" lang="en-US" sz="2000" spc="-1" strike="noStrike">
              <a:solidFill>
                <a:srgbClr val="000000"/>
              </a:solidFill>
              <a:latin typeface="Arial Black"/>
            </a:endParaRPr>
          </a:p>
        </p:txBody>
      </p:sp>
      <p:graphicFrame>
        <p:nvGraphicFramePr>
          <p:cNvPr id="106" name=""/>
          <p:cNvGraphicFramePr/>
          <p:nvPr/>
        </p:nvGraphicFramePr>
        <p:xfrm>
          <a:off x="228600" y="685800"/>
          <a:ext cx="8763120" cy="5872320"/>
        </p:xfrm>
        <a:graphic>
          <a:graphicData uri="http://schemas.openxmlformats.org/drawingml/2006/table">
            <a:tbl>
              <a:tblPr/>
              <a:tblGrid>
                <a:gridCol w="2397240"/>
                <a:gridCol w="6365880"/>
              </a:tblGrid>
              <a:tr h="10666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DF Suez)</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will allow Generation Resources with supplemental capacity that is not always frequency responsive to provide the supplemental capacity to the market and also continue to participate in the RRS Service marke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78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7/18/13, PRS voted to grant NPRR524 Urgent status, recommend approval of NPRR524 as amended by the 6/11/13 ERCOT comments, and direct that NPRR524 return to PRS with an Impact Analysis.  There were two opposing votes from the Consumer Market Segment and six abstentions from the Independent Generator, IPM (2), IREP, IOU and Municipal Market Segments.  On 8/22/13, PRS voted to endorse and forward the 7/18/13 PRS Report as amended by the 7/30/13 Luminant comments and Impact Analysis for NPRR524 to TAC with a recommended priority of 2013 and rank of 890.  There were six abstentions from the IREP, Consumer (2), IOU, Municipal and IPM Market Segment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tober 1, 2013 (for manual workaround); Upon System Implementation – Priority 2013; Rank 890 (for auto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k - $75k impacts to NMMS, EMS, and ISM;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33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s stranded capacity to be brought to the energy and Ancillary Service markets; and allows ERCOT to monitor supplemental capacity that may not be responsive to frequency at all tim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15192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527, Required Combined Cycle Telemetry for Operational Awareness and PDCWG Analysis </a:t>
            </a:r>
            <a:br>
              <a:rPr sz="2000"/>
            </a:br>
            <a:endParaRPr b="0" lang="en-US" sz="2000" spc="-1" strike="noStrike">
              <a:solidFill>
                <a:srgbClr val="000000"/>
              </a:solidFill>
              <a:latin typeface="Arial Black"/>
            </a:endParaRPr>
          </a:p>
        </p:txBody>
      </p:sp>
      <p:graphicFrame>
        <p:nvGraphicFramePr>
          <p:cNvPr id="108" name=""/>
          <p:cNvGraphicFramePr/>
          <p:nvPr/>
        </p:nvGraphicFramePr>
        <p:xfrm>
          <a:off x="228600" y="762120"/>
          <a:ext cx="8763120" cy="5410080"/>
        </p:xfrm>
        <a:graphic>
          <a:graphicData uri="http://schemas.openxmlformats.org/drawingml/2006/table">
            <a:tbl>
              <a:tblPr/>
              <a:tblGrid>
                <a:gridCol w="2397240"/>
                <a:gridCol w="6365880"/>
              </a:tblGrid>
              <a:tr h="14666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requires Combined Cycle Generation Resources to telemeter individual HSLs for gas and steam turbines.  The HSLs for combustion and steam turbines were previously submitted in the zonal market and ERCOT requests this practice be resumed in the Nodal marke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733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7/18/13, PRS unanimously voted to recommend approval of NPRR527 as amended by the 6/20/13 PDCWG comments and as revised by PRS.  On 8/22/13, PRS voted to endorse and forward the 7/18/13 PRS Report and Impact Analysis for NPRR527 to TAC with a recommended priority of 2014 and rank of 990.  There was one abstention from the Consumer Market Segmen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System Implementation – Priority 2014; Rank 990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k - $110k; impacts to NMM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557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es Market Participant’s time in manually researching and collecting the necessary data, which is not currently collected via telemetry; and preparing and attending PDCWG meeting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 name="Date Placeholder 3"/>
          <p:cNvSpPr/>
          <p:nvPr/>
        </p:nvSpPr>
        <p:spPr>
          <a:xfrm>
            <a:off x="6553080" y="63658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Public</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36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Black"/>
              </a:rPr>
              <a:t>NPRR532, Performance Measurement and Verification and Telemetry Requirements for Load Resources Providing Non-Spin – URGENT</a:t>
            </a:r>
            <a:endParaRPr b="0" lang="en-US" sz="1600" spc="-1" strike="noStrike">
              <a:solidFill>
                <a:srgbClr val="000000"/>
              </a:solidFill>
              <a:latin typeface="Arial Black"/>
            </a:endParaRPr>
          </a:p>
        </p:txBody>
      </p:sp>
      <p:graphicFrame>
        <p:nvGraphicFramePr>
          <p:cNvPr id="111" name=""/>
          <p:cNvGraphicFramePr/>
          <p:nvPr/>
        </p:nvGraphicFramePr>
        <p:xfrm>
          <a:off x="228600" y="685800"/>
          <a:ext cx="8763120" cy="5829480"/>
        </p:xfrm>
        <a:graphic>
          <a:graphicData uri="http://schemas.openxmlformats.org/drawingml/2006/table">
            <a:tbl>
              <a:tblPr/>
              <a:tblGrid>
                <a:gridCol w="2397240"/>
                <a:gridCol w="6365880"/>
              </a:tblGrid>
              <a:tr h="15843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W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NPRR enables participation in the Non-Spin Service market for Load Resources whose provision of Demand response is most accurately measured and verified using a baseline performance evaluation methodology; establishes a method for evaluating Non-Spin performance using a baseline methodology; and establishes new telemetry requirements for QSEs representing Load Resources to allow ERCOT’s systems to monitor the status and performance of those Load Resources in Real-Time.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85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6/20/13, PRS voted to recommend approval of NPRR532 as amended by the 6/18/13 Citigroup Energy comments.  There was one opposing vote from the Independent Generator Market Segment and five abstentions from the Consumer, Independent Generator, IPM and IOU (2) Market Segments.  On 8/22/13, PRS voted to grant NPRR532 Urgent status.  There was one abstention from the Consumer Market Segment.  PRS then unanimously voted to endorse and forward the 7/18/13 PRS Report and Impact Analysis for NPRR532 to TAC with a recommended priority of 2013 and rank of 86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on System Implementation – Priority 2013; Rank 865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0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5k - $425k (system implementation) and $120k - $130k (annual recurring O&amp;M); 0.5 FTEs; impacts to MMS, EMS, NMMS, EI, ISM, and MIS; ERCOT business functions will be updated; ERCOT grid operations and practices will be updat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653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ngs the Load from Demand Resource management to the Non-Spin Service market; Increases tools for Market Participants to manage Resources and price volatility; Creates ability to bid, schedule, trade, track, and settle Load Resources in the wholesale energy and Non-Spin Service marke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5192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536, ERS Time Obligation Certainty </a:t>
            </a:r>
            <a:br>
              <a:rPr sz="2000"/>
            </a:br>
            <a:endParaRPr b="0" lang="en-US" sz="2000" spc="-1" strike="noStrike">
              <a:solidFill>
                <a:srgbClr val="000000"/>
              </a:solidFill>
              <a:latin typeface="Arial Black"/>
            </a:endParaRPr>
          </a:p>
        </p:txBody>
      </p:sp>
      <p:graphicFrame>
        <p:nvGraphicFramePr>
          <p:cNvPr id="113" name=""/>
          <p:cNvGraphicFramePr/>
          <p:nvPr/>
        </p:nvGraphicFramePr>
        <p:xfrm>
          <a:off x="228600" y="762120"/>
          <a:ext cx="8763120" cy="5649840"/>
        </p:xfrm>
        <a:graphic>
          <a:graphicData uri="http://schemas.openxmlformats.org/drawingml/2006/table">
            <a:tbl>
              <a:tblPr/>
              <a:tblGrid>
                <a:gridCol w="2397240"/>
                <a:gridCol w="6365880"/>
              </a:tblGrid>
              <a:tr h="14666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W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PRR strikes language which has the effect of creating an uncertain and indefinite obligation to provide ongoing Demand response capacity in an Emergency Condition.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131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6/20/13, PRS voted to recommend approval of NPRR536 as submitted.  There were two opposing votes from the IPM and IOU Market Segments and one abstention from the Consumer Market Segment.  On 7/18/13, PRS voted to endorse and forward the 6/20/13 PRS Report and Impact Analysis for NPRR536 to TAC.  There was one abstention from the IOU Market Segment. </a:t>
                      </a:r>
                      <a:r>
                        <a:rPr b="0" lang="en-US"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ember 1, 20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impacts (business functions will be upd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557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more likely to fully subscribe ERS, as additional loads will be able to participate; gives ERCOT the option to dispatch ERS Loads in tranch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4" name="Date Placeholder 3"/>
          <p:cNvSpPr/>
          <p:nvPr/>
        </p:nvSpPr>
        <p:spPr>
          <a:xfrm>
            <a:off x="6553080" y="63658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Public</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Thomas Burke</dc:creator>
  <dc:description/>
  <dc:language>en-US</dc:language>
  <cp:lastModifiedBy>A. Boren</cp:lastModifiedBy>
  <dcterms:modified xsi:type="dcterms:W3CDTF">2013-09-03T15:02:31Z</dcterms:modified>
  <cp:revision>715</cp:revision>
  <dc:subject/>
  <dc:title>Instructions</dc:title>
</cp:coreProperties>
</file>