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dt" idx="1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1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 type="sldNum" idx="1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41BBA-B629-4B9E-81B3-423254AE2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0DEF0-8BD2-49BF-82A1-122FBA20D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3B778-F003-48DF-8AB8-ED21FC4A2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62D29-BBB9-4145-95C6-59939ACB0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2C078-67C3-4BDF-AFB6-03A5F2C86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F8841-3B2A-483A-8BED-413802F73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113A-DA94-45DD-B0BD-F0A81A747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8D98A-F496-44CB-A674-866DD86FD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D33-C4BB-430A-8704-B2BC73DF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343-A874-4267-A9F2-27D06ACE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490-7226-47F5-B660-1A17FFDD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3D8-F10B-468B-908F-709029F1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2B4-F6E9-416F-BEA3-AAB450F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E75-AD41-47CD-8D5A-09FAD4F3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EF9-BDCD-48B8-8F2F-0F14D84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C71-23E0-4CB2-88F7-EAC46F6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B7A-25FE-4B92-8310-8EAC901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BDD-61B2-40DB-9796-E104F2F5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D86-F0DC-47E3-AA32-B649AA45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682-6604-49C3-B082-58E6FB78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41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93FCF-60AD-481E-BD34-E9A13B82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0166D-B4A1-48B4-9C32-1BA782005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3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34D6D-0302-4369-A01D-359ECD32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556F2-F02B-40EA-B1E3-1C22F10D1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09D50-C619-4F66-AD2E-5CD80E8B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DDF39-0029-46F4-9D64-ED71B363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399FF-A8D2-46B1-83FB-CC553C60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9A108-2794-4F36-966E-B495391E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33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D79EA-BCE8-467E-B72F-690AA860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3"/>
          <p:cNvGrpSpPr/>
          <p:nvPr/>
        </p:nvGrpSpPr>
        <p:grpSpPr>
          <a:xfrm>
            <a:off x="787320" y="2804760"/>
            <a:ext cx="8109000" cy="2703600"/>
            <a:chOff x="787320" y="2804760"/>
            <a:chExt cx="8109000" cy="2703600"/>
          </a:xfrm>
        </p:grpSpPr>
        <p:sp>
          <p:nvSpPr>
            <p:cNvPr id="465" name="TextBox 9"/>
            <p:cNvSpPr/>
            <p:nvPr/>
          </p:nvSpPr>
          <p:spPr>
            <a:xfrm>
              <a:off x="787320" y="2854080"/>
              <a:ext cx="8109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xt Steps to Reduce the RTM Settlement Time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ust 29, 2013 COPS Workshop Update to T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ika Basar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PS Ch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tember 5, 20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12"/>
            <p:cNvSpPr/>
            <p:nvPr/>
          </p:nvSpPr>
          <p:spPr>
            <a:xfrm flipV="1">
              <a:off x="787320" y="2804760"/>
              <a:ext cx="67582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a second workshop in lieu of September COP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0, 2013 Tuesday WEBEX and Me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s and cons of the each option for each 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n systems &amp; staffing of each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s there a floor of OD + X that market should not go below that is determined by posting of the final RTM prices and availability of good generation data &amp; trade da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does the cost of reducing time line and adding another settlement run becomes more than benefits achieved with reduced risk of default uplif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 of the second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n option all MPs can agree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 hybrid of all 3 options most of the MPs can agree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t define alternatives with pros and cons for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NPRR language and time line for implementation of the 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8"/>
          <p:cNvGrpSpPr/>
          <p:nvPr/>
        </p:nvGrpSpPr>
        <p:grpSpPr>
          <a:xfrm>
            <a:off x="1295280" y="2514600"/>
            <a:ext cx="6553440" cy="2066760"/>
            <a:chOff x="1295280" y="2514600"/>
            <a:chExt cx="6553440" cy="2066760"/>
          </a:xfrm>
        </p:grpSpPr>
        <p:sp>
          <p:nvSpPr>
            <p:cNvPr id="488" name="TextBox 1"/>
            <p:cNvSpPr/>
            <p:nvPr/>
          </p:nvSpPr>
          <p:spPr>
            <a:xfrm>
              <a:off x="1295280" y="3011760"/>
              <a:ext cx="6553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ollowing slides are provided for informational purposes only and were developed by ERCOT Staff for the worksh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3"/>
            <p:cNvSpPr/>
            <p:nvPr/>
          </p:nvSpPr>
          <p:spPr>
            <a:xfrm>
              <a:off x="1428480" y="251460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traight Connector 5"/>
            <p:cNvSpPr/>
            <p:nvPr/>
          </p:nvSpPr>
          <p:spPr>
            <a:xfrm>
              <a:off x="1428480" y="458136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8"/>
          <p:cNvGrpSpPr/>
          <p:nvPr/>
        </p:nvGrpSpPr>
        <p:grpSpPr>
          <a:xfrm>
            <a:off x="1295280" y="2735280"/>
            <a:ext cx="6553440" cy="1431000"/>
            <a:chOff x="1295280" y="2735280"/>
            <a:chExt cx="6553440" cy="1431000"/>
          </a:xfrm>
        </p:grpSpPr>
        <p:sp>
          <p:nvSpPr>
            <p:cNvPr id="492" name="TextBox 1"/>
            <p:cNvSpPr/>
            <p:nvPr/>
          </p:nvSpPr>
          <p:spPr>
            <a:xfrm>
              <a:off x="1295280" y="3097440"/>
              <a:ext cx="6553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ttlement Cycle Effect on ERCOT Credit Expos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5"/>
            <p:cNvSpPr/>
            <p:nvPr/>
          </p:nvSpPr>
          <p:spPr>
            <a:xfrm>
              <a:off x="1437840" y="41230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cycle effect on credi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569880" y="7812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’s credit exposure calculation addresses a number of credit risk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1181160" y="2068560"/>
            <a:ext cx="6756480" cy="4140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ular Callout 3"/>
          <p:cNvSpPr/>
          <p:nvPr/>
        </p:nvSpPr>
        <p:spPr>
          <a:xfrm>
            <a:off x="6896160" y="1335240"/>
            <a:ext cx="1041480" cy="525240"/>
          </a:xfrm>
          <a:prstGeom prst="wedgeRectCallout">
            <a:avLst>
              <a:gd name="adj1" fmla="val -36138"/>
              <a:gd name="adj2" fmla="val 147412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osure that must be sec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ular Callout 8"/>
          <p:cNvSpPr/>
          <p:nvPr/>
        </p:nvSpPr>
        <p:spPr>
          <a:xfrm>
            <a:off x="2316240" y="1351080"/>
            <a:ext cx="1041480" cy="525240"/>
          </a:xfrm>
          <a:prstGeom prst="wedgeRectCallout">
            <a:avLst>
              <a:gd name="adj1" fmla="val 33250"/>
              <a:gd name="adj2" fmla="val 147412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osure that may be unsec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ular Callout 9"/>
          <p:cNvSpPr/>
          <p:nvPr/>
        </p:nvSpPr>
        <p:spPr>
          <a:xfrm>
            <a:off x="7591320" y="2286000"/>
            <a:ext cx="1042920" cy="525600"/>
          </a:xfrm>
          <a:prstGeom prst="wedgeRectCallout">
            <a:avLst>
              <a:gd name="adj1" fmla="val -37157"/>
              <a:gd name="adj2" fmla="val 115064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ture exposure from CR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ular Callout 10"/>
          <p:cNvSpPr/>
          <p:nvPr/>
        </p:nvSpPr>
        <p:spPr>
          <a:xfrm>
            <a:off x="295200" y="4102200"/>
            <a:ext cx="1041480" cy="527040"/>
          </a:xfrm>
          <a:prstGeom prst="wedgeRectCallout">
            <a:avLst>
              <a:gd name="adj1" fmla="val 66921"/>
              <a:gd name="adj2" fmla="val 993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 Market expo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ular Callout 11"/>
          <p:cNvSpPr/>
          <p:nvPr/>
        </p:nvSpPr>
        <p:spPr>
          <a:xfrm>
            <a:off x="295200" y="4764240"/>
            <a:ext cx="1042920" cy="574560"/>
          </a:xfrm>
          <a:prstGeom prst="wedgeRectCallout">
            <a:avLst>
              <a:gd name="adj1" fmla="val 56740"/>
              <a:gd name="adj2" fmla="val 312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 Time Market expo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ular Callout 12"/>
          <p:cNvSpPr/>
          <p:nvPr/>
        </p:nvSpPr>
        <p:spPr>
          <a:xfrm>
            <a:off x="3517920" y="3713040"/>
            <a:ext cx="1041480" cy="525600"/>
          </a:xfrm>
          <a:prstGeom prst="wedgeRectCallout">
            <a:avLst>
              <a:gd name="adj1" fmla="val -85120"/>
              <a:gd name="adj2" fmla="val 133259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 transition risk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ular Callout 15"/>
          <p:cNvSpPr/>
          <p:nvPr/>
        </p:nvSpPr>
        <p:spPr>
          <a:xfrm>
            <a:off x="297000" y="5484960"/>
            <a:ext cx="1039680" cy="525240"/>
          </a:xfrm>
          <a:prstGeom prst="wedgeRectCallout">
            <a:avLst>
              <a:gd name="adj1" fmla="val 64879"/>
              <a:gd name="adj2" fmla="val 7912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billed/unpaid am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ular Callout 16"/>
          <p:cNvSpPr/>
          <p:nvPr/>
        </p:nvSpPr>
        <p:spPr>
          <a:xfrm>
            <a:off x="295200" y="3441600"/>
            <a:ext cx="1041480" cy="527040"/>
          </a:xfrm>
          <a:prstGeom prst="wedgeRectCallout">
            <a:avLst>
              <a:gd name="adj1" fmla="val 65902"/>
              <a:gd name="adj2" fmla="val 4430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s for new Counter-Pa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ular Callout 17"/>
          <p:cNvSpPr/>
          <p:nvPr/>
        </p:nvSpPr>
        <p:spPr>
          <a:xfrm>
            <a:off x="1181160" y="2022480"/>
            <a:ext cx="1041480" cy="527040"/>
          </a:xfrm>
          <a:prstGeom prst="wedgeRectCallout">
            <a:avLst>
              <a:gd name="adj1" fmla="val 105699"/>
              <a:gd name="adj2" fmla="val 5643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collateral am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18"/>
          <p:cNvSpPr/>
          <p:nvPr/>
        </p:nvSpPr>
        <p:spPr>
          <a:xfrm>
            <a:off x="1370160" y="4572000"/>
            <a:ext cx="320400" cy="1030320"/>
          </a:xfrm>
          <a:custGeom>
            <a:avLst/>
            <a:gdLst>
              <a:gd name="textAreaLeft" fmla="*/ 204840 w 320400"/>
              <a:gd name="textAreaRight" fmla="*/ 320760 w 320400"/>
              <a:gd name="textAreaTop" fmla="*/ 8280 h 1030320"/>
              <a:gd name="textAreaBottom" fmla="*/ 1022040 h 103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0"/>
                  <a:pt x="10800" y="560"/>
                </a:cubicBezTo>
                <a:lnTo>
                  <a:pt x="10800" y="10240"/>
                </a:lnTo>
                <a:cubicBezTo>
                  <a:pt x="10800" y="10520"/>
                  <a:pt x="5400" y="10800"/>
                  <a:pt x="0" y="10800"/>
                </a:cubicBezTo>
                <a:cubicBezTo>
                  <a:pt x="5400" y="10800"/>
                  <a:pt x="10800" y="11080"/>
                  <a:pt x="10800" y="11360"/>
                </a:cubicBezTo>
                <a:lnTo>
                  <a:pt x="10800" y="21040"/>
                </a:lnTo>
                <a:cubicBezTo>
                  <a:pt x="10800" y="2132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ular Callout 19"/>
          <p:cNvSpPr/>
          <p:nvPr/>
        </p:nvSpPr>
        <p:spPr>
          <a:xfrm>
            <a:off x="3718080" y="2433600"/>
            <a:ext cx="1041120" cy="527040"/>
          </a:xfrm>
          <a:prstGeom prst="wedgeRectCallout">
            <a:avLst>
              <a:gd name="adj1" fmla="val -69814"/>
              <a:gd name="adj2" fmla="val 113041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 exposure for Q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ular Callout 20"/>
          <p:cNvSpPr/>
          <p:nvPr/>
        </p:nvSpPr>
        <p:spPr>
          <a:xfrm>
            <a:off x="3900600" y="3065400"/>
            <a:ext cx="1042920" cy="525600"/>
          </a:xfrm>
          <a:prstGeom prst="wedgeRectCallout">
            <a:avLst>
              <a:gd name="adj1" fmla="val 73041"/>
              <a:gd name="adj2" fmla="val 28129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 exposure for CRRA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1"/>
          <p:cNvSpPr/>
          <p:nvPr/>
        </p:nvSpPr>
        <p:spPr>
          <a:xfrm>
            <a:off x="1065240" y="6024600"/>
            <a:ext cx="136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ular Callout 22"/>
          <p:cNvSpPr/>
          <p:nvPr/>
        </p:nvSpPr>
        <p:spPr>
          <a:xfrm>
            <a:off x="3537000" y="5027760"/>
            <a:ext cx="1041480" cy="527040"/>
          </a:xfrm>
          <a:prstGeom prst="wedgeRectCallout">
            <a:avLst>
              <a:gd name="adj1" fmla="val -91240"/>
              <a:gd name="adj2" fmla="val 718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ettled Real Time compon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ular Callout 23"/>
          <p:cNvSpPr/>
          <p:nvPr/>
        </p:nvSpPr>
        <p:spPr>
          <a:xfrm>
            <a:off x="3517920" y="4365720"/>
            <a:ext cx="1041480" cy="525240"/>
          </a:xfrm>
          <a:prstGeom prst="wedgeRectCallout">
            <a:avLst>
              <a:gd name="adj1" fmla="val -84550"/>
              <a:gd name="adj2" fmla="val 9259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d Real Time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ular Callout 24"/>
          <p:cNvSpPr/>
          <p:nvPr/>
        </p:nvSpPr>
        <p:spPr>
          <a:xfrm>
            <a:off x="3517920" y="5602320"/>
            <a:ext cx="1041480" cy="525600"/>
          </a:xfrm>
          <a:prstGeom prst="wedgeRectCallout">
            <a:avLst>
              <a:gd name="adj1" fmla="val -81490"/>
              <a:gd name="adj2" fmla="val -6767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ettled Real Time compon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569880" y="7812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cycle revisions affect the indicated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" descr=""/>
          <p:cNvPicPr/>
          <p:nvPr/>
        </p:nvPicPr>
        <p:blipFill>
          <a:blip r:embed="rId1"/>
          <a:stretch/>
        </p:blipFill>
        <p:spPr>
          <a:xfrm>
            <a:off x="1181160" y="2068560"/>
            <a:ext cx="6756480" cy="4140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ular Callout 3"/>
          <p:cNvSpPr/>
          <p:nvPr/>
        </p:nvSpPr>
        <p:spPr>
          <a:xfrm>
            <a:off x="6896160" y="1335240"/>
            <a:ext cx="1041480" cy="525240"/>
          </a:xfrm>
          <a:prstGeom prst="wedgeRectCallout">
            <a:avLst>
              <a:gd name="adj1" fmla="val -36138"/>
              <a:gd name="adj2" fmla="val 147412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osure that must be sec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ular Callout 8"/>
          <p:cNvSpPr/>
          <p:nvPr/>
        </p:nvSpPr>
        <p:spPr>
          <a:xfrm>
            <a:off x="2316240" y="1351080"/>
            <a:ext cx="1041480" cy="525240"/>
          </a:xfrm>
          <a:prstGeom prst="wedgeRectCallout">
            <a:avLst>
              <a:gd name="adj1" fmla="val 33250"/>
              <a:gd name="adj2" fmla="val 147412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osure that may be unsec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ular Callout 9"/>
          <p:cNvSpPr/>
          <p:nvPr/>
        </p:nvSpPr>
        <p:spPr>
          <a:xfrm>
            <a:off x="7591320" y="2286000"/>
            <a:ext cx="1042920" cy="525600"/>
          </a:xfrm>
          <a:prstGeom prst="wedgeRectCallout">
            <a:avLst>
              <a:gd name="adj1" fmla="val -37157"/>
              <a:gd name="adj2" fmla="val 115064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ture exposure from CR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ular Callout 10"/>
          <p:cNvSpPr/>
          <p:nvPr/>
        </p:nvSpPr>
        <p:spPr>
          <a:xfrm>
            <a:off x="295200" y="4102200"/>
            <a:ext cx="1041480" cy="527040"/>
          </a:xfrm>
          <a:prstGeom prst="wedgeRectCallout">
            <a:avLst>
              <a:gd name="adj1" fmla="val 66921"/>
              <a:gd name="adj2" fmla="val 993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 Market expo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ular Callout 11"/>
          <p:cNvSpPr/>
          <p:nvPr/>
        </p:nvSpPr>
        <p:spPr>
          <a:xfrm>
            <a:off x="295200" y="4764240"/>
            <a:ext cx="1042920" cy="574560"/>
          </a:xfrm>
          <a:prstGeom prst="wedgeRectCallout">
            <a:avLst>
              <a:gd name="adj1" fmla="val 56740"/>
              <a:gd name="adj2" fmla="val 312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 Time Market expo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ular Callout 12"/>
          <p:cNvSpPr/>
          <p:nvPr/>
        </p:nvSpPr>
        <p:spPr>
          <a:xfrm>
            <a:off x="3517920" y="3713040"/>
            <a:ext cx="1041480" cy="525600"/>
          </a:xfrm>
          <a:prstGeom prst="wedgeRectCallout">
            <a:avLst>
              <a:gd name="adj1" fmla="val -85120"/>
              <a:gd name="adj2" fmla="val 133259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 transition risk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ular Callout 14"/>
          <p:cNvSpPr/>
          <p:nvPr/>
        </p:nvSpPr>
        <p:spPr>
          <a:xfrm>
            <a:off x="3537000" y="5027760"/>
            <a:ext cx="1041480" cy="527040"/>
          </a:xfrm>
          <a:prstGeom prst="wedgeRectCallout">
            <a:avLst>
              <a:gd name="adj1" fmla="val -91240"/>
              <a:gd name="adj2" fmla="val 7185"/>
            </a:avLst>
          </a:prstGeom>
          <a:solidFill>
            <a:srgbClr val="f7474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ettled Real Time compon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ular Callout 16"/>
          <p:cNvSpPr/>
          <p:nvPr/>
        </p:nvSpPr>
        <p:spPr>
          <a:xfrm>
            <a:off x="295200" y="3441600"/>
            <a:ext cx="1041480" cy="527040"/>
          </a:xfrm>
          <a:prstGeom prst="wedgeRectCallout">
            <a:avLst>
              <a:gd name="adj1" fmla="val 65902"/>
              <a:gd name="adj2" fmla="val 4430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s for new Counter-Pa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ular Callout 17"/>
          <p:cNvSpPr/>
          <p:nvPr/>
        </p:nvSpPr>
        <p:spPr>
          <a:xfrm>
            <a:off x="1181160" y="2022480"/>
            <a:ext cx="1041480" cy="527040"/>
          </a:xfrm>
          <a:prstGeom prst="wedgeRectCallout">
            <a:avLst>
              <a:gd name="adj1" fmla="val 105699"/>
              <a:gd name="adj2" fmla="val 56435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collateral am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eft Brace 18"/>
          <p:cNvSpPr/>
          <p:nvPr/>
        </p:nvSpPr>
        <p:spPr>
          <a:xfrm>
            <a:off x="1370160" y="4572000"/>
            <a:ext cx="320400" cy="1030320"/>
          </a:xfrm>
          <a:custGeom>
            <a:avLst/>
            <a:gdLst>
              <a:gd name="textAreaLeft" fmla="*/ 204840 w 320400"/>
              <a:gd name="textAreaRight" fmla="*/ 320760 w 320400"/>
              <a:gd name="textAreaTop" fmla="*/ 8280 h 1030320"/>
              <a:gd name="textAreaBottom" fmla="*/ 1022040 h 103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0"/>
                  <a:pt x="10800" y="560"/>
                </a:cubicBezTo>
                <a:lnTo>
                  <a:pt x="10800" y="10240"/>
                </a:lnTo>
                <a:cubicBezTo>
                  <a:pt x="10800" y="10520"/>
                  <a:pt x="5400" y="10800"/>
                  <a:pt x="0" y="10800"/>
                </a:cubicBezTo>
                <a:cubicBezTo>
                  <a:pt x="5400" y="10800"/>
                  <a:pt x="10800" y="11080"/>
                  <a:pt x="10800" y="11360"/>
                </a:cubicBezTo>
                <a:lnTo>
                  <a:pt x="10800" y="21040"/>
                </a:lnTo>
                <a:cubicBezTo>
                  <a:pt x="10800" y="2132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ular Callout 19"/>
          <p:cNvSpPr/>
          <p:nvPr/>
        </p:nvSpPr>
        <p:spPr>
          <a:xfrm>
            <a:off x="3718080" y="2433600"/>
            <a:ext cx="1041120" cy="527040"/>
          </a:xfrm>
          <a:prstGeom prst="wedgeRectCallout">
            <a:avLst>
              <a:gd name="adj1" fmla="val -69814"/>
              <a:gd name="adj2" fmla="val 113041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 exposure for Q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ular Callout 20"/>
          <p:cNvSpPr/>
          <p:nvPr/>
        </p:nvSpPr>
        <p:spPr>
          <a:xfrm>
            <a:off x="3900600" y="3065400"/>
            <a:ext cx="1042920" cy="525600"/>
          </a:xfrm>
          <a:prstGeom prst="wedgeRectCallout">
            <a:avLst>
              <a:gd name="adj1" fmla="val 73041"/>
              <a:gd name="adj2" fmla="val 28129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 exposure for CRRA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ular Callout 21"/>
          <p:cNvSpPr/>
          <p:nvPr/>
        </p:nvSpPr>
        <p:spPr>
          <a:xfrm>
            <a:off x="6286680" y="3065400"/>
            <a:ext cx="1041120" cy="525600"/>
          </a:xfrm>
          <a:prstGeom prst="wedgeRectCallout">
            <a:avLst>
              <a:gd name="adj1" fmla="val -63208"/>
              <a:gd name="adj2" fmla="val 120680"/>
            </a:avLst>
          </a:prstGeom>
          <a:solidFill>
            <a:srgbClr val="f7474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ettled Real Time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cycle effect on credi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6"/>
          <p:cNvSpPr/>
          <p:nvPr/>
        </p:nvSpPr>
        <p:spPr>
          <a:xfrm>
            <a:off x="1065240" y="6024600"/>
            <a:ext cx="136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ular Callout 24"/>
          <p:cNvSpPr/>
          <p:nvPr/>
        </p:nvSpPr>
        <p:spPr>
          <a:xfrm>
            <a:off x="3517920" y="4365720"/>
            <a:ext cx="1041480" cy="525240"/>
          </a:xfrm>
          <a:prstGeom prst="wedgeRectCallout">
            <a:avLst>
              <a:gd name="adj1" fmla="val -84550"/>
              <a:gd name="adj2" fmla="val 9259"/>
            </a:avLst>
          </a:prstGeom>
          <a:solidFill>
            <a:srgbClr val="f7474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d Real Time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ular Callout 27"/>
          <p:cNvSpPr/>
          <p:nvPr/>
        </p:nvSpPr>
        <p:spPr>
          <a:xfrm>
            <a:off x="3517920" y="5602320"/>
            <a:ext cx="1041480" cy="525600"/>
          </a:xfrm>
          <a:prstGeom prst="wedgeRectCallout">
            <a:avLst>
              <a:gd name="adj1" fmla="val -81490"/>
              <a:gd name="adj2" fmla="val -67675"/>
            </a:avLst>
          </a:prstGeom>
          <a:solidFill>
            <a:srgbClr val="f7474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ettled Real Time compon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ular Callout 28"/>
          <p:cNvSpPr/>
          <p:nvPr/>
        </p:nvSpPr>
        <p:spPr>
          <a:xfrm>
            <a:off x="6794640" y="3876840"/>
            <a:ext cx="1041120" cy="525240"/>
          </a:xfrm>
          <a:prstGeom prst="wedgeRectCallout">
            <a:avLst>
              <a:gd name="adj1" fmla="val -102212"/>
              <a:gd name="adj2" fmla="val 24087"/>
            </a:avLst>
          </a:prstGeom>
          <a:solidFill>
            <a:srgbClr val="f7474b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ettled Real Time compon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ular Callout 22"/>
          <p:cNvSpPr/>
          <p:nvPr/>
        </p:nvSpPr>
        <p:spPr>
          <a:xfrm>
            <a:off x="297000" y="5484960"/>
            <a:ext cx="1039680" cy="525240"/>
          </a:xfrm>
          <a:prstGeom prst="wedgeRectCallout">
            <a:avLst>
              <a:gd name="adj1" fmla="val 64879"/>
              <a:gd name="adj2" fmla="val 7912"/>
            </a:avLst>
          </a:prstGeom>
          <a:solidFill>
            <a:srgbClr val="fff4c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billed/unpaid am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Content Placeholder 2"/>
          <p:cNvSpPr/>
          <p:nvPr/>
        </p:nvSpPr>
        <p:spPr>
          <a:xfrm>
            <a:off x="457200" y="674640"/>
            <a:ext cx="83818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impact on total ERCOT credit exposures for different Real-Time Market settlement cy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1065240" y="6024600"/>
            <a:ext cx="686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cycle effect on credi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"/>
          <p:cNvSpPr/>
          <p:nvPr/>
        </p:nvSpPr>
        <p:spPr>
          <a:xfrm>
            <a:off x="901800" y="3936960"/>
            <a:ext cx="6362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2 factor reflects unbilled historical activity.  It reduces to 10 days in September to reflect the settlement cycle reduction from 9 to 7 days.  The M1 factor reflects forward ris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spikes will increase exposure under any scen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TA adjusted by changing M2 fa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 rata adjustments to RTLC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698400" y="1565280"/>
            <a:ext cx="7772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5"/>
          <p:cNvSpPr/>
          <p:nvPr/>
        </p:nvSpPr>
        <p:spPr>
          <a:xfrm>
            <a:off x="1065240" y="6024600"/>
            <a:ext cx="686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cycle effect on credi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ontent Placeholder 2"/>
          <p:cNvSpPr/>
          <p:nvPr/>
        </p:nvSpPr>
        <p:spPr>
          <a:xfrm>
            <a:off x="457200" y="674640"/>
            <a:ext cx="83818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impact on credit exposures for different Real-Time Market settlement cy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2001960" y="1812960"/>
            <a:ext cx="5165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Content Placeholder 2"/>
          <p:cNvSpPr/>
          <p:nvPr/>
        </p:nvSpPr>
        <p:spPr>
          <a:xfrm>
            <a:off x="457200" y="674640"/>
            <a:ext cx="83818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exposure does not decrease pro rata to RT settlement 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"/>
          <p:cNvSpPr/>
          <p:nvPr/>
        </p:nvSpPr>
        <p:spPr>
          <a:xfrm>
            <a:off x="1065240" y="6024600"/>
            <a:ext cx="686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cycle effect on credit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TextBox 7" descr=""/>
          <p:cNvPicPr/>
          <p:nvPr/>
        </p:nvPicPr>
        <p:blipFill>
          <a:blip r:embed="rId1"/>
          <a:stretch/>
        </p:blipFill>
        <p:spPr>
          <a:xfrm>
            <a:off x="963720" y="1712880"/>
            <a:ext cx="6748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8"/>
          <p:cNvGrpSpPr/>
          <p:nvPr/>
        </p:nvGrpSpPr>
        <p:grpSpPr>
          <a:xfrm>
            <a:off x="1295280" y="2989440"/>
            <a:ext cx="6553440" cy="1387440"/>
            <a:chOff x="1295280" y="2989440"/>
            <a:chExt cx="6553440" cy="1387440"/>
          </a:xfrm>
        </p:grpSpPr>
        <p:sp>
          <p:nvSpPr>
            <p:cNvPr id="549" name="TextBox 1"/>
            <p:cNvSpPr/>
            <p:nvPr/>
          </p:nvSpPr>
          <p:spPr>
            <a:xfrm>
              <a:off x="1295280" y="3351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urrent St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3"/>
            <p:cNvSpPr/>
            <p:nvPr/>
          </p:nvSpPr>
          <p:spPr>
            <a:xfrm>
              <a:off x="1428480" y="298944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traight Connector 5"/>
            <p:cNvSpPr/>
            <p:nvPr/>
          </p:nvSpPr>
          <p:spPr>
            <a:xfrm>
              <a:off x="1437840" y="43768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ERCOT’s RTM Settlement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30120" y="712800"/>
          <a:ext cx="8534520" cy="5126040"/>
        </p:xfrm>
        <a:graphic>
          <a:graphicData uri="http://schemas.openxmlformats.org/drawingml/2006/table">
            <a:tbl>
              <a:tblPr/>
              <a:tblGrid>
                <a:gridCol w="2362320"/>
                <a:gridCol w="1981080"/>
                <a:gridCol w="4191120"/>
              </a:tblGrid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000 –2/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d Weekly, due in 5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002 – 12/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+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d Weekly, due in 5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06 – 11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+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d Weekly, due in 5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11 – 3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+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d Weekly, due in 5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, OD+9, due in 2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13 – 7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+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, OD+8, due in 2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013  to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+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, OD+7, due in 2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l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, due in 2 B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</a:tbl>
          </a:graphicData>
        </a:graphic>
      </p:graphicFrame>
      <p:sp>
        <p:nvSpPr>
          <p:cNvPr id="554" name="TextBox 3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29, 2013  COPS Workshop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attended by diverse stake 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presentations by ERCOT &amp; T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aterials posted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http://www.ercot.com/calendar/2013/08/20130829-C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more fact finding and educating on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icipants agree that the faster cash clears, the better it is for the whol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greement is on the tradeoffs between reduced time line and availability of accurate data &amp; cost to system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disagreement is on the impact on the credit calculations vs. reduced risk of uplift in case of market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3 options to achieve the reduction in settlement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option, it may require significant protocol changes from EPS meter to dispute processes to credit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Clearing Stats on the Current OD+7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934920" y="809640"/>
          <a:ext cx="6931080" cy="3444840"/>
        </p:xfrm>
        <a:graphic>
          <a:graphicData uri="http://schemas.openxmlformats.org/drawingml/2006/table">
            <a:tbl>
              <a:tblPr/>
              <a:tblGrid>
                <a:gridCol w="1527120"/>
                <a:gridCol w="1285920"/>
                <a:gridCol w="1371600"/>
                <a:gridCol w="1351080"/>
                <a:gridCol w="1395360"/>
              </a:tblGrid>
              <a:tr h="542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+ "X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to ERCOT: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to ERCOT: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to Market: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to Market: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e3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e3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e3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e3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e3e1"/>
                    </a:solidFill>
                  </a:tcPr>
                </a:tc>
              </a:tr>
              <a:tr h="322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7" name="TextBox 3"/>
          <p:cNvSpPr/>
          <p:nvPr/>
        </p:nvSpPr>
        <p:spPr>
          <a:xfrm>
            <a:off x="934920" y="4362480"/>
            <a:ext cx="6931080" cy="1310760"/>
          </a:xfrm>
          <a:prstGeom prst="rect">
            <a:avLst/>
          </a:prstGeom>
          <a:noFill/>
          <a:ln w="9360">
            <a:solidFill>
              <a:srgbClr val="008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an OD+7 timeline, the vast majority of the Operating Days have cash cleared through ERCOT within 13 calendar days from the 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day removed from the timeline, a corresponding day is removed from the cash clearing 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chmarking with Other ISOs/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-1047600" y="2857680"/>
            <a:ext cx="51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66760" y="647640"/>
            <a:ext cx="8486640" cy="5438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7"/>
          <p:cNvSpPr/>
          <p:nvPr/>
        </p:nvSpPr>
        <p:spPr>
          <a:xfrm>
            <a:off x="304920" y="4448160"/>
            <a:ext cx="1866960" cy="3682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 T+3, T+12, T+55,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12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0"/>
          <p:cNvSpPr/>
          <p:nvPr/>
        </p:nvSpPr>
        <p:spPr>
          <a:xfrm>
            <a:off x="2419200" y="5495760"/>
            <a:ext cx="2090880" cy="3682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T+7, T+59, T+1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12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3147840" y="4400640"/>
            <a:ext cx="2210040" cy="3682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T+7, T+47, T+77, T+137,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22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3486240" y="3349800"/>
            <a:ext cx="1724040" cy="5054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T+4 (credit only), T+7, T+14, T+55, T+1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21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7257960" y="3486240"/>
            <a:ext cx="1467000" cy="5054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T+1, EOM+5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~T+120, ~T+2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12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7124760" y="2293920"/>
            <a:ext cx="1542960" cy="5054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T+4B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~EOM+120, ~EOM+3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12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4181400" y="2600280"/>
            <a:ext cx="1390680" cy="3682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T+10B, T+20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43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938240" y="2154240"/>
            <a:ext cx="1452600" cy="3682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T+7B, T+2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49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5362560" y="3833640"/>
            <a:ext cx="1771560" cy="3682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Statement Wkly (T+3 to T+9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d0d0d"/>
                </a:solidFill>
                <a:latin typeface="Arial"/>
              </a:rPr>
              <a:t>Cash Clears ~OD+11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042920" y="6058080"/>
            <a:ext cx="725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Cash clearing timeline based on an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xample day of 6/6/20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However, non-business days have the effect of creating a range of dates during which this activity can occur. Cash clearing is from OD to payment to the Market Participa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"/>
          <p:cNvSpPr/>
          <p:nvPr/>
        </p:nvSpPr>
        <p:spPr>
          <a:xfrm>
            <a:off x="142920" y="638280"/>
            <a:ext cx="84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atement and cash clearing timelines added to this map are approximations for an “apples to apples”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eter Settlement Impacts –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Jul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6134040" y="1371600"/>
            <a:ext cx="2581200" cy="8240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013: At month end, settling 6.3M ESIIDs using Advanced Meter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284040" y="4114800"/>
            <a:ext cx="2907000" cy="13107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013: 97.0% of the load in ERCOT is settled with 15-min interval data (AMS, Competitive IDR, and NOIE ID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363600" y="752400"/>
            <a:ext cx="5595840" cy="25513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"/>
          <p:cNvPicPr/>
          <p:nvPr/>
        </p:nvPicPr>
        <p:blipFill>
          <a:blip r:embed="rId2"/>
          <a:stretch/>
        </p:blipFill>
        <p:spPr>
          <a:xfrm>
            <a:off x="3265560" y="3433680"/>
            <a:ext cx="5595840" cy="2551320"/>
          </a:xfrm>
          <a:prstGeom prst="rect">
            <a:avLst/>
          </a:prstGeom>
          <a:ln w="0">
            <a:noFill/>
          </a:ln>
        </p:spPr>
      </p:pic>
      <p:sp>
        <p:nvSpPr>
          <p:cNvPr id="578" name="TextBox 6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79440" y="274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de Load Volumes by Meter Type – INITIAL Settlement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July 2013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64960" y="750960"/>
            <a:ext cx="4297680" cy="2560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4597560" y="75420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"/>
          <p:cNvPicPr/>
          <p:nvPr/>
        </p:nvPicPr>
        <p:blipFill>
          <a:blip r:embed="rId3"/>
          <a:stretch/>
        </p:blipFill>
        <p:spPr>
          <a:xfrm>
            <a:off x="260280" y="339552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4"/>
          <a:stretch/>
        </p:blipFill>
        <p:spPr>
          <a:xfrm>
            <a:off x="4595760" y="3392640"/>
            <a:ext cx="4297320" cy="2560320"/>
          </a:xfrm>
          <a:prstGeom prst="rect">
            <a:avLst/>
          </a:prstGeom>
          <a:ln w="0">
            <a:noFill/>
          </a:ln>
        </p:spPr>
      </p:pic>
      <p:sp>
        <p:nvSpPr>
          <p:cNvPr id="584" name="TextBox 6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72960" y="112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 ID Data Availability “Look-Back” Analysis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ugust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"/>
          <p:cNvPicPr/>
          <p:nvPr/>
        </p:nvPicPr>
        <p:blipFill>
          <a:blip r:embed="rId1"/>
          <a:stretch/>
        </p:blipFill>
        <p:spPr>
          <a:xfrm>
            <a:off x="449280" y="727200"/>
            <a:ext cx="7294680" cy="5290920"/>
          </a:xfrm>
          <a:prstGeom prst="rect">
            <a:avLst/>
          </a:prstGeom>
          <a:ln w="0">
            <a:noFill/>
          </a:ln>
        </p:spPr>
      </p:pic>
      <p:sp>
        <p:nvSpPr>
          <p:cNvPr id="587" name="TextBox 3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72960" y="112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 ID Data Availability “Look-Back” Analysis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ugust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449280" y="727200"/>
            <a:ext cx="7304040" cy="52974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3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72960" y="112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 ID Data Availability “Look-Back” Analysis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ugust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442800" y="725400"/>
            <a:ext cx="7291440" cy="5289480"/>
          </a:xfrm>
          <a:prstGeom prst="rect">
            <a:avLst/>
          </a:prstGeom>
          <a:ln w="0">
            <a:noFill/>
          </a:ln>
        </p:spPr>
      </p:pic>
      <p:sp>
        <p:nvSpPr>
          <p:cNvPr id="593" name="TextBox 3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2960" y="112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 ID Data Availability “Look-Back” Analysis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ugust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442800" y="727200"/>
            <a:ext cx="7301160" cy="5295600"/>
          </a:xfrm>
          <a:prstGeom prst="rect">
            <a:avLst/>
          </a:prstGeom>
          <a:ln w="0">
            <a:noFill/>
          </a:ln>
        </p:spPr>
      </p:pic>
      <p:sp>
        <p:nvSpPr>
          <p:cNvPr id="596" name="TextBox 3"/>
          <p:cNvSpPr/>
          <p:nvPr/>
        </p:nvSpPr>
        <p:spPr>
          <a:xfrm>
            <a:off x="330120" y="616572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&amp;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Proposed at the Worksho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second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itial Settle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 + X, OD + Y where X + 7 =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of X and Y will need to be determ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has been implemented in other ISOs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see slide #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ties are: {1,8}, {2,9}, {3,10}, {4,11}, {5,12}, {6,13}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between X and Y proposed at 7 but could be something different, must be not too short but also not too 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 also moving Finals and True Ups from the way they are now OD + 57, and OD + 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minimum value of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X be less than 3 if the prices are not final after 2 business days per protoco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X be less than 3 if the MPs still can enter trades after the adjustment period per protoco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X be less than 2  so that RTM settles before DA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settlement run also means additional extract data to be pos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with load &amp; gen have to pull, save and maintain bigger datab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Proposed at the Worksho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 DAM &amp; RTM at the same time but include only certain charge types for RTM on the first run, then run another complete R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 RTM at OD + X with DAM for all charge types that have validated data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to QSE trades, EPS metered generation and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another complete RTM Initial settlement after Y days and rerun all the RTM charge types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ch specific RTM charge types need to be settled more quickly and have complete and validated data to be settled in the first ru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of X and Y need also to be determ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moving Final and True up as 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Proposed at the Worksho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arget OD + 5 for June 1, 2014 and OD + 3 for June 1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 targets in reduction to offer cap incr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 the days for Final  settlement statement to OD + 45 or less depending on TDSP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 True up at OD + 180 for complex disp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 MPs and ERCOT  time to upgrade, improve their systems to capture accurate data and to comply with faster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phased as going  in stages to OD + 6, then OD + 5, OD + 4 and OD +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 an additional settlement run only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with settling in very short times OD + 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ERATION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data is the most significant one &amp; determines the ERCOT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generators have EPS  (ERCOT polled settlement meter) requirement  per protocol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Section 10.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no proxy or estimation process exist such as profiles for generation data or NOIE bi-directio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use real time SCADA (telemetry)  data for the first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s have been always paid based on TDSP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ew protocols and system changes to include SCADA (telemetry) data as proxy for EPS by ERCOT and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may have to increase their wire charge to rec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off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ongo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st to stakeholders vs. benefits from reduced default uplift risk that may or may not happen at some unpredictable frequency &amp;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with settling very in short times OD + 1, 2, 3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CES &amp; TR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M prices are not final until after 2 business days per protocol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6.3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want to settle RTM wit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unfinalized pri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s can submit trades per protocols till next day 14:30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4.4.2 (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want to settle wit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ncomplete tr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LIABILITY OF LOAD DATA FOR THE INITIAL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 load volume ERCOT wide (# of ESIIDs as of July 201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% Available by Initial Settlement OD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45.60%             45.6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_IDR  24.60 %               4.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IE             26.80 %             24.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DR               3:00 %             0.4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hortening time line will affect each of the meter types differ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hough majority AMS is available next day, ERCOT &amp; TDSPs need to communicate to resolve any issues if time line is very sh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itle 1"/>
          <p:cNvSpPr/>
          <p:nvPr/>
        </p:nvSpPr>
        <p:spPr>
          <a:xfrm>
            <a:off x="304920" y="0"/>
            <a:ext cx="8762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with settling very in short times OD + 1, 2, 3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05920" y="761760"/>
            <a:ext cx="86108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NERAL CONCERNS  RAISED WITH SETTLING TOO FA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and TDSPs have no time to check or do any reasonable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y of charging the incorrect MP and paying to the incorrect 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calculations  will also use th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rst c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initial sett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what point does the risk of generation data availability become a “showstopper” or require a solu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what point do we anticipate transitioning from settlement on predominantly TDSP-submitted usage data to predominantly ERCOT-estimated usage da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what point is an additional settlement iteration needed in order to mitigate risk associated with waiting until Final Settlement to resolve data availability and accuracy issues? At X=6, 5, 4, 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what point do we anticipate introduction of credit risk that may outweigh credit benef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to ERCOT and all stakeholders to improve accuracy of the data &amp; complying with additional settlement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off is cash clearing based on incomplete and not validated data until the second initial settlement run and cost of upgrades &amp; staffing vs. benefits from reduced default uplift risk that may or may not happen at some unpredictable frequency &amp; magn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88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4525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45252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482" name="TextBox 1"/>
            <p:cNvSpPr/>
            <p:nvPr/>
          </p:nvSpPr>
          <p:spPr>
            <a:xfrm>
              <a:off x="1295280" y="309744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ext Step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asaranh</cp:lastModifiedBy>
  <cp:lastPrinted>2013-05-29T21:13:25Z</cp:lastPrinted>
  <dcterms:modified xsi:type="dcterms:W3CDTF">2013-09-04T17:24:40Z</dcterms:modified>
  <cp:revision>33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