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dt" idx="9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ftr" idx="9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 type="sldNum" idx="9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0FC-27CC-41B8-9C9C-9E6D5D55D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7E4D-02D0-4828-913C-04D97CF6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B85-8A83-4237-84D2-FB9A79AF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0CF-4455-425B-911D-B6159BED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10BA2-D17C-44EF-AC90-A21B7C5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45275-5178-4CE1-A320-C7B548B0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D7988-73C3-40C7-9CB5-582DB4E2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9037-3602-4E42-914E-A63FD1B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7CE11-2CE0-4F11-AA23-1AEBDED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FC8F9-516A-4C0F-84B8-1F566B4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AD915-3FE4-4578-A8C5-BC3C01A8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AF328-6272-46D4-A187-1E87E869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D95D2-D227-47FC-8C68-AD69D5F8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F99-4AF3-40F6-88D9-C6A460BC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080-A139-4879-99E6-36CAE66E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554B9-D2F0-47DE-8D7C-632B0130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5937D-6FA5-45E3-8138-CF0098BF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5AD71-49FA-48D9-A3F2-0EAABCD6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EAD82-A9E8-4D8E-B86F-B7939631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69C79-13AE-44CE-B200-36C2D111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DC0DE-6D99-472A-B2E4-8E9DBCE8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1065E-581D-44A3-BD42-0872020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6883D-BA5D-4F6D-83AE-2CFD7D4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FAE4-8BAC-40D3-AD5A-270D48A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42DDD-EE09-4213-A5F0-B3BCBC10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7F83F-1797-4415-AF74-576CC71D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01A5E-EB0A-45ED-A375-FB5C8CC3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A5D6C-D604-4855-A4F0-92BF4F49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7A8DE-58F7-4794-B239-61429D58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6F1EB-1C38-487D-A987-9C75C77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F8EF8-F325-4DFD-8AB8-3AC09F2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058F7-F977-4A3A-BCBF-F983755F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D3C9-D7DB-46AA-92DE-44963D07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D9B7E-B030-45B4-9661-A4CE265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1EC0B-B36E-463B-8CC8-1E5C36E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D6B37-3BA0-4ABF-8666-B13D7CD4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9B68F-D7F0-4091-92F3-C7755D2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E287F-D71F-4370-996A-D0D8519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97481-1215-4DD3-BCFD-997F755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B8F6E-ECC9-4A08-85B2-218856E9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45A5-AECF-4C8A-B6B0-B390B242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2F953-9A72-453F-881C-E2A1AE0A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E685C-31FD-4A55-96E8-FF45A99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2B841-CCDF-4AEC-B59E-BFF2CFB6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7D64D-56AF-47D0-BAB1-044F86CB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96719-B045-4B13-9E08-1CD12E0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8884D-A352-47C2-93FF-0AC6075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7B7EC-FAE0-4851-8C58-84B4BF10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FBFD1-3BC4-4C37-8668-A6C6F49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93BD9-B094-4A67-8BC8-2587129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8713A-CC64-458F-A437-AC8D71DF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0A849-7CE0-424E-84D1-CE870C2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85B36-ED88-41C2-A517-D84174ED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6A0C-176B-4A1A-AD7B-94C1ACEE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C3D45-1682-446F-8209-E74962D5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DF17B-1E56-4468-AD30-D60527A8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B08F7-5244-461E-823F-959E925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4725C-E790-4A47-905E-560C3A99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BEFF6-4A5F-4072-BD22-155BB892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A27DB-2D9F-468C-A3D8-05076C35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9828B-1C0C-49AF-AEED-5F927FD4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B69BE-F76F-4490-8B47-06C1BA6E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5B5F8-71F0-4627-8617-1B9FFD7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DA65C-0C10-4080-AC2C-E4CF801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DA845-6243-426D-A37B-CE154CFF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795A0-C004-49F1-9280-876D3061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83630-8A11-45E0-8E8F-B99705CD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56394-328F-45F7-A616-AB8E9798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25547-2029-4546-8D80-C114F68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9F369-8BD1-464F-85E2-06DEBB48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2B14F-3800-4477-8A63-39DD9AC4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7FFBB-F0CD-4CC7-94DF-68D61A41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47410-1EFB-4689-BA65-6C205932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F3D02-7945-4858-98D4-C1D3DD38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E9B79-075B-4E38-8426-DCCE7F16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D49DD-58DC-42EA-BA81-3ED7DF5F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316E9-CFE5-45EF-B9D8-0225E61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94B30-E418-4C4C-B9F0-CB40103E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683CF-2CB1-4C24-BCED-C070DDB2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338CC-A18A-44E3-8126-1D39A365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A2E68-939B-4318-AB9A-CEBDD927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2F7FC-F372-4FFD-AD43-7A34A10A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8EF19-3BC5-46D9-B763-691F9219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06993-7855-4163-B0CD-111D915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61A2D-C8BB-4BF7-98B2-CFE50FB9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C8892-8D73-4E84-819D-1436F7AD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AF0C7-7F6C-4C59-A1FC-CB18082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76490-0328-4E78-AD47-C615FA6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6CEC3-E660-4213-BBFA-ABD2EDB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0CC93-BFC8-492C-B2DB-1A0C7BE3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4F037-DFD3-4A10-9A20-4D6707B2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CE8EF-7E49-45AF-AB24-7E7ED48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5AD28-DFF0-4F77-9EE3-A6334F58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0B7CB-FA10-42C4-A05A-1A931F5B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013F8-AB74-4902-B155-0E33226A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32A98-A4FB-4327-9F98-8FC587C8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98C62-C0C9-482F-8D91-723CD418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EFD05-C0CB-489E-A4BF-4A69543D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2AF11-A82D-4C39-BA31-2CEE32DB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14823-C6C0-49B6-A78C-08D7CB4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A35C2-420F-467C-B4A4-423FF205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AC4-6435-4AFE-A9B5-7FD4AA0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BD0F2-F657-4350-8101-3C798F47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B0306-E0C6-4DEC-9581-573B2956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DC75A-DC07-460B-A631-C7539BE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AF658-06CD-4BFD-A43E-0EA15229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C7364-5563-43F0-9FF9-56E967C0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62CFE-883A-4579-B997-4BF6734E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ED91B-DF29-4EE8-B325-766C5103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C2E61-083A-4974-A081-714A7231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F4857-373C-41EF-966E-6E72BE5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94BE0-6605-4B26-B0A7-496BF4E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48F16-7E67-49EE-A9A5-0FF23A37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FD81D-24A4-437D-83F0-D5C9B29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F6465-4062-4BF4-A7E1-CFD271EE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10075-357A-4B8E-A8C1-8BA33F2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D1C01-015C-4DE0-A011-74FBC8E7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C38EF-2504-4024-AE82-C6F455C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2388E-53CC-4097-9F28-9508876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16237-2CC9-4BAB-984B-50917266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E866F-4D9F-4D06-AE76-44C952A5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73F56-EAF6-4B66-8132-2109588B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AC338-80EF-4DBE-861D-CF9FA6B2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99EE7-41A7-4E26-A87F-F82444DB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D4CAE-4F40-4008-BFD4-E3154055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C252B-1202-4D16-87E1-A8FF7922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ECDC4-5E9C-4DFD-BB82-7698569C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13D11-1A26-46A8-9B33-C5B82F8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BFD93-BEB6-483B-9B6C-484B0136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D1834-2A72-4E49-BC59-FE795525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C8A89-B3B8-4E3C-9079-D7285BC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7DB89-CCBE-4278-986F-69495E5B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83E4A-3ABA-4C40-AF41-99B1D7E1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E3626D-D039-44C9-9A51-6D7FB2F2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514FC-D4DE-4F66-9D24-F9A8AD4E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D13AF-5139-4153-870A-517553EE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4E96A-282F-40B7-9DAB-61481E26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69E26-4B71-4F16-BC65-7303529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54027-B05D-401D-9816-4C928034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72C0EB-FE0D-4183-BC74-BEE1A9D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29EC8-06D7-4822-97AD-A56528C8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6E963-68DE-4362-BF20-4BB0AA6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4FCDB-31FC-4BDD-88EE-38DEF21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587B2-3A7C-4295-9A5D-0E58A62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FE197-EBAF-43FB-BF0F-9679E85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118B1B-444C-4E0D-B13D-23DEF653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0BD57-6E0C-401E-9743-BDCB9450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D8F58-B3A6-4D39-B8A1-F988DDD1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6FC58-5374-45B6-A22B-145B55AB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478FC1-A346-48FE-A086-393CB81D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7D4BD9-612C-454B-A988-103153FA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3FC0FBC-D7C0-43CE-8132-2964F737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2C2100-1F3F-4AE4-9AD3-4B10B2E7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616475-47FB-414F-A2DF-C6B116D3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2F65D6-0AA9-4405-BFBC-5D24B71E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78E307-DF3B-4E35-A69D-55B2E3E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DA26B-A22B-4564-BFC7-0860E532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5BB9B8-AFD4-42DE-983A-9A27015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9983B1-5C1C-4F33-9E92-56CBA3AD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21644D-55A8-438C-80F9-8DFA65A7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13CC14-20E9-47A4-BB5E-B8B561C2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793D00-F5B9-4F2E-87B8-EE9B3CA5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108688-8796-4008-82B3-6D560810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2D28B0-F39C-41E2-9734-B3843C9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69097F2-FCF2-4523-9421-1487AA1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F500A8-B0D0-4AFF-95E9-382B6B21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6A21A63-AC29-4B28-9C7C-4201F313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49D04-9AAD-4391-B9D7-38505F0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9B30C3A-C42B-4087-87D7-EE5CD1A9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3BC6FFA-BA15-4C6E-AEAF-B9C1D3A3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F63EF9-50F8-472D-BCE4-D643D62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8AFB7FE-D62D-4243-A87E-9608723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3DCD6C9-8075-4B37-9256-63D67601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F5757D3-688A-4B95-8432-CE6BD29F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6E8141-86AD-44EB-B5C9-E1F04A1E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EC93E7-23D5-4837-8B41-1A661426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E7EAA54-618C-4A1C-A2B9-3A885B9A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E5A887-0DF5-44FF-B2CD-55303AA2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85973-D374-4642-86FA-C8A80011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945381-CBC0-4606-8CEB-E66919F2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6E159B-878E-4048-93E9-ACB12FF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768EF4A-BD28-4A2D-A585-049CF84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22C925C-F27E-4EFF-A353-08CA97A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16A0E9-6C0B-48DD-9EDF-C09DDCC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8A72CF-D088-4475-950E-97E34D09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707E1F-2549-4617-A092-954037EA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AD3894-6A2B-4A27-B83A-28CE04CB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502C18-4175-4C05-B984-12D31241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DB7D8C-B3B5-45C3-9C29-A882A3C4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D0F8B-4B48-4C23-8403-33F287D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BD17A6-560B-40E1-A898-677B73E3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DEF211-F4AE-4155-98FC-B8492F37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F784CB3-4B5E-44E7-A73A-F5EF895B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9C6A9BC-7EB3-4AF9-B9D7-8004F143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9DF7CA-0373-46BB-B3EF-D505A8C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BE464D-ACAA-4C40-9733-E80298E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856E8F-C8F2-4BB6-8E28-A9BCF21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49E0B6-A7A4-4ECF-BDDD-C756A0E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0D20FE-942E-4AF8-B039-5A7FD649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C983BA4-29F3-481A-AD5D-0889558C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9C9-E9A3-4201-9817-AAFC5FFE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90AB5-EB92-4EF2-8112-D043E643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A9B29A-9AD4-4B8E-8AAE-B1D6B145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A5DE2D9-7ECE-4D91-A868-E277E7B7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4BE7682-C692-435F-8D03-713CC5C0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7557F4-D3E9-4C92-8A0F-226E0303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316BEB-4887-4ED0-9D45-0353C3FA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5B6FAC-DAE8-4AD2-87A7-289E3E8A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39B392-3885-430C-BADE-A1955684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AE068E-485E-4651-B4D3-42EA0B20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0A4FFD5-4009-4CE7-BE62-12D95F03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0F198F-FA9A-4A26-AE18-4594DCD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F2DCA-F261-4EB8-B382-607E61B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9B1FC40-BD3D-4666-B750-705A60FD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C3F6DD-E4D1-4982-89FE-A812FCBC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0CD625-740E-42B4-85BB-CAFF1C93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2406D29-5C2B-4D0C-A800-A5CFFC47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9FE5309-E49C-4F5A-86FA-04890F3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2D8C4B-5EB2-4A43-B686-54E6216D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7D16161-F98F-4627-B5F6-6AD2120F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476C554-121A-42D8-A9AC-F4F39398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A1733F1-D36E-471C-A1A6-AD90439B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D4EE44A-1B20-4087-AE41-127AEEE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EE958-0226-4FFE-9FEC-AAB6B98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FE4BBA-BB94-43BC-869E-6DDE939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E47E89-34C1-4B4D-9D8A-08A1CFE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DA6F092-2A09-4F44-811B-F244D287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DF0CF89-0BD9-4567-A70C-0AA71A57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D08C107-8AD9-4F3F-88FD-765426E0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544FB13-B1CF-4790-A2B1-0C3ECC76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096E433-A4A6-435C-B622-546DEB25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A90413E-8D06-4773-8955-167631B8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4AE0759-BDDD-4F10-88E0-B76B0AD3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051B0D9-7161-4577-9A44-34A0DBFD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4768E-C0BE-48D0-820E-D2B4C6CA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D948D01-4E60-4988-BBCE-EA72FC7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FE3FDE4-CC88-483B-B05E-33CCE32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3A0A273-9A26-4048-B2C4-5A51441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47F812-630F-48F5-8DF3-3B3EBC66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4160A3-EF6A-41C4-A74F-ED10951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C887942-C008-459F-B413-4D8BB09F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40418C9-09C0-412D-8523-007D46A2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D55EE77-6B9E-4B0A-B5C7-765EFAEF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774B9A8-44C3-4B87-B578-EE29EF2A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BCBA8A4-69AA-470E-8E7E-6379F1A7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208D18-CE16-48B5-AE94-EBA87436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CF15C06-B68B-4DD6-B450-197A894E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D2FFA10-A3D0-451E-9761-FF32E3AC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E24060-4D11-4769-9502-48C4F2E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3BF529E-EBD5-446C-A73C-0D4A4C4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14E584-6B86-4798-9621-C7C29A7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9B1FD01-5C2D-4B79-96FE-8191A3B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1E1BF76-9DE5-4144-BF8F-7945FDAE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4840BE4-9E34-4817-9F38-B6299623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5776382-E424-4175-AC9B-ABBF826A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22A9899-C006-4985-8A1C-8462E499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B7C1D-1623-449D-AB98-D436BB55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EB664CC-A232-4FF6-A8E1-CDD2EB14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0BCF53-254A-4EEC-8B90-0AC7A753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2B73B33-415F-43E5-99FC-0DE2B5BD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AC42DFD-0E47-4D51-8D1C-C77D3075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890E5E-4CA4-47B0-8827-5C849BE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CE5427-2337-433B-B798-4F67D7B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2781E35-45FD-4E0E-9F51-5F312B0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EF49BBA-4F6B-41D2-945A-269494A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E1FB11B-BABB-498D-BBFC-B208B66F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5D8B92F-490B-4903-A42B-0DB2CA13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2D938-DF3A-4527-968D-E90DD0AD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8BB890E-7A8F-4A1F-A3BD-31A9266C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6EADAA3-243A-4E8A-B02B-58A6D3D9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7100D2D-6A77-4E57-AA2A-61068270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FC17032-A9FA-4911-A164-BC4E8CC8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863E184-2653-407B-8A44-D0A7A3C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75ABEE2-7965-47E4-91DE-74F28DE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2FA4EA4-F0E6-4EBC-8737-11275FC5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57495FC-77D6-4604-BA80-BDABBA4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4827227-737C-4B3A-AC02-FF6679B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339CE6C-2885-423A-AB2C-56FDBFD7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130E9-0511-470B-A7C1-DF935582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F59BAE1-F627-4143-BC9B-0CDB6AEC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5DF9CDD-2559-4867-ACD3-6A06A42C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10EDB87-6BAF-4886-9EAD-CA11558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BA5B6-5AD1-4786-8EFD-5235A66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82E1E-B0A2-4EC1-A02F-F221F8CF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16D-60E3-42AC-AC1A-16259E8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5589-0C9B-4468-8042-D4DD1090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9418-4661-4616-A88B-BE623B19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0D9D9-D3E6-43F1-B85E-D61CA955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B4D6-2FA6-4EAB-BE13-1D46A38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5289-63C5-4638-84C8-DD2D4D51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9A12-7E42-4890-B913-35F3BBF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DEB6-B709-4E06-9BD9-801BF2EA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FD0C-9028-4312-8967-F4008155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0583-F150-4B2C-9BC2-9D74E08D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9DD1-F92C-48F9-BF07-C26276B6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FFD-4C44-4D4D-AC65-29674757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B2DA-0597-4929-BB97-1F94DE20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346D-3613-4C0F-ADA2-2E07CD6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8E3C-C7A5-47AD-848F-B39C4FC5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80C3-F511-4D48-A107-354A7EAA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D4B41-F876-4B4C-A0E4-5718915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98C8-BC12-4685-BBE9-164BA10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92894-302D-4789-BBBE-1D6D37C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75DE7-A9D3-4D93-AFFE-A96A5D3C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9A5E0-DBFA-47B2-ACED-C0EB5224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0098-69D0-4E4A-A6B5-66735F47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111-409B-4CBD-8BD5-3027D68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8FAF8-D74D-4427-B5BC-677A1AEE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DE9B-145F-4F11-BA0C-F4418A33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481B0-7E4B-4F54-B25A-3D96848E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CF64-437A-4569-A12C-D33AE4F8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C49E8-5A25-402D-87A3-1CC5A51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FF06-E565-4CE8-97A7-C37DA34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8B54-9405-470A-927D-0230BC19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38312-72BD-45A1-A9A9-A330A7F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7CCB3-16E8-4089-BF3D-9A6CD63A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1406-4F7A-450B-8B67-9BBC3B4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0BE-6207-4581-B34B-B2526EC3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6E6A3-0BE2-40D7-810D-35560C7B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28D66-9E10-4F1B-939A-44377D36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70BE-63D2-489E-A96B-994ACA15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D8D8-7293-430F-9482-C9359851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0A0A1-8431-4A77-9FAF-6FC89AB9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E1889-AECE-401D-8022-18DD3443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2373-85A9-4A79-AB7E-87FC5ABB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FB264-3DE5-4285-BF92-CE0D6A0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0896-D912-4B6C-84EE-A9F61524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F653-9003-47D9-893A-B383F128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032-2677-4E14-AEC3-185839C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2C7D3-45C3-40A7-8446-5BF474B8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4A1B6-8162-4B14-B7C2-28811D74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AB236-A075-4FD6-8EF0-C599F7D7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8D4B-A2EA-44BD-B5A1-7A86C17E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3EE8-9476-4D5F-9059-EA0C0781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4FB5E-F726-48F3-9280-42D96173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D849-2650-43A1-8A02-32A08A6C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5552-04BB-4DFA-9C72-618C09D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B7EAF-E3D0-48B0-97C3-8573B7F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34AF-A2AE-4D92-8C7A-9EAD4EAD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14B-3FB6-4F14-B9D1-A7561FE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E519-4033-4CD3-8EFA-70C4DBE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1375-6F5C-4396-B04D-229E5B8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29CD5-451F-4C39-BA60-0137337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4A59B-28EF-4D95-B090-ABFB40B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9C92-9084-459C-B6F6-6A4FD04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9E81-00A8-4829-AD93-8C0E9379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91B6-203E-4C69-8B44-977277D9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CFF9B-64C0-4C4E-9024-BE5E1076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E0EA-B94C-41E7-9793-8A158C1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0031-AF5D-490B-A0E6-8FC6407E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716D-8981-4EBB-A3FF-29B7563F1AA3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3DB9-D180-4F32-AAAF-477026E5D62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5A55-C2F9-4CC7-A110-A0CBE078F39C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6F15-BEDB-499C-B90B-CF94A42C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86DA-6732-485B-87AB-0CF9FCF9B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dt" idx="3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E2B2-65FE-4D23-BC58-77432CFCF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6F5-1204-408C-A5E9-41427BC8F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9645-B19C-429A-9EF8-E2F481F2A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dt" idx="3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C34C-AF46-442E-B915-CFFF5F463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E80E-4F42-4BD6-B776-C3E8F46D3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E6B-A426-4358-9C42-11E609A30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dt" idx="3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C647-A867-450B-BBFC-D73ED6E40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B910-922A-4845-8AE7-9819AC29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34F-CC5A-4D8E-9E8D-13C91D7A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dt" idx="4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B7E9-B629-4E09-AB4D-FCDB6DD91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26FB-63B7-4F45-888B-E5D8AEFA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364-01CE-4768-B76D-0F6205610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dt" idx="4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CB3F-96AB-45AD-B296-57BCC0947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F8A8-F696-4413-94D2-C8A79752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D7CF-C035-40BC-B45B-9B7151256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dt" idx="4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CF4A-7755-4B91-8A43-A83DE895D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8A3-6118-4D2D-9F8F-6052C646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9C7-2AE4-4E56-88B7-65F83857B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9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dt" idx="5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A90C-13AE-4857-BEC5-D5C409374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08C5-89DC-47DF-9ED2-20004780C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C04F-AC6C-42A5-A231-FBDEDDA2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5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dt" idx="5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8250-1DFC-4518-8546-FA47658A3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1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EA4-EC7F-42BB-A3D4-6CD2DEBA6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820-C311-4751-B899-C4FAB9685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dt" idx="5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7042-CD81-4492-9D8B-28B24AC43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F03F-8666-421C-B90E-A9E2972F8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8697-15C3-4331-89CC-C437F8193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A7E-7704-43DC-A7B3-159AFC7A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D6A7-DD75-4FC1-A2A3-66FCD98DC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712-A185-4EA9-B53F-A9385629B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dt" idx="5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ACD-3169-4E1F-B220-2DE7B7D79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B27-3641-4F5D-B6CE-939B2E944B4D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824-6F5A-4A1B-B3A8-8AAE7729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07F-2357-453D-BDFA-B1F39EF81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dt" idx="6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D14C-C16A-418C-BAA0-19AD24E57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49BC-4292-44B0-88C9-9A97572A6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3817-ACC7-42C3-9E6A-4491213F5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6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dt" idx="6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091-12F8-4259-801C-B499450A2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1C63-5C4E-4D86-BBF8-74FC757D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C9FF-9F5F-4398-8B15-057903BD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69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dt" idx="7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8C6-E080-443E-B988-0DF1D675C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77C9-C71E-4F04-B6B5-0E7D4FC24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B770-C58E-4430-B8CE-D06AC6D65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dt" idx="7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CAF-CF67-467C-9110-D8F4DD140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15E-0F25-4EC2-9614-6D8C42F9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936-B9B9-4B7C-8A4C-BCAD8D31B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7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dt" idx="7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A4CE-43A2-44C0-9749-704813DF6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C028-30BB-4920-9D01-8398B7E3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029E-9712-4A58-AEFE-6B2AC89AF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7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dt" idx="7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1BC8-128D-4F56-8042-686C2E02C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303C-14A8-44B0-97D1-BCD90E10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9DF6-DAC6-4741-813A-BCC293CF3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1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dt" idx="8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1F7-EA70-4288-9A20-75044EEB9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CEE-1EE4-4997-87F6-111EE2A4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985-3C81-4E1E-9B7D-97B9638C6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8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dt" idx="8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144-8CB5-48A2-AA99-1883BFE6A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BA73-CDB3-4A9B-9B46-42991E572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A4CD-CE4B-4203-8467-0F57D72F6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1766-DB5E-4CD1-8097-1C8D524D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3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3DFB-1C8F-4F12-96EC-E6A8F68B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C0C7-7A93-477C-9BAE-C47508CC1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8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dt" idx="8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0FF7-6B2C-4296-A2A0-DDF45B80E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A27E-A8FA-4F98-AE2F-674CFB30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3BF6-DB7C-4461-95FC-C34D5ADE1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9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dt" idx="9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27B-B648-4D61-8B4A-D937553E6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EC54-C107-40A4-8547-19D00644985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8A44-4643-4FA1-B917-A0FDFB9AD5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3DDA-5130-4AFB-855E-5D719737945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FD38-6772-4868-A0C4-DEE7AF32E9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C50-35F2-4B69-A4EF-44D853BA156D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3E6F-CD64-410D-BC84-77E34EEE963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30D9-FAE5-4B9B-AF31-E599BF2B334E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3BB-CAEC-4D30-AB12-BC698F96071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5948-82E6-4B46-AD46-A6FCF33436B0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C486-A10A-45D5-8D49-3E1C8E3DE15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6FB2-0468-4A77-BC76-01BB6D6438BE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3B1B-69A2-4EF2-A1D4-0B1403CB4E7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Title 1" descr=""/>
          <p:cNvPicPr/>
          <p:nvPr/>
        </p:nvPicPr>
        <p:blipFill>
          <a:blip r:embed="rId1"/>
          <a:stretch/>
        </p:blipFill>
        <p:spPr>
          <a:xfrm>
            <a:off x="2438280" y="2432160"/>
            <a:ext cx="6553440" cy="1646280"/>
          </a:xfrm>
          <a:prstGeom prst="rect">
            <a:avLst/>
          </a:prstGeom>
          <a:ln w="0">
            <a:noFill/>
          </a:ln>
        </p:spPr>
      </p:pic>
      <p:sp>
        <p:nvSpPr>
          <p:cNvPr id="143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649-7C88-4FFB-B4A1-B818BCCCD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EP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approx.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87% complete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890,813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07.31.2013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eployment Plan schedu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57680" indent="-1587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88,212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57680" indent="-1587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51,571  meters 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57680" indent="-1587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9,329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57680" indent="-1587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3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8,280  meter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C213-B7AE-408F-B03A-3AF53D42984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 txBox="1"/>
          <p:nvPr/>
        </p:nvSpPr>
        <p:spPr>
          <a:xfrm>
            <a:off x="45684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TNMP-  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approx. 49% complete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4100" spc="-1" strike="noStrike">
                <a:solidFill>
                  <a:srgbClr val="ff0000"/>
                </a:solidFill>
                <a:latin typeface="Corbel"/>
              </a:rPr>
              <a:t>111,679</a:t>
            </a: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4100" spc="-1" strike="noStrike">
                <a:solidFill>
                  <a:srgbClr val="000000"/>
                </a:solidFill>
                <a:latin typeface="Corbel"/>
              </a:rPr>
              <a:t>07.31.2013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Gulf Coast       </a:t>
            </a: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omplete i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4 2013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Lewisville   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1 2014 -    Q3 2014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North Texas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4 2014 -    Q3 2015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Central Texas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3 2015 -    Q1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West Texas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2 2016 -    Q3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E11-D708-4D37-A69D-35DA5F58C21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Title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 txBox="1"/>
          <p:nvPr/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rbel"/>
              </a:rPr>
              <a:t>Oncor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100% complete</a:t>
            </a:r>
            <a:r>
              <a:rPr b="1" lang="en-US" sz="47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7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3,262,864 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12.31.2012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9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eployment Plan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29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37B6-5F25-43A0-9413-5A348BB8734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"/>
          <p:cNvSpPr/>
          <p:nvPr/>
        </p:nvSpPr>
        <p:spPr>
          <a:xfrm>
            <a:off x="609480" y="61214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95400" indent="-182520">
              <a:lnSpc>
                <a:spcPct val="100000"/>
              </a:lnSpc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Deployment Complete as of  12/31/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Title 1" descr=""/>
          <p:cNvPicPr/>
          <p:nvPr/>
        </p:nvPicPr>
        <p:blipFill>
          <a:blip r:embed="rId1"/>
          <a:stretch/>
        </p:blipFill>
        <p:spPr>
          <a:xfrm>
            <a:off x="30492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rbel"/>
              </a:rPr>
              <a:t>CNP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100% complete</a:t>
            </a:r>
            <a:r>
              <a:rPr b="1" lang="en-US" sz="37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en-US" sz="37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500" spc="-1" strike="noStrike">
                <a:solidFill>
                  <a:srgbClr val="ff0000"/>
                </a:solidFill>
                <a:latin typeface="Corbel"/>
              </a:rPr>
              <a:t>2,283,012</a:t>
            </a:r>
            <a:r>
              <a:rPr b="1" lang="en-US" sz="35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07.31.2012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ployment Plan: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756,684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960,327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373,423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164160">
              <a:spcBef>
                <a:spcPts val="825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rbel"/>
              </a:rPr>
              <a:t>Deployment Complete as of  7/31/2012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A96-D345-4C79-B28D-3C639768C5B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1446" name="Content Placeholder 2" descr=""/>
          <p:cNvPicPr/>
          <p:nvPr/>
        </p:nvPicPr>
        <p:blipFill>
          <a:blip r:embed="rId2"/>
          <a:stretch/>
        </p:blipFill>
        <p:spPr>
          <a:xfrm>
            <a:off x="304920" y="129852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1447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43C3-C79E-4A44-B1EE-3B040E44281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8443800">
            <a:off x="6598800" y="3602160"/>
            <a:ext cx="2638440" cy="327960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3515600">
            <a:off x="226080" y="3845520"/>
            <a:ext cx="2867040" cy="35514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2011200">
            <a:off x="6840000" y="1096920"/>
            <a:ext cx="2157480" cy="255924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2" descr="C:\Documents and Settings\00015621\Local Settings\Temporary Internet Files\Content.IE5\4H9UELBM\MC900093373[1].wmf"/>
          <p:cNvPicPr/>
          <p:nvPr/>
        </p:nvPicPr>
        <p:blipFill>
          <a:blip r:embed="rId6"/>
          <a:stretch/>
        </p:blipFill>
        <p:spPr>
          <a:xfrm rot="3060600">
            <a:off x="221040" y="792720"/>
            <a:ext cx="1987560" cy="29926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2" descr="C:\Documents and Settings\00015621\Local Settings\Temporary Internet Files\Content.IE5\4H9UELBM\MC900093373[1].wmf"/>
          <p:cNvPicPr/>
          <p:nvPr/>
        </p:nvPicPr>
        <p:blipFill>
          <a:blip r:embed="rId7"/>
          <a:stretch/>
        </p:blipFill>
        <p:spPr>
          <a:xfrm>
            <a:off x="3581280" y="4262400"/>
            <a:ext cx="2401920" cy="255276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2" descr="C:\Documents and Settings\00015621\Local Settings\Temporary Internet Files\Content.IE5\4H9UELBM\MC900093373[1].wmf"/>
          <p:cNvPicPr/>
          <p:nvPr/>
        </p:nvPicPr>
        <p:blipFill>
          <a:blip r:embed="rId8"/>
          <a:stretch/>
        </p:blipFill>
        <p:spPr>
          <a:xfrm rot="10800000">
            <a:off x="3427560" y="1490760"/>
            <a:ext cx="24192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itle 6" descr=""/>
          <p:cNvPicPr/>
          <p:nvPr/>
        </p:nvPicPr>
        <p:blipFill>
          <a:blip r:embed="rId1"/>
          <a:stretch/>
        </p:blipFill>
        <p:spPr>
          <a:xfrm>
            <a:off x="609480" y="231840"/>
            <a:ext cx="8382240" cy="113976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2" descr="C:\Documents and Settings\00015621\Local Settings\Temporary Internet Files\Content.IE5\UZYJAF85\MCj04344110000[1].wmf"/>
          <p:cNvPicPr/>
          <p:nvPr/>
        </p:nvPicPr>
        <p:blipFill>
          <a:blip r:embed="rId2"/>
          <a:stretch/>
        </p:blipFill>
        <p:spPr>
          <a:xfrm>
            <a:off x="1828800" y="190512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14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2229-356C-436B-94C7-26F3208FB4F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0:03:56Z</dcterms:created>
  <dc:creator>00015621</dc:creator>
  <dc:description/>
  <dc:language>en-US</dc:language>
  <cp:lastModifiedBy>TX SET</cp:lastModifiedBy>
  <dcterms:modified xsi:type="dcterms:W3CDTF">2013-08-15T21:49:36Z</dcterms:modified>
  <cp:revision>228</cp:revision>
  <dc:subject/>
  <dc:title>MARS Tas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829819991</vt:lpwstr>
  </property>
</Properties>
</file>