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3679-3219-437B-9149-CFBB49B0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DB60-1572-4646-B2D0-EA8FF13E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A5D3-EEEE-49DE-AA63-C2E42478C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12B1-C176-4153-A1F7-69745E068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C763-7265-414B-8BA7-1D4C1880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EF50-C214-4449-BD76-806B0873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DFF1-1A20-4ABB-9344-1A852BE3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1974-FF0A-48E0-92DF-0E108973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8C77-B607-4966-853A-3009C34E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F47F-EF99-4D6E-9A3A-9A00FDD4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563A-8C84-4C43-9D63-46128903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D961-33A6-4BD4-91D2-BBC25BBE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92D8-7E4B-4086-9141-AF52EE7D2C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lution Days: </a:t>
            </a:r>
            <a:br>
              <a:rPr sz="32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lid Inadvertent/Rescission Issues by Closed D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Chart 3" descr=""/>
          <p:cNvPicPr/>
          <p:nvPr/>
        </p:nvPicPr>
        <p:blipFill>
          <a:blip r:embed="rId1"/>
          <a:stretch/>
        </p:blipFill>
        <p:spPr>
          <a:xfrm>
            <a:off x="152280" y="2664000"/>
            <a:ext cx="88203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 Count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lid Inadvertent Issues by Mon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Issue Count" descr=""/>
          <p:cNvPicPr/>
          <p:nvPr/>
        </p:nvPicPr>
        <p:blipFill>
          <a:blip r:embed="rId1"/>
          <a:stretch/>
        </p:blipFill>
        <p:spPr>
          <a:xfrm>
            <a:off x="225360" y="2060640"/>
            <a:ext cx="876636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advertent/Rescission Issue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centage of Enroll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hart 4" descr=""/>
          <p:cNvPicPr/>
          <p:nvPr/>
        </p:nvPicPr>
        <p:blipFill>
          <a:blip r:embed="rId1"/>
          <a:stretch/>
        </p:blipFill>
        <p:spPr>
          <a:xfrm>
            <a:off x="225360" y="2133720"/>
            <a:ext cx="8594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3T18:41:46Z</dcterms:created>
  <dc:creator>Michelsen, David</dc:creator>
  <dc:description/>
  <dc:language>en-US</dc:language>
  <cp:lastModifiedBy>Yockey, Paul</cp:lastModifiedBy>
  <dcterms:modified xsi:type="dcterms:W3CDTF">2013-08-01T15:46:15Z</dcterms:modified>
  <cp:revision>63</cp:revision>
  <dc:subject/>
  <dc:title>PowerPoint Presentation</dc:title>
</cp:coreProperties>
</file>