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3267FF6-996D-45F4-AAA8-DB3E2C589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F904204-B5C4-42B6-B9C4-FF79E26E3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7BF0778-216E-4332-BFEB-3FB12C652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1398903-198F-4A83-81B2-F28F4DAEE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3DBE8E3-E72F-42AC-8044-86EE126FA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98A-0653-40EB-91D6-64596A93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20E8-3B0E-41B2-A8CA-87DE3E33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259-926E-467A-AB0E-A74F9CF2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BA6F-DC10-4BE3-BB27-49C1D605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912-80E0-4409-A346-0B97A681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75E-FE15-425E-9830-9CC9931E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B50-0E72-4562-9C9A-3A07B1EF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C2C-FA32-4DDF-954C-1946EF55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1DC-712D-4401-A197-AF67102A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DF9F-73EA-4AE5-BFE8-4EEF4097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0D49-5C16-4383-A617-ADB5FFC8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45E1-8B05-48BC-AA56-DCEB3F28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rcRect l="0" t="0" r="38640" b="0"/>
          <a:stretch/>
        </p:blipFill>
        <p:spPr>
          <a:xfrm>
            <a:off x="6058080" y="0"/>
            <a:ext cx="3085920" cy="1359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B7D3-8A16-4A24-AFF5-F32CA3B22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314280" y="22860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01DC-A2AD-4F35-9DC8-E1F8E3192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105520" y="566424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 21,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Additional Ad Hoc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dditional Ad Hoc items pres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9476-D798-4AFB-BBAC-8578A1CE6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5B84-0D7F-49C3-8720-0159B5DF5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AF7E-4F7D-4828-92F5-5ED6E76C7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ERCOT System Outages and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Servic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QTR Performanc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DTWG Implementation Gui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NAESB Upd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ad hoc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ed ERCOT System Outages and fail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presented the monthly Incid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3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ou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3240" indent="-585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rmal maintenance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3240" indent="-585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y 2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July 2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lease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3240" indent="-585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ssues to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3240" indent="-5850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lanned ou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3240" indent="-585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lanned outages for the month of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51814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0425-5404-4B1D-B9A5-40E9846A1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COT presented Service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report all SLO met for the month of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reported an Issue with the MarkeTrak Notification Service (NS) that affected status updates and auto cl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90C6-4952-4198-AEBF-90D169735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COT presented 2nd QTR Performanc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ke McCarty presented 2nd quarter performance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ple of incidents in April and June caused a small drop in performance due to an IT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4_05s fell to 97.36% which is below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1C65-9A02-466A-BE48-960187040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DTWG Implementation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he naming convention of the guide and the possibility that a new document might be needed for the new version since the changes will be signific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an issue that occurred during the last Flight test that should not continue to be an issue once the market upgrades to NAESB Version 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09CD-8508-41BE-A2C0-8DE4C2BAF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he technical content of the guide that poses security risks when published to a public web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ost a base guide that can be accessed by the general publ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the content from the guide that poses the risk in a separate document to a secure 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016A-677D-481E-B711-9A7613AC5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parate document will contain technically detailed instructions that will require users to obtain the proper security credentials to access the doc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rket participants would be allowed to obtain access by requesting the access through their ERCOT Client Relations Manager after they have registered for tes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4870-8D87-4796-892C-2A083CFE4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Discussed NAESB Upd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xas Electric Market changes that include the digital signature requirements still need some work, but the other changes submitted were approved to be included in the next NAESB up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19C3-F353-42FD-873F-A1C1EB51E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Durham, Isabelle L.</cp:lastModifiedBy>
  <cp:lastPrinted>2002-09-24T18:27:58Z</cp:lastPrinted>
  <dcterms:modified xsi:type="dcterms:W3CDTF">2013-08-16T21:49:30Z</dcterms:modified>
  <cp:revision>729</cp:revision>
  <dc:subject/>
  <dc:title>PowerPoint Presentation</dc:title>
</cp:coreProperties>
</file>