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3A8-96CE-49DC-A4FD-97C90574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A10-FD2E-451B-AC60-AE1C6195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8086-4CE9-490A-BD49-09571E0D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B038-BD4A-4975-9804-D399F07D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4791-4E08-458C-BFAE-0CB37B38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B155-5C80-492B-AF8D-AFF86A7E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909A-0126-4B4A-93E1-B13E73B6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4A6C-4165-4489-A0F9-CF568890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710-7964-4D6E-995D-056EA348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558-1CB8-49C0-BAE0-38BC92A8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3F1C-0DC3-423E-9314-1895E478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B7F6-D638-4858-A1A8-7A9DD3D6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1804-B7FD-4F79-A0CD-73BB4891E707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874B-5D68-4695-89DF-B3F7D92A39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SMT Update RM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ugust 21, 201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(updated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DA4D-4FBC-4F05-A71B-90396C7AD2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MT – Key Highligh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peration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dentifying Future Design Options to Support Increasing New Requirements for Large Volume Ad Hoc Energy Data Request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tinuing to Analyze Opportunities for Process and Efficiency Improve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velopment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riginal AMIT Change Reque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pleting  Story Board for Presentation to SMTDO - AMIT Change Request for Grouping of ESIIDs  for Business Customer Aggreg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B305-D6D2-4E54-9365-9FF493250D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33520" y="12949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elp Des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mpleted Implementation of SMT Help Desk Survey Tool for Custom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MWG Change Reques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MWG CR 2013 001 – 011 Awaiting Outcome of SMT Usability Evalu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MWG CR 2013 012 – 015 Being Evaluated with SMT Usa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MWG CR 2013 016 (Provide Functionality to Allow Multiple Vendors Access to SMT Energy Data API s and SMT FTPS on Behalf of REPs for Specified DUNs) Identifying Design Options for Story Board and Estimation Proc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70D4-BFC4-4E89-95BF-EFA8C39BAE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MT – Key Highligh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MT - Third Party Updat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evised Schedule forthcoming based upon Usability/Focus Group/Cyber Review Proces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e appreciate your patience, understanding and continued interest in this proje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mpletion tentatively planned for September with the latest being an October 2013 timefram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Updated Schedule will be presented by JDOA to SMT-DO (PUCT Project No. 41172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ecent Progress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ceived Security Audits from Multiple Vendors for Third Party Functiona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valuating Third Party Security Audits and Developing Appropriate Mitigation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Usability Review &amp; Focus Group in proc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867F-A6A3-4F5A-8654-FAA599A45D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13:29:13Z</dcterms:created>
  <dc:creator>james.stauble</dc:creator>
  <dc:description/>
  <dc:language>en-US</dc:language>
  <cp:lastModifiedBy>Wright, Christine</cp:lastModifiedBy>
  <dcterms:modified xsi:type="dcterms:W3CDTF">2013-08-19T20:23:11Z</dcterms:modified>
  <cp:revision>342</cp:revision>
  <dc:subject/>
  <dc:title>HAN Core Support Team</dc:title>
</cp:coreProperties>
</file>