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6E98-F3BB-4D14-80D1-CB2A2704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5243-CAC2-49AD-82DA-7E9F3F26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DD4E-7837-49C1-ABE0-FD671E31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C2B7-1A4D-40C9-AD7A-4896C1C0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23E1-A37E-4495-9CE9-7DE0D216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C13F3-2119-4240-93C8-D4E1FC00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081DF-1F2D-496F-83FF-2A39748D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DD6CC-CA74-4876-86EA-00523DE7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1CBEB-F985-4A6A-BB26-5C715577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5DE7C-C2F7-4432-89E2-97BAEEAB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389F-B7CC-46BD-849A-64160365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AA70A-6A35-4E20-9C25-1BBF8B99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729A9-E901-464B-A8B5-F7A88E78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37642-FF25-44F4-84CB-CB989674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9F87B-38A7-4CD8-AD70-47FE44A8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079EB-E209-4C1F-976B-94862F71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C2F9E-6E56-4548-9533-E0809AD1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1E982-9B17-4737-BCA0-FDF0A517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F8C834-0401-4B22-978D-F0A1ACDC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7BFE28-76FC-4F35-8B26-2DC17AE7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9FCD37-DAD3-48A0-80D3-7C5BA1D0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92AE-79CC-46D0-971D-EE018733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33846D-A49D-4BD8-B1D6-FC26DF67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967070-99A9-4678-8F30-1CADA8AE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A8865-1DC7-4907-9CEE-7EBB5532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2AC74-E945-422F-A0A3-8922F5F4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D5DAB2-BA22-4C99-BC69-6A2BA5CB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29779-51BE-4125-A3B1-91761D60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F94CD-34C3-443D-9846-3AA260C2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70C961-72D1-45A1-99F4-31F6E0F3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12DF10-2666-4AF8-AC38-A9901FA1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31C2-4CA2-4157-87E2-41151755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0C76-7200-4B40-86FA-96BA6EFE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CD1D-7480-4CA3-80EA-71FD820B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8495-A0C5-4AED-878B-F5036419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D0FB-7DAA-4E48-BF4C-9611B6D7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B47E-8601-4386-9334-9180BFA91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88824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88788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4ED0-F5EC-4ECE-B72F-7FBFAF3B6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740F-9D9E-4379-B36D-5EBF5BA4E5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5EC2-522F-473D-A709-919C82FB6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2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3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EEAC-3A84-40E3-BFF2-ACC21E5B7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828800" y="3495240"/>
            <a:ext cx="6477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08/21/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761760" y="2209320"/>
            <a:ext cx="8381880" cy="13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C AUGUST 1, 2013 Meeting Up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to Retail Market Subcommittee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nnual TAC Procedure and Structure Revie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sues Discussed &amp; Solutions/Actions Proposed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0880" y="13716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Workings Groups be able to file comments and/or file NPRRs without those being voted on by the Subcommittee they are under fir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rns about WG meetings with very few attendees filing comments not reflecting broader market’s vie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nority opinion may not be documented very well with the com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ting at SC level makes issues more transpar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impact Working Groups and Taskforces under RM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COT will review and bring back language for the TAC procedures to define what WGs can do or cannot do for the next TAC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ems that have a clearly defined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change control proces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lace like RMG or and COPMG may not be subject to any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B66B-E517-4416-BD1F-B0C832DF63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sues Discussed &amp; Solutions/Actions Proposed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nstitutes an appealable action of TA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ons learned from NPPRs 444 and 54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ction of TAC is currently  defined in ERCOT Bylaws as a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67%  affirmative vote by T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ly no defined procedure exist to appeal an action of a sub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COT will bring revised language for the TAC procedures to improve the appeal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6D28-809E-4E7C-9999-37C3ACBA3F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sues Discussed &amp; Solutions/Actions Proposed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PL Process of re-ranking at PRS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COT likes the input from the market participants to re-evaluate the rankings previously appro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lides that show the releases  are very good communication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change or action proposed for the PPL review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0590-0CEF-498E-BC82-4CFDA98976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sues Discussed &amp; Solutions/Actions Proposed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ments for the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 the agenda and materials in advance as soon as poss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e items that will be tabled in adv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iminate “Possible Vot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cel meetings if there are no significant  and/or urgent agenda i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ld joint meetings with the different SCs or WGs if the issue at hand touches multiple proc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issues are pushed from one SC to another with no resolution for a long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shops are preferred format of meeting for these type of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manage  Webex meetings  to eliminate disruptive sounds on the phone 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5985-8CD3-44C9-B77A-92070EF00A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ESTION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7" descr="C:\Documents and Settings\basaranh\Local Settings\Temporary Internet Files\Content.IE5\90TK9MLR\MC900434403[1].wmf"/>
          <p:cNvPicPr/>
          <p:nvPr/>
        </p:nvPicPr>
        <p:blipFill>
          <a:blip r:embed="rId1"/>
          <a:stretch/>
        </p:blipFill>
        <p:spPr>
          <a:xfrm>
            <a:off x="2666880" y="144792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X SET</cp:lastModifiedBy>
  <dcterms:modified xsi:type="dcterms:W3CDTF">2013-08-21T16:26:27Z</dcterms:modified>
  <cp:revision>616</cp:revision>
  <dc:subject/>
  <dc:title>Instructions</dc:title>
</cp:coreProperties>
</file>