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D4FD-71F6-4F6B-A368-9F3BDE50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8FFB-01AF-48C5-A13C-20E3B226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B641-D423-4788-8A53-5ECF887F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A31A8-E987-4BE3-9500-D8503639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8928-0406-45CB-9128-893C97E9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17231-DAC3-4764-97C4-D2C74425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0D439F-6BE7-4199-9A51-33AC1591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669EDF-3D2B-473E-B0E9-ACBD568B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E6F5B-4526-4488-8AD6-8DA7DE11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FF5D6-4124-431D-AD0F-DEB17644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10B6-C62E-4D23-B9D2-0AFEA964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EAE4FE-4CF1-479B-A119-ED8EDA93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7F14F-3467-491B-95F5-D803E45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4BE0F-EE0B-4E34-A217-B6EC92D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CE77B-1B2E-44E6-94E9-937F8945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79C90-0AC9-4AD3-BBD6-B5B0ABC9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2D9D09-7FE2-404B-BB21-B0994255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7B3A4-6942-4B0D-9BFE-F586E4CF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ABE333-3300-460D-9171-BBD39278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DEC9C-FC29-4FB4-B2CF-7348E6C2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64F0A6-96B8-436B-80E2-97B51DA1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8316D-1D37-4993-9FAD-7ABBAD63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DED06-81C7-47CB-A276-5CD64D5B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26D7ED-F3A2-4857-A3C0-8420474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BC517-8083-4513-9AEE-907F4311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1A70CA-A323-4809-80DC-BFA6DA46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5092D-0B40-48C7-947B-EE23CF18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B4802-B1B6-4256-BEC0-15EDFBC6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F9DA91-6D05-4336-A897-A69AFBE7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99BA61-3A07-46F3-8B25-145FB846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0B162B-9F08-423A-8D12-FBE0EC9C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151D-08C9-4ED9-90B4-D28D35C9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8A229-F76D-4A2D-ABC3-FDA96620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FDDF-4694-4395-9ABF-C57B2C48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AF64-8819-4F36-B236-B3AE63D1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5F95-6F19-4300-B881-34CF8C52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00BC-B200-469C-9626-4DCEAF3E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960-7CC5-4966-BAF7-97920938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C7AB-EDA1-4702-A5DA-58D78C1F94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30B4-1AD0-41C2-BDCA-B3D1EE8A58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404E-13A9-4BFB-A48E-093C832C3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94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828800" y="34952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 </a:t>
            </a:r>
            <a:r>
              <a:rPr b="0" i="1" lang="en-US" sz="2000" spc="-1" strike="noStrike">
                <a:solidFill>
                  <a:srgbClr val="000000"/>
                </a:solidFill>
                <a:latin typeface="Arial Black"/>
              </a:rPr>
              <a:t>Austin Ener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vided for discussion purposes only at t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08/13/2013 COPS Mee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457200" y="220932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DEAS &amp; DRAFT PROPOSALS FOR THE NEXT STEPS TO REDUCE THE RTM SETTLEMENT TIME LIN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we achieved so f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0880" y="13716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rted Nodal market  with OD +10 on 12/1/20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 391 reduced it to OD + 9 implemented on 12/1/20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 509 Phase 1: reduced it to OD + 8 days implemented on 4/1/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PRR 509 Phase 2: reduced it to OD + 7 days implemented on 8/1/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al statement posted on OD + 5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kly Webex calls to monitor any impact observed by any market particip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ajor issue has been reported so f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E333-D71B-4443-B199-961BFD8D6BC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tion 1: Linked to offer ca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uce one day per year and link the implementation dates to the offer c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6 days on 6/1/2014 (Offer cap $7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 to 5 days on 6/1/2015 (Offer cap $900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days may be the “sweet spot” with only minimal impact to all stake 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not be fast and short enough for some stakeholders concerned with credit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C218-605E-409B-8787-5BB170A10D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ption 2: Reduce &amp; Review (on going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Reduce one day at a time until reduction in accuracy is not palatable for the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impacts of going to 7 days (4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 to 6 days on 12/1/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impacts of going to 6 days (4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 to 5 days on 4/1/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impacts of going to 5 days (4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 to 4 days on 8/1/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the impacts of going to 4 days (4 mon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 to 3 days on 12/1/201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Going to less than 3 days may cause significant impact and  require to have additional initial settlement statement posted such as around day 10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6EB3-B187-4954-B4CF-257E98A076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re the next step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0880" y="13716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hedule a workshop before September COPS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cuss all alternatives to reduce the RTM Settlement time 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etrics to analyze the trade offs between reduction in the accuracy of the initial data with the improvements in the credits risk and a faster clearing mar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plan with milestones to present to TA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ideas, issu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62B03-9EBE-4E57-912E-91CDF0BB4E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08-12T20:59:16Z</dcterms:modified>
  <cp:revision>655</cp:revision>
  <dc:subject/>
  <dc:title>Instructions</dc:title>
</cp:coreProperties>
</file>