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49593-AD3D-4B8B-910B-60873917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F795C-12B8-42C8-9965-1A8AE64A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D9C1-BF89-4114-ACEC-87C424FB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D023-D4E7-4033-BB8A-2E7A18F2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1859-644A-4B83-B463-3B75C6589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F4F8C-6606-45C6-882A-4910B17F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29D99-EB56-42D6-9F22-26F70B81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F7E9-2941-45A4-9872-1B76FC12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A6FF-B20D-409D-8814-0643BD9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4E84-BED8-471A-BE86-8C3485FC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133D-025C-4FFE-90AE-6C13AEC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8B70-77BB-4E9E-8ADF-2F60367D6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3C65-61B0-47D9-9BA4-33E1BAF66E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9C0A-C0DF-4A20-8393-64D434B5D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980720"/>
            <a:ext cx="6477120" cy="124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SWG Report to COP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8/13/20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im Galv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MCj04344110000[1]"/>
          <p:cNvPicPr/>
          <p:nvPr/>
        </p:nvPicPr>
        <p:blipFill>
          <a:blip r:embed="rId1"/>
          <a:stretch/>
        </p:blipFill>
        <p:spPr>
          <a:xfrm>
            <a:off x="2666880" y="25146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Observations- LZ to Hub July 2013 to July 2012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3657600"/>
          <a:ext cx="8839440" cy="2514600"/>
        </p:xfrm>
        <a:graphic>
          <a:graphicData uri="http://schemas.openxmlformats.org/drawingml/2006/table">
            <a:tbl>
              <a:tblPr/>
              <a:tblGrid>
                <a:gridCol w="1041480"/>
                <a:gridCol w="1074600"/>
                <a:gridCol w="528840"/>
                <a:gridCol w="749160"/>
                <a:gridCol w="738360"/>
                <a:gridCol w="1081080"/>
                <a:gridCol w="154080"/>
                <a:gridCol w="1058760"/>
                <a:gridCol w="1123920"/>
                <a:gridCol w="154080"/>
                <a:gridCol w="1135080"/>
              </a:tblGrid>
              <a:tr h="228600">
                <a:tc grid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Zone/HUB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-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 grid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ocation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one over HUB Compari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SPP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ne over HUB De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  <a:tr h="163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50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4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A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C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16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5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80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6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4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152280" y="838080"/>
          <a:ext cx="8839440" cy="2743200"/>
        </p:xfrm>
        <a:graphic>
          <a:graphicData uri="http://schemas.openxmlformats.org/drawingml/2006/table">
            <a:tbl>
              <a:tblPr/>
              <a:tblGrid>
                <a:gridCol w="1041480"/>
                <a:gridCol w="1074600"/>
                <a:gridCol w="528840"/>
                <a:gridCol w="749160"/>
                <a:gridCol w="738360"/>
                <a:gridCol w="1081080"/>
                <a:gridCol w="154080"/>
                <a:gridCol w="1058760"/>
                <a:gridCol w="1123920"/>
                <a:gridCol w="154080"/>
                <a:gridCol w="1135080"/>
              </a:tblGrid>
              <a:tr h="249480">
                <a:tc grid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Zone/HUB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-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 grid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ocation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one over HUB Compari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SPP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ne over HUB De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  <a:tr h="177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7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7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A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C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96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78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ttlement Observations- LZ to Hub June 2013 to July 2013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505320"/>
          <a:ext cx="8763120" cy="2590560"/>
        </p:xfrm>
        <a:graphic>
          <a:graphicData uri="http://schemas.openxmlformats.org/drawingml/2006/table">
            <a:tbl>
              <a:tblPr/>
              <a:tblGrid>
                <a:gridCol w="1031760"/>
                <a:gridCol w="1065240"/>
                <a:gridCol w="525600"/>
                <a:gridCol w="743040"/>
                <a:gridCol w="731520"/>
                <a:gridCol w="1071720"/>
                <a:gridCol w="152280"/>
                <a:gridCol w="1049400"/>
                <a:gridCol w="1114560"/>
                <a:gridCol w="152280"/>
                <a:gridCol w="1125720"/>
              </a:tblGrid>
              <a:tr h="234720">
                <a:tc grid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Zone/HUB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-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 grid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ocation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one over HUB Compari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SPP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ne over HUB De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7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7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A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9.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C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152280" y="838080"/>
          <a:ext cx="8839440" cy="2590920"/>
        </p:xfrm>
        <a:graphic>
          <a:graphicData uri="http://schemas.openxmlformats.org/drawingml/2006/table">
            <a:tbl>
              <a:tblPr/>
              <a:tblGrid>
                <a:gridCol w="1041480"/>
                <a:gridCol w="1074600"/>
                <a:gridCol w="528840"/>
                <a:gridCol w="749160"/>
                <a:gridCol w="738360"/>
                <a:gridCol w="1081080"/>
                <a:gridCol w="154080"/>
                <a:gridCol w="1058760"/>
                <a:gridCol w="1123920"/>
                <a:gridCol w="154080"/>
                <a:gridCol w="1135080"/>
              </a:tblGrid>
              <a:tr h="235080">
                <a:tc grid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ad Zone/HUB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 grid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Location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one over HUB Compari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TSPP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w Lab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 RTSP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one over HUB De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be5f1"/>
                    </a:solidFill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.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8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8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8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A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4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3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Z_C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HOUS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2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1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B_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9.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4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nd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812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Q2 2013 Price Volatility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066680" y="60958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</a:rPr>
              <a:t>Analysis of North HU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80880" y="4724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s remain stable with 88% prices clearing between $18 and $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280" y="1371600"/>
          <a:ext cx="8686800" cy="3048120"/>
        </p:xfrm>
        <a:graphic>
          <a:graphicData uri="http://schemas.openxmlformats.org/drawingml/2006/table">
            <a:tbl>
              <a:tblPr/>
              <a:tblGrid>
                <a:gridCol w="2117880"/>
                <a:gridCol w="1314360"/>
                <a:gridCol w="1312920"/>
                <a:gridCol w="1314360"/>
                <a:gridCol w="1312920"/>
                <a:gridCol w="1314360"/>
              </a:tblGrid>
              <a:tr h="237960"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/30/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ice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Q2 2013 Interv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% of Interv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Q2 2012 Interv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% of Interv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Variance Quarter over Quar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&lt; $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6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5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1.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3,4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18 to $24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,9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3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,4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9.6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55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25 to $39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,8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5.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,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6.5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3,36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40 to $99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.4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9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65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100 to $499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.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500 to $2,999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.2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(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$3,000 to SWO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.0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.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Tota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,7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8,7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st to Serve Load- July 2013 v 2012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1828800"/>
          <a:ext cx="7391520" cy="3352680"/>
        </p:xfrm>
        <a:graphic>
          <a:graphicData uri="http://schemas.openxmlformats.org/drawingml/2006/table">
            <a:tbl>
              <a:tblPr/>
              <a:tblGrid>
                <a:gridCol w="655920"/>
                <a:gridCol w="655560"/>
                <a:gridCol w="655560"/>
                <a:gridCol w="1501920"/>
                <a:gridCol w="1023840"/>
                <a:gridCol w="1147680"/>
                <a:gridCol w="1751040"/>
              </a:tblGrid>
              <a:tr h="227160">
                <a:tc gridSpan="3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to Serve Load Summary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$0.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$0.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-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hmetic Average Related Char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pin Rsrv Ch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 Dn Srvc Ch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 Up Srvc Ch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pnsv Rsrv Srvc Ch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evenut Neutrality Adj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Pe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-Pe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$0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$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l-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ithmetic Average Related Charg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Spin Rsrv Ch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 Dn Srvc Ch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 Up Srvc Ch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spnsv Rsrv Srvc Chr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EN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-Pe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f-Pea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0.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28600" y="10663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ly mild weather and stable gas prices leads to stable pricing, although increase in prices year over ye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rice volatility for Q2 2013 reflects the same mild weather and stable gas pr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 volatility primarily remains out We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cillary Services down year over year in cost driven by lower Responsive and Non-spin co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uly Highligh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SWG Initiativ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duced Settlement Time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ekly calls have begun each Monday at 3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timeline change has one day change in Data Aggrega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to provide weekly “Data Availability Repor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be looking at continued possibilities for further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WG reviewed SFT analysis related to Re-settlements of CRRs and CRR BA for D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SWG meetings have transitioned to “Remote- Web-ex” Meetings going forwar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SWG Initiatives- Summary of SFT DAM Resettle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vided good summary of issues leading to the Resettlement of the DAM for various operating d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ain CRRs with a source or sink at resource node in the DAM were not derated and should  have b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ed in funding CRRs more than they should have been, creating a shortfall to Congestion Rents collected and deficient CRR 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 holders in the DAM therefore short-p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ailed presentation on the ERCOT.com CSWG site along with data supporting impact and 2% trigger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settlements are in 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-settlements will correct ~$3.5 M of estimated $6 M erroneously calcul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SWG Initiatives- Summary of SFT DAM Resettlement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COT provided summary of what would be posted and how the resettlements would begin and updated settlement calen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data has been made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ents from CSWG members focused on the 2% rule and its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followed protocol and provided daily impact of the totals that identified the 2%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keholders expressed concern that the 2% rule for errors should be 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R Balancing Account deficient to pay short-paid CRRs in the DAM, should the market re-visit the CRR BA 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additional discussions at this time planned for this topic at other grou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624852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ate Placeholder 4"/>
          <p:cNvSpPr/>
          <p:nvPr/>
        </p:nvSpPr>
        <p:spPr>
          <a:xfrm>
            <a:off x="1143000" y="64580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Landry, Kelly</dc:creator>
  <dc:description/>
  <dc:language>en-US</dc:language>
  <cp:lastModifiedBy>xqh5</cp:lastModifiedBy>
  <dcterms:modified xsi:type="dcterms:W3CDTF">2013-08-12T21:39:15Z</dcterms:modified>
  <cp:revision>409</cp:revision>
  <dc:subject/>
  <dc:title>Instructions</dc:title>
</cp:coreProperties>
</file>