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BD99-3456-458A-929C-A645F896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C79C-5009-4111-9F44-4B91913A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ED75AB-233C-44CA-BE38-26AC0540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BA4BDA-3DF8-4CEB-8B54-EAB7ADAE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622D7D-7475-46D4-A415-EDC13B14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0D8F39-2432-4B35-90AE-6ADAD390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1CA02E-98B9-493B-B3C1-6B306381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0F9B4B-36DA-41A3-B76A-721DD590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0A4581-CBF5-4523-A8AD-1EC3E123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07D13B-C0C8-46FD-9782-59434949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BE1AB8-EA61-4086-B1D3-E8108D36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E7195C-2E8E-4E3D-B79B-8950603E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5651A-91F1-4CE0-885B-06B67D66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FCCEC2-FDB0-4B11-99DC-A592FE8B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8997B-806A-4E10-943D-D8DE13ED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CF38AA-853D-4AA6-92A5-EEDFCC07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37945-673E-48EF-AA9A-06D74FB5B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A8802-EE86-4AE0-920F-03914765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16DAE3-6DC1-4663-B414-36397B01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78DFA-24D6-48A3-B106-E2B29AF6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E2E71-457B-4395-9531-3AE75CEC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A29F18-0A52-4499-8F03-37217C4B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805DFD-4AE9-4E4C-BA47-248C6FC9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2FF3-F021-4D38-B8A3-34F2F408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3E11E-1EF1-4815-B3D0-351B3D79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5C535-5353-4E3B-B87D-7A40DAB1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FC30C-FD7D-4C44-AC86-9CF9654B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3EB6F8-C5BE-4D59-B39A-F2433929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E541B-AB27-4CA0-BC1A-82717F84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3D7D7-F77C-48D2-BA8A-66C861A1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50F86A-A456-4DE9-9636-31C68AEC1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60007E-6BB2-47C5-878D-1288F2E7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903CF-C978-4B2E-A05A-E56C2C9D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6A1206-72AC-41D4-BEBA-ED459A3A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451D3-A6C0-4D9D-8B6F-83BE1345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42134-5BCC-4957-ABDF-EFF957E4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8DE0C-05E6-494E-A11E-6A6E2628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39BC12-4696-4E19-BAE9-822E6C22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0406614-872F-4A02-B033-A8AF2831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5D2422-D1AF-479C-BB5A-744E8E53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2686F8-7B2A-4D3B-8C22-58D8F4D9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6E3660-75A6-4005-92A0-23478300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1207C7-C8D3-44CE-AD4A-BA84600F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2F4FEB-F8A3-42FB-9B0E-CD3B2AB3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D736D8-7143-49B5-807C-F512CF01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DAD4BF-AA50-4123-826B-84426641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A9BE6A-F46E-4AA2-B9FD-7364B6BD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7C3CAA2-C49F-4190-94A7-01D5BED7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7A2666-7E8F-42E7-93EE-D4B8FF4A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4173B7-0951-4DDA-B477-C40069C79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B6A99A-933E-4FCB-A5FB-A5F4F0F5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33E1B-5835-411B-A0CC-8D1F5A3E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1563F-E75D-4A2D-A3CD-0EEFB3AE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513CEB-AA38-4CD8-B3A2-FBCD6304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911820-6C31-498C-9A5B-639DEED2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019A90-847E-4FE0-9D75-8962F07C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EAEFE3-9AD7-418F-AD8D-44455E4A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587EC-83AE-4CDF-95BD-E69645A5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6ACEAC-2363-4EFF-844D-5277DF4A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91F0D-F88B-415E-9B61-C108AAE2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D2BDA-1665-436B-B844-987452648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DAEB24-C68D-46DA-97D7-D6EE0293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0ED5499-F72C-47A1-A661-279C91C0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E1EF821-34F4-4034-9368-3EBFE970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5656A0-D291-4F0A-BDCB-9267793E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6B3A0E0-EF98-4677-AC76-A555F4D0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B47E8A-9B2A-487F-9EC9-39BEBC78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6876E0-F1C4-421C-A295-E2A7A81C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2174AB-FD15-4716-9BF9-92A828B5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9517E0-4525-41C4-BF77-7A3B23C5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D4A76EE-C18F-4A31-8DCA-A5CFEDC2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790CE15-2491-4533-8F35-BCDBEBE56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14429B-44E4-4580-8934-EC7807D39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6792253-0998-40DE-80FE-FFD116F7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BF0DD61-01C0-463C-94FD-D3B73651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F7D814-8E77-444A-9A91-77601339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93A915-E56F-46E3-9EFA-ED07D7F41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B64033-63AB-4476-B634-5489EED4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7B801C8-71AA-4844-80C8-25CC02B9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54EB01-7298-4568-AF95-7FC365BA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9336618-EB33-4505-AED8-C1455F8C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5373938-855D-48A0-BE21-EF0D98F3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C6D59B-CF1F-4964-AF41-553EFA82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DD2DDA9-3264-46F6-98F5-5D36BF16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B76903D-DB6F-4A07-B8D0-474436CEA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D1537FD-27E6-4150-BF3F-13F819526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906856-943E-4AE1-B613-4F685433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0A31CB-F918-4766-A1A2-65936D2C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A81408-1E5B-4944-AE04-0A154CC3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59526F-0CFE-467E-B09D-7078C9114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1A7B78-B463-450E-808E-9D1CC7D2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29844A4-AFF4-47BA-924D-1FF091D3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6C844AA-E7FF-48CB-82DD-01CE524B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62B5683-69CB-4793-A499-8EAD9363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3CA687-103E-4CAB-9B51-A1740AC8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521998-721F-45DA-A273-A54C98C0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B41122-9AF3-482F-A95B-FDD83AAD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2C3D7D8-8D22-42E0-A757-287AA763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9A1B9C4-CAEA-4C88-A279-6CEA320A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06B6C9A-9308-4BB8-8581-C3FB64C1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78288D5-B18B-42A6-B26E-766A2DA8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B03687-6024-4EE0-B52D-F3A9BE32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EDA5D2F-853E-443A-B0D6-0BC9B14E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79FC198-A1A2-4962-8F4C-9E79BE58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5912C-2DDE-4CE0-9CE2-FF80A7CAD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5676BB2-C5DB-4DD0-983A-8A25D01B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F89EAE5-F1C2-4960-90DF-24B329AF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115B4F-72D2-45CB-945E-30540A61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E89FB64-07FC-4AD6-8785-5DD775AA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C1DB7AE-DC6E-407A-8318-B717FF06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C45C4C-A84C-4962-8DBE-99A39738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5B144-BBCD-44E3-80D4-53FBD381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C1B21-43F8-4D63-8992-97751145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3855D-6F6F-4B31-A624-58213AD5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C3BDE2-F592-4323-A6DE-44E4AEA96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E076-97C0-4EB3-8390-3588483B4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1A61B-EE1D-4FD9-9CA0-5213E153B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92C9C9-1812-4385-8F57-CF75B766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F9C788-A1FE-4902-8836-56E1B586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58B11-339D-449C-AAC2-7A50A86D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34925-FA73-4AAB-A556-DB0F2B9D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5169E-6882-4E75-9DED-68A6DBBA1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EEE1C7-A360-4C8F-9295-23F09970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4B36A-BD2D-4659-B297-EEC86B7C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F24E90-39CF-4388-BE1E-93054007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09D772-B6B6-4621-B4C2-910E4262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495CB-61D7-4CDA-A9AD-1036ABBE4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1487DF-A930-48B0-BFD5-835ED1E8D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FAE517-C73F-44AC-9B1E-CECE0974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36D82A-4ECA-4543-ADBB-BA204A68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BA79B0-EB0B-4B46-ACE1-1C702D10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2CCECF-4AD1-4BB1-9AC8-028E1021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D1950C-C4F7-4DED-9B8A-EF308A3D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6A0816-E2F9-4D7C-8F98-A57C4B4D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49D1F1-57EF-48E6-ADAB-98D63F3A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DEABC1-DED0-40F7-8280-442CC6DDF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D6E9-657F-4F7D-86E1-60481249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81E9-2D3B-43E2-93C4-C3C07650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A480-5A7F-4A11-9A4E-B5E1CA9E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214DB4-1FD8-4F2C-AFD4-9ED0D76D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B42BA8-1D79-4312-B21B-3C24C493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BA5EC6-85DE-40AA-8147-E9210413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F6C94E-70B1-4B8F-ADC1-95C0DF2A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2A7B5F-F81A-4AAD-83F6-B9068936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7E477E-AB5F-4B26-9118-C627A380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8D2A16-53C8-4D70-B116-0609E4F7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4E63-1E38-493E-A1CF-A909CE43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F85A0B-E103-433A-BEF5-49C5CF78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49D5E1-EA0D-452C-9EA5-886B5CB8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0A29C7-7D11-4E8B-9851-86C9323F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791D4A-1BA9-48C4-9E6B-252F9D3D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4BBA9E-A9DA-4C71-A5D4-FD8B6741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78AAC7-B8FA-4A2C-B865-3DF06B28C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D65C2B-9C85-4FB6-B77E-52C5E3E7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5BB938-387D-47A4-AE67-9AE4C787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B80E49-E76C-4812-B1BF-33C4D6EF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E35EC87-87B2-4DE8-8445-6C1E0BC0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AC44-C670-4E9E-A4B7-6603F88F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70E60E-AC2B-4DAF-875E-1618D2CB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517D25-5E95-4EDC-ABE1-7D20B52A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2B2F57-4323-40ED-B3C8-011F2B5B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D9C9C4-9582-4179-A98D-0D6841CF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422DE4-996D-4B5E-85A8-B8690896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58609F-25F4-4395-8F83-DED3000F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3C8B11-CC8D-448F-A51D-83093300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6BC03F-0D30-44DC-AB16-F09F1DE26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B72925-871D-4F2F-A3FD-BF8A5F3D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CF0C84-23EF-477B-AB16-0BCBCBB6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27AE-7D71-4C93-BC8E-4C176D41D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88824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88788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65A1-44B7-46E3-BAF5-9127E0B1F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3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4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5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57AB-0679-4888-A007-EB9C3E5CD6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6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7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8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2FF3-17DF-443B-AD94-7E8E9FE347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9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0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1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4711-0AFC-4D84-A8C8-B084502861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2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3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4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49AC-DDD1-4ED6-B978-3A97CC13F3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5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6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7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69AD-86B6-44C0-A2DA-8AA14771B9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8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9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0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9D84-7B75-42EE-B5A6-051D41D37E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1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2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3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B226-B302-4559-BE18-ED73F78293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4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45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46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0400-F72A-4545-A7A1-3167DA31D9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42799-8607-4DA5-A21C-427BB951B3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9D09-7D51-4A8A-9BA8-7232DA8771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2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3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6983-8F4A-44BD-987F-6B4536038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4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15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16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4C5D-8798-485F-9D8B-03B43D713E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7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18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19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E5A5-0BAA-4B54-B227-54B5E16604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0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1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2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2D56-11C6-44E3-8868-6898AADB87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ubTitle"/>
          </p:nvPr>
        </p:nvSpPr>
        <p:spPr>
          <a:xfrm>
            <a:off x="1828800" y="3495240"/>
            <a:ext cx="6477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rika Basa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08/13/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title"/>
          </p:nvPr>
        </p:nvSpPr>
        <p:spPr>
          <a:xfrm>
            <a:off x="761760" y="2209320"/>
            <a:ext cx="8381880" cy="13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AC AUGUST 1, 2013 Meeting Up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to Commercial Operations Subcommittee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nnual TAC Procedure and Structure Review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br>
              <a:rPr sz="24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sues Discussed &amp; Solutions/Actions Proposed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80880" y="13716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Workings Groups be able to file comments and/or file NPRRs without those being voted on by the Subcommittee they are under fir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rns about WG meetings with very few attendees filing comments not reflecting broader market’s vie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nority opinion may not be documented very well with the com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ting at SC level makes issues more transpar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impact COPS WGs. Currently CSWG is required to file comments for each  COPMGR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COT will review and bring back language for the TAC procedures to define what WGs can do or cannot do for the next TAC me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ems that have a clearly defined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change control proces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lace like COPMG and RMG may not be subject to any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C97F-DBEC-4E0F-81E3-A7BBE686F0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sues Discussed &amp; Solutions/Actions Proposed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nstitutes an appealable action of TAC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ons learned from NPPRs 444 and 54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action of TAC is currently  defined in ERCOT Bylaws as a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67%  affirmative vote by TA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ly no defined procedure exist to appeal an action of a sub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COT will bring revised language for the TAC procedures to improve the appeal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F98B-B404-4E4D-8211-9D2ED04D50B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sues Discussed &amp; Solutions/Actions Proposed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PL Process of re-ranking at PRS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COT likes the input from the market participants to re-evaluate the rankings previously appro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lides that show the releases  are very good communication t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change or action proposed for the PPL review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6117-3D42-4422-B73F-B78A65DD44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ssues Discussed &amp; Solutions/Actions Proposed</a:t>
            </a:r>
            <a:br>
              <a:rPr sz="29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ements for the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 the agenda and materials in advance as soon as possi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e items that will be tabled in adv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iminate “Possible Vot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cel meetings if there are no significant  and/or urgent agenda i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ld joint meetings with the different SCs or WGs if the issue at hand touches multiple proce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issues are pushed from one SC to another with no resolution for a long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shops are preferred format of meeting for these type of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ter manage  Webex meetings  to eliminate disruptive sounds on the phone li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BAC1-1110-40D0-BFA6-4AAFD05A5B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QUESTION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457200" y="1706400"/>
            <a:ext cx="8229600" cy="48276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7" descr="C:\Documents and Settings\basaranh\Local Settings\Temporary Internet Files\Content.IE5\90TK9MLR\MC900434403[1].wmf"/>
          <p:cNvPicPr/>
          <p:nvPr/>
        </p:nvPicPr>
        <p:blipFill>
          <a:blip r:embed="rId2"/>
          <a:stretch/>
        </p:blipFill>
        <p:spPr>
          <a:xfrm>
            <a:off x="2666880" y="1447920"/>
            <a:ext cx="4114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saranh</cp:lastModifiedBy>
  <dcterms:modified xsi:type="dcterms:W3CDTF">2013-08-12T17:52:47Z</dcterms:modified>
  <cp:revision>615</cp:revision>
  <dc:subject/>
  <dc:title>Instructions</dc:title>
</cp:coreProperties>
</file>