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1DEFE-3D13-4052-8856-F994BF98F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21468-322C-462A-9BE9-1A9B4D28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5444B-B20F-422B-AA3F-17C9C099C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EEE19-82A3-422E-B0A0-A61539C69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CA389-53B6-44B8-8420-255EA89E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C40BE-4D1D-4B36-BC8C-C9EB992D0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C19E5-6B0A-4B85-AD7D-B43F17A1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BD633-DC8F-45D1-B442-3D232654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39BF5-073B-4C7E-818E-C4A5ACBD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32182-3322-4EA4-B09A-B9F2F7F6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FBF66-7284-4703-8F7F-59E7A713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C61EF-CD00-4714-9B5D-1A62BC8E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5880-CF31-4E61-AB11-0C562AD54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bruary 10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B4706-530D-4666-9C89-C8537900D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rch 10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5120" y="2495520"/>
            <a:ext cx="6248160" cy="12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ettlements Analysis due to SFT Deration Issu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905120" y="4876920"/>
            <a:ext cx="6124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tt Tozer / Pam Sh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gust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ssue Overview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304920" y="785880"/>
            <a:ext cx="8686800" cy="53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efect was introduced into the Day Ahead Market Simultaneous Feasibility Test (SFT) process with NPRR 322 (Real-Time PTP Option Model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sue was in ERCOT systems from OD 2-14-2013 through 6-13-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act to Settlements from defect was the CRR SFT Violated Constraint bill determinant (CRRSFTVIOL) was not created for all violated constraints or had the incorrec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RSFTVIOL is used to calculate the Deration Factor (DRF) which is used in the calculation of the CRR Derated A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Rs can be “derated” when certain paths are oversold in the CRR A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ly CRRs that have a source and/or sink at a Resource Node Settlement Point can be d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 was uncovered by ERCOT staff when investigating the May 2013 CRR Short 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ssue Impa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28240" y="91440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ortion of CRRs that had a source or sink at a resource node were not derated and should have be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Certain CRRs were overvalued in DAM sett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, for most operating days, Shortfall Charges to CRR Owners were higher than they should have been and Balancing Account Deposits were lower than they should have be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fall Charges are incurred when there is not enough Congestion Rent collected in an hour to cover CRR pay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of month impact resulted i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than appropriate monthly refund to short paid CRR Ow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months where short paid CRR owners were not fully funded (for example, April and M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lower than appropriate credits to QSEs with Lo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months where short paid CRR owners were fully funded (for example, February, March and Ju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sults of the Analysis – Resettlement Day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7617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 Nodal Protocol Section 9.2.5, DAM Resettlement Stat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shall issue a DAM Resettlement Statement for a given DAM due to error in data other than prices when the total of all errors in data other than prices results in an impact greater than 2% of the total payments due to ERCOT for the DAM, excluding bilateral transa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 Determined that 14 Operating Days met the 2% thresho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st Resettlement (for Operating Day 5-22) was posted on July 2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367000" y="3048120"/>
          <a:ext cx="4524480" cy="2859120"/>
        </p:xfrm>
        <a:graphic>
          <a:graphicData uri="http://schemas.openxmlformats.org/drawingml/2006/table">
            <a:tbl>
              <a:tblPr/>
              <a:tblGrid>
                <a:gridCol w="4524480"/>
              </a:tblGrid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ng Days Requiring DAM Resettl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904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4/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908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0/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904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6/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904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9/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904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10/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904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12/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904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16/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9080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17/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904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18/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904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19/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904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0/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904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1/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904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2/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90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5/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sults of the Analysis – Data Impacts &amp; Next Step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88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RSFTVIOL Bill Determinants that were missing or had incorrect values were imported into Lodestar for all affected Operating Day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Operating Days other than those that met the 2% threshold are subsequently resettled, the corrected data will be used in sett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updated data for all affected operating days was made available in SID extracts on July 1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 and May 2013 Balancing Account will have to be resettled.  There are no planned dates as of yet.  Market Notices will be sent ou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sults of the Analysis – Dollar Impa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240" y="68436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ow are the dollar impacts if 2% Days are Resettl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28520" y="1066680"/>
            <a:ext cx="8886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sults of the Analysis – Dollar Impa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ow are the dollar impacts if all Days are Resettl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28520" y="1066680"/>
            <a:ext cx="88869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Results of the Analysis – Dollar Impa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6858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ow is the difference between Resettling all days versus just 2% d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52280" y="1085760"/>
            <a:ext cx="888696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y Remaining Question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Genove, Ohlen</dc:creator>
  <dc:description/>
  <dc:language>en-US</dc:language>
  <cp:lastModifiedBy>Tozer, Matt</cp:lastModifiedBy>
  <dcterms:modified xsi:type="dcterms:W3CDTF">2013-08-12T19:27:45Z</dcterms:modified>
  <cp:revision>544</cp:revision>
  <dc:subject/>
  <dc:title>Instructions</dc:title>
</cp:coreProperties>
</file>