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A2DDBC-CAC8-4859-8C7C-BDB9DBF9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3CC3B1-E83E-4125-9959-574B5F07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CD865D-48F8-45B7-8294-EA8B7F37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AC89B1-DEF4-4EA5-8F68-6A76C776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BA02-46BD-4863-AD1A-A4F434DB8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D63A-39A1-4485-B49D-3522331C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9800-7DD1-44C7-A55F-D5E1243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DCBC-5D23-45AA-933A-D756151E8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E128-11A0-4284-91DA-9B461B0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C31C-3577-4F74-820B-81248F8F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6B6B-E31F-483C-9B5C-07C28B2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F50B-EDC2-433A-B30F-94DA9AB1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FCB4-AB6F-4F52-A270-21D553A8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294D-B092-4569-9E85-80D5E9A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CAA8-0762-4FFE-AF22-E1E82C0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1675-9D28-4EA4-9E0F-BB96CD1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A9D-F99A-4D8C-8C2E-9D334F8B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C54D-FA58-473B-8496-17FF13AD8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inde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371600" y="2133720"/>
            <a:ext cx="723888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ject Update and Summary of Project Priority List (PPL) Activity to 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581280"/>
            <a:ext cx="2590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8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0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8280" y="685800"/>
            <a:ext cx="8894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8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840" y="685800"/>
            <a:ext cx="888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16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87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8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877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4280" y="685800"/>
            <a:ext cx="900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3 Project Update – 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ortfolio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3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/Upcoming Project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Project Spe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/2015 Project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 Gantt Ch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8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85800" y="5410080"/>
            <a:ext cx="7772400" cy="70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of Project Priority List (PPL):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cent/Upcoming Project Implement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4240" y="837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4 Go-Liv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7/29/2013 – 8/2/201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93 – SCED Constraint Management Transpa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oing into Production in R4 but posting will not begin until after a stabilization period is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61 – Energy Storage Settlements Consistent with PUCT Project 399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520 – Real-Time Mitigation Rules and Creation of a Real-Time Constraint Competitiveness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2 phases – EMS, NMMS, ICCP 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60 – Enhancements to IMM and TP to suppor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G Synchrophasor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Notification System Hardware Refr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dy’s Analy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Application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752480" y="5791320"/>
            <a:ext cx="617220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 Projected Go-Live dates are subject to chan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atch for market notices as the effective dates approac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3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Group 3" descr=""/>
          <p:cNvPicPr/>
          <p:nvPr/>
        </p:nvPicPr>
        <p:blipFill>
          <a:blip r:embed="rId1"/>
          <a:stretch/>
        </p:blipFill>
        <p:spPr>
          <a:xfrm>
            <a:off x="30240" y="755640"/>
            <a:ext cx="9077400" cy="470052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7"/>
          <p:cNvSpPr/>
          <p:nvPr/>
        </p:nvSpPr>
        <p:spPr>
          <a:xfrm>
            <a:off x="4991040" y="6400800"/>
            <a:ext cx="156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220968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Apri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06668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76320" y="5486400"/>
            <a:ext cx="3276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dates can differ from Protocol effective dates – Please refer to market notices for more detai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6629400" y="5486400"/>
            <a:ext cx="2344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, (b), etc. indicates multiple phas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76320" y="5943600"/>
            <a:ext cx="3276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targets are subject to chan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3429000" y="5486400"/>
            <a:ext cx="3124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Text: New additions and target release chan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3429000" y="5817240"/>
            <a:ext cx="3124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ke-Through Text: Previous target release chan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449568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670572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63868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335268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te Ma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7856640" y="3971880"/>
            <a:ext cx="1218960" cy="428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ed to Future Yea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629400" y="5785920"/>
            <a:ext cx="23446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407(a) – MMS por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484(1a) – initial CMM/CRR componen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520(a) – MMS, MIS, CDR por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520(b) – EMS, NMMS, ICCP por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760(d) – final phas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1421640" y="3576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2564640" y="3576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3707640" y="4567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2564640" y="4567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3707640" y="3568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3 Cash Flow Projection – Approved Projec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1600200" y="5952960"/>
            <a:ext cx="6019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Board of Directors approved a project budget increase of $1M on 5/14/201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sed 2013 project budget is $16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4920" y="685800"/>
            <a:ext cx="8970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4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Group 3" descr=""/>
          <p:cNvPicPr/>
          <p:nvPr/>
        </p:nvPicPr>
        <p:blipFill>
          <a:blip r:embed="rId1"/>
          <a:stretch/>
        </p:blipFill>
        <p:spPr>
          <a:xfrm>
            <a:off x="73080" y="755640"/>
            <a:ext cx="8918640" cy="4700520"/>
          </a:xfrm>
          <a:prstGeom prst="rect">
            <a:avLst/>
          </a:prstGeom>
          <a:ln w="0">
            <a:noFill/>
          </a:ln>
        </p:spPr>
      </p:pic>
      <p:sp>
        <p:nvSpPr>
          <p:cNvPr id="130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2286000" y="3962520"/>
            <a:ext cx="121932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Apri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143000" y="39625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76320" y="5486400"/>
            <a:ext cx="3276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dates can differ from Protocol effective dates – Please refer to market notices for more detail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629400" y="5486400"/>
            <a:ext cx="2344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, (b), etc. indicates multiple phas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76320" y="5943600"/>
            <a:ext cx="3276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targets are subject to chan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3429000" y="5486400"/>
            <a:ext cx="3124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Text: New additions and target release chan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3429000" y="5817240"/>
            <a:ext cx="3124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ke-Through Text: Previous target release chan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572000" y="3962520"/>
            <a:ext cx="10666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6705720" y="3962520"/>
            <a:ext cx="10666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5638680" y="3962520"/>
            <a:ext cx="10670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3505320" y="3962520"/>
            <a:ext cx="10666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te Ju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7772400" y="3700440"/>
            <a:ext cx="1173240" cy="261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6629400" y="5742000"/>
            <a:ext cx="2344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407(b) – CRR por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484(Ph1b) – Remaining Phase 1 item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PRR484(Ph2) – S&amp;B por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756(b) – Remaining portions of SC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4/2015 Project Funding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11426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’s 2014/2015 budget filing was approved at the July Board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5M is being requested for capital projects in both 2014 and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$30M current demand each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Year PPL is being used to forecast projects expected in future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evision Requests that are approved over the next 36+ months, ERCOT has forecasted $4M in PPL funding per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in addition to $1.5M forecasted for 2013 Revision Requests that are already Board approved or in the stakeholde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ppendix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12/2013 Project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flight items sorted by Project En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tarted” items sorted by Project Star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7/12/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9600" y="685800"/>
            <a:ext cx="899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nderson, Troy</dc:creator>
  <dc:description/>
  <dc:language>en-US</dc:language>
  <cp:lastModifiedBy>Albracht, Brittney</cp:lastModifiedBy>
  <cp:lastPrinted>2013-03-20T16:37:22Z</cp:lastPrinted>
  <dcterms:modified xsi:type="dcterms:W3CDTF">2013-07-18T13:21:48Z</dcterms:modified>
  <cp:revision>1358</cp:revision>
  <dc:subject/>
  <dc:title>Instructions</dc:title>
</cp:coreProperties>
</file>