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6248-58F0-4C19-9AAA-CCD66C5B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08E9-6C10-4382-B92F-8E2F898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5BBB-621C-439A-9970-55877ACE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B304-177B-48E4-95D3-9C67B123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5010-6479-4930-B65A-47A9E93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9565-2B28-493A-BD62-75DF6635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07F0-1119-4A4E-9AB7-03D2686D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7ABE-35D5-4D7C-B0E2-20EEF3BE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75D6-7264-4CC8-B3AA-5970209F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C73C-5C1F-43E7-A150-A7054D3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AB3A-5965-4091-94B3-7213A71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41C5-31B3-4224-829F-B719D27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BE3B-283D-45F7-8F68-99F02346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E83-6A16-4661-8C8A-B15114BA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10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MS:  NPRR 5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3/06/20130628-DS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y 10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MS:  NPRR 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PRR 555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Loads in SCED 1.0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ul Wattles, Sai Moor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Market Design &amp;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R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R qualific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alify for providing Regulation and RRS, tested for ability to provide Primary Frequency Response (no change from to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RRS, Non-Spin or Real-Time energy only, tested for ability to follow SCED Base Point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Non-Spin or Real-Time energy only, not required to provide Primary Frequency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Controllable Load Resource (NCL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LR participation going forward limited to UFR-type Load Resources providing 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cellaneo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to existing participation in RRS by UFR-type Load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R-LR-RRS may still be deployed manually in E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s will be at SWCAP any time this happens because Gen-RRS is deploy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to existing 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 Scenarios for LRs were presented as part of DSWG slides on June 28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3/06/20130628-D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standing Issues (will/may require Comment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able parameters for Base Point Devi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looks to MPs to identify meaningful performance metrics that don’t discourage SCE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y be the same for LRs with AS responsibility and those with ‘pure SCED’ (energy only) Bi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Point Deviation treatment of settlement intervals for LRs with telemetry status of OUTL for a portion of the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ing requirements and protected information status for RTM Energy Bi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Responsive Capability:  should it include all RTM energy bids, or just those with AS responsibilit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tweaks and clean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3860640" y="2409840"/>
            <a:ext cx="1320840" cy="2238480"/>
            <a:chOff x="3860640" y="2409840"/>
            <a:chExt cx="1320840" cy="2238480"/>
          </a:xfrm>
        </p:grpSpPr>
        <p:pic>
          <p:nvPicPr>
            <p:cNvPr id="141" name="Picture 4" descr="MCj03403080000[1]"/>
            <p:cNvPicPr/>
            <p:nvPr/>
          </p:nvPicPr>
          <p:blipFill>
            <a:blip r:embed="rId1"/>
            <a:stretch/>
          </p:blipFill>
          <p:spPr>
            <a:xfrm>
              <a:off x="3860640" y="2409840"/>
              <a:ext cx="13208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5"/>
            <p:cNvSpPr/>
            <p:nvPr/>
          </p:nvSpPr>
          <p:spPr>
            <a:xfrm>
              <a:off x="4353120" y="2723040"/>
              <a:ext cx="537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4353120" y="3977640"/>
              <a:ext cx="537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 555:  Loads in SCED 1.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 555 represents ERCOT’s effort to find a way for DR to contribute to price formation, with potential for implementation by Summer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eet summer 2014 goal, ERCOT will need to meet following market rules timelin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doc distributed to TAC/WMS/D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WG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introduction to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in SCED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draft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WG review of draft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555 filed (ERCOT sponsored) with preliminary 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WG Subgroup – deep div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MS NPRR discussion (possible 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NPRR discussion (possible 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. 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redux (possible 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.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NPRR discussion (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NPRR discussion (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 NPRR discussion (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-level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ility to participate: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SE Q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ing Load Resources capable of following 5-minute SCED base point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or new single-site Controllable Load Resources (CL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D qualification will be a new attribute for redefined C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Load Resources (ALRs) composed of multiple sites within single ERCOT Load Zone (subset of CL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terface will allow QSEs to maintain ALR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support direct participation by third-party DR Q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support DR with temporal constraints or block energy bi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R’s bid is on the margin, base point instructions could require LR to move up or down incrementally every 5 minutes to any level between its LPC and M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D will honor LR’s telemetered ramp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-level summary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SEs with  LRs in SCED will submit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Bids to bu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(not Offers to sell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ds will reflect LR’s willingness to consume “up to” a specified five-minute Load Zone LMP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y be a curve or a MW bid at single strike pr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d curve option could allow the QSE to submit bids with different strike prices for separate loads within the 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d will modify the SCED demand curve and have ability to set pr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ED Generation to be Dispatched (GTBD) will be adjusted to accommodate LR particip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will ensure proper price formation and reduce the likelihood of oscillating dispatch instru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creates settlement outcomes equivalent to the “volumetric flow” LMP minus G methodology endorsed by TAC, while avoiding need for ERCOT to “send back” the DR value to the LS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-level summary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 benefits and opportunit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ed cost of consumption above specifie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certainty due to ERCOT dis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ility to provide Non-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impac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 Bids may set price in the R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ke-whole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ad ratio share uplifts to market for D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D will dispatch LRs for power balance and congestion management using the applicable Load Zone Shift Fa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-level summary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LRs may also participate in Non-spin Rese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ffline Non-Spin, energy Bids  ≥$180 will need to be released to SCED within 20 minutes following dispatch, similar to Generation Resources providing Offline Non-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line Non-Spin, energy Bids ≥$120 will need to be active in SCED for all intervals that the LR is obligated in Non-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s from LRs providing Non-Spin capped at the System Wide Offer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 555 also proposes that any CLR providing RRS also must be dispatched by SC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-level summary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Loads in SCED 1.0 is related to adoption of NPRR 53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S Energy: LR Participation in Non-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Rs, participation in SCED and Non-spin are both contingent on validation by ERCOT of the QSE’s telemetry at time of LR qualification, and spot-validation thereaf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D associated with NPRR 532 describes thi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metry from LRs providing Non-Spin must include Scheduled Power Consumption and SPC+2 to allow baseline-style M&amp;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&amp;V for LR in SCED for energy only does not require use of SPC and SPC+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members of ALR must have revenue-grade premise level 15-minute interval met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ESI ID or NOIE meter data submission process similar to 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es to Load Resource defin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in SCED NPRR redefines Controllable Load Resource (CL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Rs will provide Regulation, RRS (as non-UFR type resource) &amp; Non-Sp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RS and Non-Spin from CLR will be deployed via economic dispatch of DR capacity via SC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R will have RTM Energy Bid that covers the RRS and/or Non-Spin capacity released to S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n optionally bid additional DR capacity for SCED dis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D will only consider CLR for dispatch if its telemetered Resource status indicates it is On-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On-Line if carrying AS responsib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:  NPRR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0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Wattles, Paul</dc:creator>
  <dc:description/>
  <dc:language>en-US</dc:language>
  <cp:lastModifiedBy>P Wattles</cp:lastModifiedBy>
  <dcterms:modified xsi:type="dcterms:W3CDTF">2013-07-10T13:27:57Z</dcterms:modified>
  <cp:revision>60</cp:revision>
  <dc:subject/>
  <dc:title>Instructions</dc:title>
</cp:coreProperties>
</file>