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07B-8E27-4797-AE56-F3F305E9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5AF-CFBE-4BF9-991B-CF416120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FF2-14A6-4498-B1E9-7FBB852F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243-A622-42AD-845D-2EA413C8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B20-B713-4252-9D59-E9C59B3A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6638-CD99-4D3D-BADC-EC352DBA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0F3B-5DF1-49E8-8D14-247623ED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92E8-78D4-4A58-A472-75E79035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F78F-5A6C-4FB6-8AEA-0719EF54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6B88-08D9-42F5-928D-A089462E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5C25-CBE9-4934-9F25-0D0E684E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7CD-F18D-4B68-B439-8140A60A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553C-9222-4054-B58E-DD596651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E5C0-84E5-460B-95E1-BD28AA89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AA15-2DD2-43FA-9A47-831FEA23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6074-1CCB-49FE-94F6-AD3B2B96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2934-1866-4EEB-B183-970B1544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EAA-C80F-4807-8BF7-6C59A969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C1A-0BDE-4732-921E-5518CCA6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3D4-B2EE-4428-B40E-DD13598B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714-8547-47B5-A16D-1E0850FA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E63-945D-43D5-A50F-F59662A2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5AB-8117-4E45-858F-7F91B94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6C0-8007-4674-AACE-D2F58911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D7D-649C-480E-9DB1-CCFF39D1F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A982-FB0E-4F3F-A8CA-195C666454D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CWG Update to W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ne 12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22096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766F-C884-4645-BFFE-F1B9355EBAC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ral Updat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010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 Items for 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 Heat Rates  -  Is the difference between the heat rates for the seasons so small that we should just have one single heat rate? (vote: Option 1 o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Fuel Cost  Solution for Fuel Adder (no 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O&amp;M for Technology Types (no 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cccc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erm: Incremental Heat Rate changes, such as with QSG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cccc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erm: Ability to have several points on the MOC that will take variable O&amp;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8F9F-11FD-4932-9D7B-F48F406116B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al Heat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Convert seasonal costs into average co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or reduces risk to ERCOT – no need to process of hundreds of data points manually every s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or reduces risk to QSE/RE – no need to keep track of changes to cost para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result in slightly smaller offer caps during summer months when generator costs are grea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result in slightly higher offer caps during all other periods when generator costs ar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Streamline the requirements for seasonal costs; only consider cost differences greater than 5% from season to sea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or reduces risk to ERCOT – no need to process of hundreds of data points manually every s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or reduces risk to QSE/RE – no need to keep track of changes to cost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 caps during summer months may reflect actual generator co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averaging of cost parameters that are less than 5% difference from season to season, it may result in slightly lower offer caps during summer months for all other seasonal co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2864-9FA4-4E62-A51C-EA85685FFF3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20:14:57Z</dcterms:created>
  <dc:creator>jbevill</dc:creator>
  <dc:description/>
  <dc:language>en-US</dc:language>
  <cp:lastModifiedBy>Gonzalez, Ino</cp:lastModifiedBy>
  <dcterms:modified xsi:type="dcterms:W3CDTF">2013-06-11T14:48:31Z</dcterms:modified>
  <cp:revision>121</cp:revision>
  <dc:subject/>
  <dc:title>Slide 1</dc:title>
</cp:coreProperties>
</file>