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CEF48-D2EF-48B4-963E-A7ADE6BAB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F39D5-C069-4BB0-9415-D4DBEAB2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A637B-952C-40AA-83E0-54A514F8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131C6-445E-4EF4-9635-F19D9D03E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8EFA6-DDE5-4A00-BF47-306FF6C5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6A6DB-2DFD-477E-89CB-BB25E570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68D78-F5D0-4601-816A-546D9C5F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025CA-2AC3-40BC-97D5-540F7648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4BBD2-2B84-4B9D-869B-8C7B7D81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F18C0-F90A-41C3-9029-7C336993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270C3-1FF7-4772-8CC8-573B927C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8A550-926E-4728-A8D8-60295029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F7CC-AA44-4FC0-9BCD-4D402631C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48AB-EBD8-4BBF-B8F1-3E4053301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eting Title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5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ate Placeholder 6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-152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Gate to Execu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0" y="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R101-01 ENS Hardware Refr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0" y="3808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Exec Sponsor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:  J. Dreyer    </a:t>
            </a:r>
            <a:r>
              <a:rPr b="1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PR Sponsor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:  B. Hanley    </a:t>
            </a:r>
            <a:r>
              <a:rPr b="1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Bus Owner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:  J. Chamber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PM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: D. DiCarlo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en-US" sz="1200" spc="-1" strike="noStrike" u="sng">
                <a:solidFill>
                  <a:srgbClr val="ffffff"/>
                </a:solidFill>
                <a:uFillTx/>
                <a:latin typeface="Arial"/>
              </a:rPr>
              <a:t>Product Mgr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: M. Stew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>
            <a:off x="3809880" y="685800"/>
            <a:ext cx="0" cy="55627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52280" y="68580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ct Information/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"/>
          <p:cNvSpPr/>
          <p:nvPr/>
        </p:nvSpPr>
        <p:spPr>
          <a:xfrm>
            <a:off x="152280" y="990720"/>
            <a:ext cx="3429000" cy="1218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18288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ERC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8288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 201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an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2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8288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8288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 Descrip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8288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place and upgrade the 6 year old Emergency Notification System hardware and upgrade the software to the latest rel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56240" y="2286000"/>
            <a:ext cx="21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ct Deliver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9"/>
          <p:cNvSpPr/>
          <p:nvPr/>
        </p:nvSpPr>
        <p:spPr>
          <a:xfrm>
            <a:off x="200160" y="3886200"/>
            <a:ext cx="3429000" cy="946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chase new physical hardware and the latest Communicator NXT software for the Emergency Notification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215240" y="896760"/>
            <a:ext cx="199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ecution Start :  6/12/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6789600" y="896760"/>
            <a:ext cx="193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ecution End :  8/28/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2"/>
          <p:cNvSpPr/>
          <p:nvPr/>
        </p:nvSpPr>
        <p:spPr>
          <a:xfrm>
            <a:off x="3809880" y="1131840"/>
            <a:ext cx="50580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152280" y="5029200"/>
            <a:ext cx="36576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4"/>
          <p:cNvSpPr/>
          <p:nvPr/>
        </p:nvSpPr>
        <p:spPr>
          <a:xfrm>
            <a:off x="173160" y="5334120"/>
            <a:ext cx="3552840" cy="838080"/>
          </a:xfrm>
          <a:prstGeom prst="roundRect">
            <a:avLst>
              <a:gd name="adj" fmla="val 16667"/>
            </a:avLst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 issues have been identified at this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3911040" y="3753000"/>
            <a:ext cx="172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estone D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1525320" y="646920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/12/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2490840" y="2514600"/>
            <a:ext cx="12762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2680" indent="-1126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ject 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 Pl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sh Flo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152280" y="3505320"/>
            <a:ext cx="3657600" cy="144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0"/>
          <p:cNvSpPr/>
          <p:nvPr/>
        </p:nvSpPr>
        <p:spPr>
          <a:xfrm>
            <a:off x="152280" y="2286000"/>
            <a:ext cx="3657600" cy="144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380880" y="4465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6"/>
          <p:cNvSpPr/>
          <p:nvPr/>
        </p:nvSpPr>
        <p:spPr>
          <a:xfrm>
            <a:off x="255600" y="2522520"/>
            <a:ext cx="1224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2680" indent="-1126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dated CBA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FI/RFP/SOW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ailed 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ceptual 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7"/>
          <p:cNvSpPr/>
          <p:nvPr/>
        </p:nvSpPr>
        <p:spPr>
          <a:xfrm>
            <a:off x="1415160" y="2514600"/>
            <a:ext cx="12625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2680" indent="-1126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ity 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tailed Design*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2680" indent="-1126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est Pl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8"/>
          <p:cNvSpPr/>
          <p:nvPr/>
        </p:nvSpPr>
        <p:spPr>
          <a:xfrm>
            <a:off x="173160" y="3505320"/>
            <a:ext cx="320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ive Summary/Com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9"/>
          <p:cNvSpPr/>
          <p:nvPr/>
        </p:nvSpPr>
        <p:spPr>
          <a:xfrm>
            <a:off x="3809880" y="3733920"/>
            <a:ext cx="505800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191120" y="4127400"/>
          <a:ext cx="4572000" cy="1892520"/>
        </p:xfrm>
        <a:graphic>
          <a:graphicData uri="http://schemas.openxmlformats.org/drawingml/2006/table">
            <a:tbl>
              <a:tblPr/>
              <a:tblGrid>
                <a:gridCol w="2743200"/>
                <a:gridCol w="1828800"/>
              </a:tblGrid>
              <a:tr h="24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est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 Completion 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er Build 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26/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 Software Configu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/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 System Refreshed (Bastro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6/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 System Refreshed (Tayl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8/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 L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8/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isting System Decommissio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8/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 Box 83"/>
          <p:cNvSpPr/>
          <p:nvPr/>
        </p:nvSpPr>
        <p:spPr>
          <a:xfrm>
            <a:off x="3812040" y="68580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4"/>
          <p:cNvSpPr/>
          <p:nvPr/>
        </p:nvSpPr>
        <p:spPr>
          <a:xfrm>
            <a:off x="244440" y="2590920"/>
            <a:ext cx="136440" cy="13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5"/>
          <p:cNvSpPr/>
          <p:nvPr/>
        </p:nvSpPr>
        <p:spPr>
          <a:xfrm>
            <a:off x="244440" y="2835360"/>
            <a:ext cx="136440" cy="13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6"/>
          <p:cNvSpPr/>
          <p:nvPr/>
        </p:nvSpPr>
        <p:spPr>
          <a:xfrm>
            <a:off x="244440" y="3063960"/>
            <a:ext cx="136440" cy="13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7"/>
          <p:cNvSpPr/>
          <p:nvPr/>
        </p:nvSpPr>
        <p:spPr>
          <a:xfrm>
            <a:off x="244440" y="3292560"/>
            <a:ext cx="136440" cy="13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8"/>
          <p:cNvSpPr/>
          <p:nvPr/>
        </p:nvSpPr>
        <p:spPr>
          <a:xfrm>
            <a:off x="1447920" y="2590920"/>
            <a:ext cx="136440" cy="13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9"/>
          <p:cNvSpPr/>
          <p:nvPr/>
        </p:nvSpPr>
        <p:spPr>
          <a:xfrm>
            <a:off x="1447920" y="2835360"/>
            <a:ext cx="136440" cy="13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0"/>
          <p:cNvSpPr/>
          <p:nvPr/>
        </p:nvSpPr>
        <p:spPr>
          <a:xfrm>
            <a:off x="1447920" y="3063960"/>
            <a:ext cx="136440" cy="13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2"/>
          <p:cNvSpPr/>
          <p:nvPr/>
        </p:nvSpPr>
        <p:spPr>
          <a:xfrm>
            <a:off x="2514600" y="2590920"/>
            <a:ext cx="136440" cy="13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3"/>
          <p:cNvSpPr/>
          <p:nvPr/>
        </p:nvSpPr>
        <p:spPr>
          <a:xfrm>
            <a:off x="2514600" y="2819520"/>
            <a:ext cx="136440" cy="13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4"/>
          <p:cNvSpPr/>
          <p:nvPr/>
        </p:nvSpPr>
        <p:spPr>
          <a:xfrm>
            <a:off x="2514600" y="3063960"/>
            <a:ext cx="136440" cy="13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6"/>
          <p:cNvSpPr/>
          <p:nvPr/>
        </p:nvSpPr>
        <p:spPr>
          <a:xfrm>
            <a:off x="3014640" y="3324240"/>
            <a:ext cx="909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4480" indent="-114480">
              <a:spcBef>
                <a:spcPts val="1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*if applicabl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7"/>
          <p:cNvSpPr/>
          <p:nvPr/>
        </p:nvSpPr>
        <p:spPr>
          <a:xfrm>
            <a:off x="3812400" y="113832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8"/>
          <p:cNvSpPr/>
          <p:nvPr/>
        </p:nvSpPr>
        <p:spPr>
          <a:xfrm>
            <a:off x="232200" y="5029200"/>
            <a:ext cx="16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sues/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208400" y="1525680"/>
          <a:ext cx="4381560" cy="2131920"/>
        </p:xfrm>
        <a:graphic>
          <a:graphicData uri="http://schemas.openxmlformats.org/drawingml/2006/table">
            <a:tbl>
              <a:tblPr/>
              <a:tblGrid>
                <a:gridCol w="1714680"/>
                <a:gridCol w="1333440"/>
                <a:gridCol w="1333440"/>
              </a:tblGrid>
              <a:tr h="380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85840"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L Budg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9,12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9,12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Change Amou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5,72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5,72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ed Project Budg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3,4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3,4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560">
                <a:tc gridSpan="3">
                  <a:txBody>
                    <a:bodyPr lIns="0" rIns="9000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480"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itted *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5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5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11448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ed for Execution / Clos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0,88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0,88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3">
                  <a:txBody>
                    <a:bodyPr lIns="11448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Estimated cost from last available accounting post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4480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6553080" y="647712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66720" y="-360"/>
            <a:ext cx="4876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101-01 ENS Hardware Refresh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source Plan – Execution Phas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1525320" y="646920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/12/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04920" y="1066680"/>
          <a:ext cx="8381880" cy="3749760"/>
        </p:xfrm>
        <a:graphic>
          <a:graphicData uri="http://schemas.openxmlformats.org/drawingml/2006/table">
            <a:tbl>
              <a:tblPr/>
              <a:tblGrid>
                <a:gridCol w="2076480"/>
                <a:gridCol w="460080"/>
                <a:gridCol w="1793880"/>
                <a:gridCol w="390600"/>
                <a:gridCol w="389160"/>
                <a:gridCol w="388800"/>
                <a:gridCol w="390600"/>
                <a:gridCol w="388800"/>
                <a:gridCol w="389160"/>
                <a:gridCol w="390240"/>
                <a:gridCol w="625680"/>
                <a:gridCol w="698400"/>
              </a:tblGrid>
              <a:tr h="18288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ct: PR101-01 ENS Hardware Refres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ment Na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 Ho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ecution Total Hou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l Resou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5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Engineering &amp; Adm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ic Internal Resource Dept310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35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 &amp; Deskside Ser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mbers Jason; Simmons Ken; Stewart Mike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83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ase Manag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h Cathy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35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erprise Information Manag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vas Jamie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ernal Resou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 Integration Projec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arlo Dan;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83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dor Resour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Hours - Inter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Hours - Exter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82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Hours - External - Ven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6629400" y="6499080"/>
            <a:ext cx="2514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343040" y="-360"/>
            <a:ext cx="4800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101-01 ENS Hardware Refresh Cash Flow – Execution Phas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1525320" y="646920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/12/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52280" y="944640"/>
          <a:ext cx="8686800" cy="4699080"/>
        </p:xfrm>
        <a:graphic>
          <a:graphicData uri="http://schemas.openxmlformats.org/drawingml/2006/table">
            <a:tbl>
              <a:tblPr/>
              <a:tblGrid>
                <a:gridCol w="243000"/>
                <a:gridCol w="100080"/>
                <a:gridCol w="1504800"/>
                <a:gridCol w="588960"/>
                <a:gridCol w="685800"/>
                <a:gridCol w="574920"/>
                <a:gridCol w="576000"/>
                <a:gridCol w="574920"/>
                <a:gridCol w="574560"/>
                <a:gridCol w="576360"/>
                <a:gridCol w="574560"/>
                <a:gridCol w="574560"/>
                <a:gridCol w="576360"/>
                <a:gridCol w="961920"/>
              </a:tblGrid>
              <a:tr h="123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Name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 gridSpan="10"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101-01 ENS Hardware Refres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Project Sponsor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 gridSpan="10"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yan Hanle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OCT Project Manager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 gridSpan="10"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 DiCarl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>
                      <a:noFill/>
                    </a:lnR>
                    <a:lnT w="28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Yr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itted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o D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23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 Yr </a:t>
                      </a:r>
                      <a:br>
                        <a:rPr sz="8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e 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23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Categor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-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-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-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-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-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-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22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58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Labor - Capi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,9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,5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7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9,750.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Labor - O&amp;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0.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0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, Equip, Mtls. &amp; Suppli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0.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58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ltants &amp; Contracto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2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,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,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9,5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18,320.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 Licen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0.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W Licen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0.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16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 Expen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0.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58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0.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72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dwar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6,3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3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26,340.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58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wa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,4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8,402.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Purchase Hardware (immediately in servic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0.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5600"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 Purchase Software (immediately in service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0.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 Project Co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2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25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442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25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292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62,812.00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ly Debt Finance Char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8.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56.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7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9.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92.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592.1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Project Co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2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43.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598.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32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9.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884.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8080"/>
                          </a:solidFill>
                          <a:latin typeface="Arial"/>
                        </a:rPr>
                        <a:t>63,404.1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224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6553080" y="647712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101-01 ENS Hardware Refresh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ngoing Annual Cost – Execution Phas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TextBox 3"/>
          <p:cNvSpPr/>
          <p:nvPr/>
        </p:nvSpPr>
        <p:spPr>
          <a:xfrm>
            <a:off x="380880" y="579132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Whole numbers on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2280" y="1143000"/>
          <a:ext cx="8839440" cy="2227320"/>
        </p:xfrm>
        <a:graphic>
          <a:graphicData uri="http://schemas.openxmlformats.org/drawingml/2006/table">
            <a:tbl>
              <a:tblPr/>
              <a:tblGrid>
                <a:gridCol w="2124360"/>
                <a:gridCol w="879480"/>
                <a:gridCol w="1415880"/>
                <a:gridCol w="1700280"/>
                <a:gridCol w="2719440"/>
              </a:tblGrid>
              <a:tr h="2829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me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ly Incremental Staff Support Hou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tional FTEs Required*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12480">
                <a:tc rowSpan="2"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Staffing Impac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160200">
                <a:tc rowSpan="2"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Software Maintenanc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ual Co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Chamb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2,6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160200">
                <a:tc rowSpan="2"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Hardware Maintenanc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ual Co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160200">
                <a:tc rowSpan="2"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structure Growt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ual Growt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4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  <p:sp>
        <p:nvSpPr>
          <p:cNvPr id="146" name="Text Box 16"/>
          <p:cNvSpPr/>
          <p:nvPr/>
        </p:nvSpPr>
        <p:spPr>
          <a:xfrm>
            <a:off x="1525320" y="646920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/12/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DiCarlo, Daniel</dc:creator>
  <dc:description/>
  <dc:language>en-US</dc:language>
  <cp:lastModifiedBy>amartinez</cp:lastModifiedBy>
  <dcterms:modified xsi:type="dcterms:W3CDTF">2013-06-10T20:17:01Z</dcterms:modified>
  <cp:revision>45</cp:revision>
  <dc:subject/>
  <dc:title>Instru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rmation Classification">
    <vt:lpwstr>ERCOT Limited</vt:lpwstr>
  </property>
  <property fmtid="{D5CDD505-2E9C-101B-9397-08002B2CF9AE}" pid="3" name="Year">
    <vt:lpwstr>2009</vt:lpwstr>
  </property>
</Properties>
</file>