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F1B9-2039-4604-B4DA-C8B796D49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4BB0-52D3-47B0-8510-2BEA7E639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FD5E-0CB4-4DC3-AD8E-FC25AA136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67B8-453C-48D9-BCB1-EE14041425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7D6E-7CC6-448D-A31F-D97F6E3DEA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B1AD-1DDD-46F7-BDB3-2F62450575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3A37-B52C-4777-BB4B-E9614216C4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61DA-8957-4ECB-A0C2-5113019E38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B0FD46B-68D4-423C-815B-5D435F7D5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B84830-2F79-4F05-8758-1E28C5BA0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0230C01-22A4-4D2E-B70E-26EDE17F4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B3EA5C1-3493-4B25-A525-C91715B7C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031B49-91A5-4E5E-BAFC-796CA3E21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A50270-3677-4D43-A4A8-0EA0EAA14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6B3533-4AC4-4707-9E9F-F7A017DAE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F7005B-8E74-4487-8540-58B4DF6B3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773737-58A4-4452-8FD8-B24A890F0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C9E880-78D3-4F3F-8B0D-33F278FE4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F4C935-082E-4B54-8701-6D4C3BA75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4C24EC-C4DC-4F67-9FC9-A8CD88A127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6E66-3EC1-4E5F-9213-96638A324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2845-8C84-4F66-8941-3018C33E9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ne 6, 201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3000"/>
          </a:bodyPr>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opposed Recommendations</a:t>
            </a:r>
            <a:endParaRPr b="1"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491, Updated Distributed Generation and Demand Response Information for ERCOT</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515, Day-Ahead Market Self-Commitment of Generation Resources</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531, Clarification of IRR Forecasting Process Posting Requirement*</a:t>
            </a:r>
            <a:r>
              <a:rPr b="1" i="1" lang="en-US" sz="2000" spc="-1" strike="noStrike">
                <a:solidFill>
                  <a:srgbClr val="000000"/>
                </a:solidFill>
                <a:latin typeface="Arial"/>
              </a:rPr>
              <a:t> </a:t>
            </a:r>
            <a:endParaRPr b="0" lang="en-US" sz="2000" spc="-1" strike="noStrike">
              <a:solidFill>
                <a:srgbClr val="000000"/>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mendations with Opposing Votes</a:t>
            </a:r>
            <a:endParaRPr b="1"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508, Setting of Real-Time LMPs During EEA ERS/Load Resource Deployment</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522, Adjustment of Demand Response Performance for Distribution Losses</a:t>
            </a:r>
            <a:endParaRPr b="0" lang="en-US" sz="2000" spc="-1" strike="noStrike">
              <a:solidFill>
                <a:srgbClr val="000000"/>
              </a:solidFill>
              <a:latin typeface="Arial"/>
            </a:endParaRPr>
          </a:p>
          <a:p>
            <a:pPr lvl="1" marL="542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denotes no impacts)</a:t>
            </a:r>
            <a:endParaRPr b="1" lang="en-US" sz="16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91, Updated Demand Response Information for ERCOT </a:t>
            </a:r>
            <a:endParaRPr b="0" lang="en-US" sz="2000" spc="-1" strike="noStrike">
              <a:solidFill>
                <a:srgbClr val="000000"/>
              </a:solidFill>
              <a:latin typeface="Arial Black"/>
            </a:endParaRPr>
          </a:p>
        </p:txBody>
      </p:sp>
      <p:graphicFrame>
        <p:nvGraphicFramePr>
          <p:cNvPr id="103" name=""/>
          <p:cNvGraphicFramePr/>
          <p:nvPr/>
        </p:nvGraphicFramePr>
        <p:xfrm>
          <a:off x="152280" y="914400"/>
          <a:ext cx="8763120" cy="5487840"/>
        </p:xfrm>
        <a:graphic>
          <a:graphicData uri="http://schemas.openxmlformats.org/drawingml/2006/table">
            <a:tbl>
              <a:tblPr/>
              <a:tblGrid>
                <a:gridCol w="2397240"/>
                <a:gridCol w="6365880"/>
              </a:tblGrid>
              <a:tr h="62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son Mis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to provide ERCOT and the market with needed information on demand respo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voted to recommend approval of NPRR491 as amended by the 4/17/13 Edison Mission comments.  There were five abstentions from the IOU (2), Consumer, Cooperative, and (IREP Market Segments.  On 5/16/13, PRS voted to endorse and forward the 4/18/13 PRS Report as amended by the 5/9/13 ERCOT comments and Impact Analysis for NPRR491 to TAC with a recommended priority of 2013 and rank of 875.  There was one abstention from the Consume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8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k - $50k; 0.1 FTE staffing impact to be absorbed by current ERCOT Staff; impacts to Information System Master (ISM) and Market Information System (MI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8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s understanding regarding demand response; provides aggregated information, potentially saving Market Participants time; assists ERCOT in Load forecasting, resource adequacy, and long term reporting; will requiring reporting from some Entiti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08, Setting of Real-Time LMPs During EEA ERS/Load Resource Deployment </a:t>
            </a:r>
            <a:br>
              <a:rPr sz="2000"/>
            </a:br>
            <a:endParaRPr b="0" lang="en-US" sz="2000" spc="-1" strike="noStrike">
              <a:solidFill>
                <a:srgbClr val="000000"/>
              </a:solidFill>
              <a:latin typeface="Arial Black"/>
            </a:endParaRPr>
          </a:p>
        </p:txBody>
      </p:sp>
      <p:graphicFrame>
        <p:nvGraphicFramePr>
          <p:cNvPr id="105" name=""/>
          <p:cNvGraphicFramePr/>
          <p:nvPr/>
        </p:nvGraphicFramePr>
        <p:xfrm>
          <a:off x="228600" y="762120"/>
          <a:ext cx="8763120" cy="5379840"/>
        </p:xfrm>
        <a:graphic>
          <a:graphicData uri="http://schemas.openxmlformats.org/drawingml/2006/table">
            <a:tbl>
              <a:tblPr/>
              <a:tblGrid>
                <a:gridCol w="2397240"/>
                <a:gridCol w="6365880"/>
              </a:tblGrid>
              <a:tr h="838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F Sue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administratively set LMPs at the SWCAP during SCED executions in which ERCOT has deployed ERS Resources and/or RRS Service supplied by Load Resourc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7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voted via roll call vote to recommend approval of NPRR508 as amended by the 4/18/13 GDF Suez NA comments.  There were six opposing votes from the Cooperative (2), Independent Generator (2), IPM and Municipal Market Segments and two abstentions from the IPM and IOU Market Segments.  On 5/16/13, PRS voted via roll call vote to endorse and forward the 4/18/13 PRS Report as amended by the 5/7/13 ERCOT comments and Impact Analysis for NPRR508 to TAC with a recommended priority of 2013 and rank of 880.  There were seven opposing votes from the Cooperative (2), Independent Generator (2), IPM (3) Market Segments and four abstentions from the Independent Generator, IPM, IOU, and Municipal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8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k - $50k; impacts to MMS and IS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Market Participants with Real-Time price signals aligned with system conditions by preventing price reversals during EEA condi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5, Day-Ahead Market Self-Commitment of Generation Resources </a:t>
            </a:r>
            <a:endParaRPr b="0" lang="en-US" sz="2000" spc="-1" strike="noStrike">
              <a:solidFill>
                <a:srgbClr val="000000"/>
              </a:solidFill>
              <a:latin typeface="Arial Black"/>
            </a:endParaRPr>
          </a:p>
        </p:txBody>
      </p:sp>
      <p:graphicFrame>
        <p:nvGraphicFramePr>
          <p:cNvPr id="108" name=""/>
          <p:cNvGraphicFramePr/>
          <p:nvPr/>
        </p:nvGraphicFramePr>
        <p:xfrm>
          <a:off x="228600" y="838080"/>
          <a:ext cx="8763120" cy="5181840"/>
        </p:xfrm>
        <a:graphic>
          <a:graphicData uri="http://schemas.openxmlformats.org/drawingml/2006/table">
            <a:tbl>
              <a:tblPr/>
              <a:tblGrid>
                <a:gridCol w="2397240"/>
                <a:gridCol w="6365880"/>
              </a:tblGrid>
              <a:tr h="124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a DAM mechanism for self-committing Generation Resources on an hourly basis; and makes a minor clarification to the description of the timing of the SFT 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3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unanimously voted to recommend approval of NPRR515 as submitted.  On 5/16/13, PRS voted to endorse and forward the 4/18/13 PRS Report and Impact Analysis for NPRR515 to TAC and requested that ERCOT recommend reprioritization if implementation efficiencies can be found.  There was one abstention from the Consume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 for Section 4.5.1; Upon System Implementation for Section 4.4.9.1 – Priority 2015; Rank 1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0k - $285k; no impacts to ERCOT staffing; impacts to M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2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more flexibility in DAM commitment solution to QSEs scheduling Generation Resources thereby resulting in more liquidity; reduction in complexity for self-commitment submissions; aligns DAM with logic used in RU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22, Adjustment of Demand Response Performance for Distribution Losses </a:t>
            </a:r>
            <a:br>
              <a:rPr sz="2000"/>
            </a:br>
            <a:endParaRPr b="0" lang="en-US" sz="2000" spc="-1" strike="noStrike">
              <a:solidFill>
                <a:srgbClr val="000000"/>
              </a:solidFill>
              <a:latin typeface="Arial Black"/>
            </a:endParaRPr>
          </a:p>
        </p:txBody>
      </p:sp>
      <p:graphicFrame>
        <p:nvGraphicFramePr>
          <p:cNvPr id="110" name=""/>
          <p:cNvGraphicFramePr/>
          <p:nvPr/>
        </p:nvGraphicFramePr>
        <p:xfrm>
          <a:off x="152280" y="838080"/>
          <a:ext cx="8763120" cy="5139000"/>
        </p:xfrm>
        <a:graphic>
          <a:graphicData uri="http://schemas.openxmlformats.org/drawingml/2006/table">
            <a:tbl>
              <a:tblPr/>
              <a:tblGrid>
                <a:gridCol w="2397240"/>
                <a:gridCol w="6365880"/>
              </a:tblGrid>
              <a:tr h="62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resses inequality by adjusting the metered Load of demand response Resources for Distribution Loss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voted to recommend approval of the 3/21/13 PRS Report as amended by the 4/18/13 CPS Energy comments and as revised by PRS.  There were four abstentions from the Independent Generator, IOU, IPM, and Consumer Market Segments.  On 5/16/13, PRS voted to endorse and forward the 4/18/13 PRS Report and Impact Analysis for NPRR522 to TAC.  There were two abstentions from the Independent Generator and IPM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 for all sections except paragraph (3)(a) of Section 3.14.3.3 which will be effective October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than $6k; minor system impacts absorbed by O&amp;M budgets; ERCOT business functions will be upda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reduction in ancillary costs  and increase in ERS costs for REPs and Customers; increased revenues from ERS or improved compliance ratings for QSEs with ERS Loads; possible improved compliance ratings or changed revenue for QSEs with Load Resources; possible reduced revenues for Generator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264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31, Clarification of IRR Forecasting Process Posting Requirement </a:t>
            </a:r>
            <a:endParaRPr b="0" lang="en-US" sz="1800" spc="-1" strike="noStrike">
              <a:solidFill>
                <a:srgbClr val="000000"/>
              </a:solidFill>
              <a:latin typeface="Arial Black"/>
            </a:endParaRPr>
          </a:p>
        </p:txBody>
      </p:sp>
      <p:graphicFrame>
        <p:nvGraphicFramePr>
          <p:cNvPr id="112" name=""/>
          <p:cNvGraphicFramePr/>
          <p:nvPr/>
        </p:nvGraphicFramePr>
        <p:xfrm>
          <a:off x="228600" y="762120"/>
          <a:ext cx="8763120" cy="5349600"/>
        </p:xfrm>
        <a:graphic>
          <a:graphicData uri="http://schemas.openxmlformats.org/drawingml/2006/table">
            <a:tbl>
              <a:tblPr/>
              <a:tblGrid>
                <a:gridCol w="2397240"/>
                <a:gridCol w="6365880"/>
              </a:tblGrid>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at the procedures describing the forecasting process that ERCOT must publish on the MIS Public Area pursuant to Section 3.2.1 relate specifically to ERCOT’s IRR forecasting proces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unanimously voted to recommend approval of NPRR531 as submitted.  On 5/16/13, PRS unanimously voted to endorse and forward the 4/18/13 PRS Report and Impact Analysis for NPRR531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al of ambiguity from Protoc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A. Boren</cp:lastModifiedBy>
  <dcterms:modified xsi:type="dcterms:W3CDTF">2013-06-03T19:38:29Z</dcterms:modified>
  <cp:revision>701</cp:revision>
  <dc:subject/>
  <dc:title>Instructions</dc:title>
</cp:coreProperties>
</file>