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EC2-6E6D-4A37-9737-DAD273D7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A47-5F6D-4B6F-923C-84F03D7C1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80FC-5626-48FE-B4B6-9F33931A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4E0F-01D5-48A9-8486-3E57E8D1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38AB-6A95-4ACB-AF0B-378D671D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93FE-1672-4C0E-BD78-9B35A15C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F787-DCFF-498C-8440-9400E50A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43F6-887B-4DEE-900E-D79D214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AEFF-E978-4378-891A-37574AA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E78C-1F9F-4CF2-BB22-E3BB557C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0B25-3D7D-4819-AC60-12E4C50C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BDE1-000C-4B1F-8190-61E92C3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B1A8-7376-4BA6-973D-0C3D04A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DAAC-AF21-44CB-A565-195446E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87AF-21D9-4421-8146-2423BE8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FC99-CDBA-4D22-930E-EE00CE2DE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EC8-7C93-4ECD-97C3-63C557CE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il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6496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T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alysis of Wind Data in 2012 LOLEv Stu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Date Placeholder 2"/>
          <p:cNvSpPr/>
          <p:nvPr/>
        </p:nvSpPr>
        <p:spPr>
          <a:xfrm>
            <a:off x="1447920" y="541008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 / COMMENTS??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jkatheiser\Local Settings\Temporary Internet Files\Content.IE5\ONK41WO9\MC900437835[1].wmf"/>
          <p:cNvPicPr/>
          <p:nvPr/>
        </p:nvPicPr>
        <p:blipFill>
          <a:blip r:embed="rId1"/>
          <a:stretch/>
        </p:blipFill>
        <p:spPr>
          <a:xfrm>
            <a:off x="3809880" y="2209680"/>
            <a:ext cx="1752840" cy="312120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utilized 15 years (1997 to 2011) of wind data in the 2012 LOLEv Stud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ata was provided by AWS Truepow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methodology approved by GATF, the resulting ELCC values for Coastal and Non-Coastal wind was 32.9% and 14.2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401760" y="890640"/>
            <a:ext cx="8340480" cy="5132160"/>
          </a:xfrm>
          <a:prstGeom prst="rect">
            <a:avLst/>
          </a:prstGeom>
          <a:ln w="0">
            <a:noFill/>
          </a:ln>
        </p:spPr>
      </p:pic>
      <p:sp>
        <p:nvSpPr>
          <p:cNvPr id="103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CC” at different probabilit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06360" y="1523880"/>
            <a:ext cx="8591400" cy="4391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602240" y="1038240"/>
            <a:ext cx="4038480" cy="2764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M is calculated by different levels of ELCC fo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astal Wind Capability under Different Exceedance Level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39800" y="685800"/>
            <a:ext cx="76201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n-Coastal Wind Capability under Different Exceedance Level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62120" y="665280"/>
            <a:ext cx="7692840" cy="55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astal Wind Generation Duration Cur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Jun to Aug On-Peak Hours of 1600 to 1800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n-Coastal Wind Generation Duration Cur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Jun to Aug On-Peak Hours of 1600 to 1800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59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tual Data and Modeled Data (2007 to 2012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to Modeled data is not apples to ap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level of capacity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as inform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6120" y="1752480"/>
            <a:ext cx="82584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Ella World</dc:creator>
  <dc:description/>
  <dc:language>en-US</dc:language>
  <cp:lastModifiedBy>albracht</cp:lastModifiedBy>
  <cp:lastPrinted>2013-01-15T15:02:19Z</cp:lastPrinted>
  <dcterms:modified xsi:type="dcterms:W3CDTF">2013-05-30T17:46:16Z</dcterms:modified>
  <cp:revision>857</cp:revision>
  <dc:subject/>
  <dc:title>Environmental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722A7A7FE94B4680969F720EAC822A</vt:lpwstr>
  </property>
  <property fmtid="{D5CDD505-2E9C-101B-9397-08002B2CF9AE}" pid="3" name="Information Classification">
    <vt:lpwstr>ERCOT Limited</vt:lpwstr>
  </property>
</Properties>
</file>