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5C72-6E67-4016-A6EA-D4354239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ECA2-DD16-463E-8117-80B43EC8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F877-A9F0-454C-86F2-4458C183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539C-E171-483D-9F53-D8F9760F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B8C3-C93A-4D4A-9B37-AB1B4891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1550-3125-46FB-B36D-ECFB97FD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DAED-BD7A-470B-B3A0-1C66E494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BA08-7432-4337-9838-DCA9BA2B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E371-EC94-4083-A817-12C971A0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AF12-C116-4766-AA49-8BD1A30A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D139-1EE1-4FCD-8D63-5A631382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321E-26FA-4AAC-A7D5-78B71389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C6F0-3B78-4D28-BCED-83ED0CEF9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D90E-610F-4370-BB67-77469850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F88E-CA82-4C90-BF15-A3C78D5EA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cswg/key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1248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PS JUNE 2013  UPDATE TO TA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06/06/20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im Lee,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MAJOR DISCUSSION  ITEM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6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lvl="1" marL="236520" indent="-236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taff provided the annual anti-trust trai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d Unregistered Distributed Generation 2013 Q1R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 zone reached 5 MW of installed capacity (between 50 kW and 1m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d COPMGRR 034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pdates to the Market Notice Communication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order to wait until phase 2 of NPRR 509 is implemen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d COPMGRR 035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ynchronization of NPRR347 and NPRR5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order to avoid any potential conflicts with RMGRR1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ed impact of the May 2&amp;3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 Posting of Extr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planned Technical Issues with Enterprise Data Ware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MAJOR DISCUSSION  ITEMS con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ergency Response Service  (ERS 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raised concerns regarding the lack of back up data in the extra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the pilot programs implemented, ERCOT used SAS code vs.Lode Star due to its flexi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fore pushing data to the extracts to be received by the MPs using the current delivery methods is not po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Ps’ need for back up data to be provided in the extracts for the future projects including pilots need to be also taken into consid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NERC Holidays instead of ERCOT holidays for the ERS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 may bring an NPRR in the following months to address this iss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educing the RTM Settlement Time Lin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a ~2 months settlements under 1-day shortened timeline, there have not been significant issues rai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ggregation on ERCOT’s side continues to run on Day 7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staff has less time to approve Data Aggregation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s voiced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to move to T+7 this summer with limited Final (59-day) Settlements to examine the change between Initial and Final settl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 to T+7 without impacts of moving Data Aggregation up by one d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more data analysis to estimate impact of moving data aggregation to an earlier date based on available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 Staff started providing more analysis on the impact the reduced timeline to 7 days and less to the  availability of meter data during the weekly Monday Webex mee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cswg/ 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509_20130520.xls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% of load data read by meter type AMS, NIDR, NOIE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Settlement Timeline Issues List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Unless something significant is observed between now and July 2, 2013 (TAC), COPS will recommend to TAC moving as planned to reduce the timeline to 7 days starting with August 1, 2013 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W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1240" indent="-1299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rak and Wholesale Dispute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51240" indent="-1299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d limited data availability in extracts for ERS procured by ERC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51240" indent="-1299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ment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PRR 477 Disputes for Exception for BLT at Presidio.</a:t>
            </a:r>
            <a:br>
              <a:rPr sz="16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urrently ERCOT uses Misc Charge type to settle, however there may be better ways to settle this item going forward such as Misc Invoice or  a new charge typ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W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completed 2012 UFE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WG met on June 4, Tuesday to review the annual r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U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ic Goff (CITI) volunteered to ch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looking for a Vice Ch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Need more people to be actively invol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 COPS MEETING IS ON JUNE 11 TUESDAY,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5" descr="MCj04344110000[1]"/>
          <p:cNvPicPr/>
          <p:nvPr/>
        </p:nvPicPr>
        <p:blipFill>
          <a:blip r:embed="rId1"/>
          <a:stretch/>
        </p:blipFill>
        <p:spPr>
          <a:xfrm>
            <a:off x="2666880" y="251460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saranh</cp:lastModifiedBy>
  <dcterms:modified xsi:type="dcterms:W3CDTF">2013-06-04T18:59:12Z</dcterms:modified>
  <cp:revision>486</cp:revision>
  <dc:subject/>
  <dc:title>Instructions</dc:title>
</cp:coreProperties>
</file>