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52D0-D77F-49DB-AC9A-FF764110B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7E23-8B30-4511-9116-0EAE7BAAC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2AB87-D80C-4762-936F-CB652669A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846F1-E5FC-454A-AF1B-2BD83F22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D060F-CEF0-4931-9A2B-BC41314A1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AAE25-82B4-4060-B41F-56EEC9BF2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69B83-3263-468A-AB12-EFEC11FE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E8DD7-8B69-43DA-9879-D3E3ABB53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0E022-0BCC-4C2C-83A3-2CD313F3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1471E-FBC2-419A-A503-22344CB2D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ADC81-C734-4263-8441-5DB1A3DF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5A3B2-5B9E-46FF-97F5-E2676F165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F52A3-C472-42B4-96A8-BD77E625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2E5D3-D8F0-4629-AFD9-B48A68A5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CC99-7B2F-4404-AB6D-33C9837A2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9E30-C5E4-4407-83C9-A86BE6F2A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s/board/tac/cops/csw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812484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PS MAY 2013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UPDATE TO TA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    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05/02/20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Harika Basaran, Chai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Jim Lee, Vice Chai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SWG UPDAT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60912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PRR 509 Reduced RTM Settlement Time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ing with April 1, 2013 OD, initial settlement statements are posted after 8 day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WG/ERCOT scheduled weekly WEBEX calls  every Monday at 3:00 pm  to discuss and raise any issues observed during the transition from 9 to 7 day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far no major issues are obser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impact on ERCOT Staff’s time or proc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ssues may be observed when we switch to 7 days beginning OD August 1, 2013.  (ERCOT will have to push thei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ata aggreg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e one date earlier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COT Staff keeps track of all the issues raised and solutions in an Excel spreadsheet, link below (under key documen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s/board/tac/cops/csw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Please encourage your back office &amp; settlement staff to participate in the weekly cal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SWG UPDATE cont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chronization of Dispute Timeline and MarkeTra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ed Load Disputes Associated with Data Extract Varian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ed protocol language (section 9.14)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phasis will be on managing Load disputes in the MarkeTrak timelines and providing a fail-safe for QSEs representing load with Data Extract Variances that take time to resol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NPRR will be developed by CSWG to clarify the protocol languag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NON-REGISTERED DG INSTALLED CAPACITY REPORT 2013 Q1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066680"/>
          <a:ext cx="8229600" cy="2595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1520">
                <a:tc>
                  <a:txBody>
                    <a:bodyPr lIns="12600" rIns="1260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_Z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2600" rIns="1260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gregate_M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0080">
                <a:tc>
                  <a:txBody>
                    <a:bodyPr lIns="12600" rIns="1260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Z_A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2600" rIns="1260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12600" rIns="1260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Z_C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2600" rIns="1260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9720">
                <a:tc>
                  <a:txBody>
                    <a:bodyPr lIns="12600" rIns="1260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Z_HOUST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2600" rIns="1260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80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12600" rIns="1260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LZ_NOR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2600" rIns="1260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5.0762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12600" rIns="1260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Z_SO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2600" rIns="1260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7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12600" rIns="1260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Z_W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2600" rIns="1260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0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01" name="Rectangle 8"/>
          <p:cNvSpPr/>
          <p:nvPr/>
        </p:nvSpPr>
        <p:spPr>
          <a:xfrm flipV="1" rot="10800000">
            <a:off x="152280" y="3990600"/>
            <a:ext cx="83059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DG registration threshold equals 1M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ort includes un-registered DG above 50kW and equal to or below the DG registration    thresh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lled capacity limit per load zone equals 10 M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here for this report on ERCOT web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ISUG UPDAT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PS voted to approve MISUG as a new COPS working grou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ic Goff from CITI volunteered to lead the MISU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ill looking for a Vice Chair preferably some one with IT and/or Project management  backgrou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ope will include the current ones such as user interface and market wide reports as well as new items such as developing a business case for creating an open data infrastructure whereby MPs and third party vendors can customize and generate their own repor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SUG will also schedule a workshop to review NOGRR084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aily Grid Operations Summary Re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eting dates still to be decid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Please encourage your staff to get involved with MISUG if your company sees value in these topic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UPCOMING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04920" y="7621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MGRRs to align COPS Market Guide with NPRRs 347 and 50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MGRR034 Updates to the Market Notice Communic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MS unanimously voted to request that the Commercial Operations Subcommittee (COPS) table COPMGRR034 until the related Retail Market Guide Revision Request (RMGRR) 115, Manual Work-Around Processes to be Utilized During Extended Retail Outages, is recommended for approval by RMS in order to avoid potential conflicts between COPMGRR034 and RMGRR115 due to RMS tabling RMGRR115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MGRR035 Synchronization of NPRR347 and NPRR5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COPS MEETING IS ON MAY 7, 2013 TUESD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basaranh</cp:lastModifiedBy>
  <dcterms:modified xsi:type="dcterms:W3CDTF">2013-05-01T20:07:53Z</dcterms:modified>
  <cp:revision>581</cp:revision>
  <dc:subject/>
  <dc:title>Instructions</dc:title>
</cp:coreProperties>
</file>