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0431-B2D0-4278-B32B-F1DBFC65B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1177D-8DB4-4C18-BCF5-A5269CCB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A385F-F274-4869-AD84-C854A73D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661B-5F08-49E2-8EF9-70C8821E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E6A8A-D3C9-4A22-A475-1508DD61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9914-34FF-4063-AE13-94FD2CAB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34B55-E59E-4203-AFD2-E6A1E0EE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02E01-48A7-4CFC-B753-70048E75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AA597-9F0E-4BED-B1E9-281F9E2F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CCAB-6373-4349-B709-FF0DF279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6B542-0062-4E55-A33D-89E631BE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AA87-AFE6-44C8-A986-E36A387F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9351-094C-4395-AA81-1D15A8486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6351-5D17-42F8-A111-CB944B1AC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2333520" y="5467320"/>
            <a:ext cx="6276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,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5"/>
          <p:cNvSpPr/>
          <p:nvPr/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ical Advisory Committ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Black"/>
              </a:rPr>
              <a:t>RMS Updat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361960" y="297144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ob Bevi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Market Subcommitte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120" y="76176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94171"/>
                </a:solidFill>
                <a:latin typeface="Arial"/>
              </a:rPr>
              <a:t>Advanced Metering Working Grou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ing on SLA for AMS data delivered to RE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important to support the development of demand response and other AMS based product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line is still being determin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Market Subcommitte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990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4171"/>
                </a:solidFill>
                <a:latin typeface="Arial"/>
              </a:rPr>
              <a:t>Advanced Meter Deployment Prog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34272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~6.5 AMS Meters Inst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342720">
              <a:spcBef>
                <a:spcPts val="2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-285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Point Energy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-285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or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0%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-285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EP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6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42840" indent="-285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NMP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1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34272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342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verall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5%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Market Subcommitte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haryland Transition to Competi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yland Transition Task Force (STT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procedures to transition Sharyland's Stanton, Colorado City, Brady, and Celeste divisions into ERCOT on May 1,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s that do not select a competitive REP will be allocated to default service R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~41,000 ESI IDs and ~18,000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fault REPs must complete EDI testing with ERCOT in either June 2013 or Oct 2013 flight 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Market Subcommitte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nadvertent Gains per Enroll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hart 3" descr=""/>
          <p:cNvPicPr/>
          <p:nvPr/>
        </p:nvPicPr>
        <p:blipFill>
          <a:blip r:embed="rId1"/>
          <a:stretch/>
        </p:blipFill>
        <p:spPr>
          <a:xfrm>
            <a:off x="225360" y="1981080"/>
            <a:ext cx="8594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Market Subcommitte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01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MGRR11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Process Updates for the Request of Historical Usage Data via Smart Meter Texas Web Port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s new process for third parties to obtain 15-min historical usage via the S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-285840">
              <a:spcBef>
                <a:spcPts val="4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s that 15-min historical usage data is not provided by TDUs in current LOA process for historical u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85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85840">
              <a:spcBef>
                <a:spcPts val="499"/>
              </a:spcBef>
              <a:buClr>
                <a:srgbClr val="ff000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es to be Tabled at RMS pending final design decisions concerning 3</a:t>
            </a:r>
            <a:r>
              <a:rPr b="0" lang="en-US" sz="2000" spc="-1" strike="noStrike" baseline="30000">
                <a:solidFill>
                  <a:srgbClr val="ff0000"/>
                </a:solidFill>
                <a:latin typeface="Arial"/>
              </a:rPr>
              <a:t>rd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Party Authorization processes on Smart Meter Texas (SM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tail Market Subcommitte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evill, Rob</dc:creator>
  <dc:description/>
  <dc:language>en-US</dc:language>
  <cp:lastModifiedBy>Bevill, Rob</cp:lastModifiedBy>
  <dcterms:modified xsi:type="dcterms:W3CDTF">2013-04-29T22:23:31Z</dcterms:modified>
  <cp:revision>201</cp:revision>
  <dc:subject/>
  <dc:title>Instructions</dc:title>
</cp:coreProperties>
</file>