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move the slide</a:t>
            </a:r>
            <a:endParaRPr b="0" lang="en-US" sz="2000" spc="-1" strike="noStrike">
              <a:solidFill>
                <a:srgbClr val="000000"/>
              </a:solidFill>
              <a:latin typeface="Arial Black"/>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9F843-5D96-47ED-ABAD-F9B51631B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90AA-DB4F-45E6-934A-441DCF4BAA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6A4F-960C-444C-8949-503A0D47C6B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B8901-7E01-4C1E-AFC3-1009D918827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8DD2-6BED-4DD1-985B-CFC348A4E22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175A-020B-4580-BCE0-AE12B5E8B76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A8D0A-9036-4849-B0D3-9C1ECEA5A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3ED1-1E09-4FDF-9023-3D65538D9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3B8E6-9CA8-41E3-9EB0-9A13A8D2E7A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EEAF2-8548-47D7-8861-616943A5A6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12B72-AB70-4776-83A6-AB5E1D2CB54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B2978-A5C4-420A-9A92-0DF503A467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D3C1-2D42-4F56-9137-847D6A8C731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434F238-EA7A-44DD-A06A-464401C4A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1"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0552306-A552-4B74-830F-DB47CBA5A7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8993789-7421-4783-97D7-35B909AE6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9"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FFFD14C-16A4-44D1-8C9C-7D8609488C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1"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3"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5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0"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0"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C85440-1B35-4FE8-BC2E-20F378BAA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68"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2"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75"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80"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2"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5FD268F-E514-48AE-8575-EFB9A3B8B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4"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EE57FFF-A14A-4A89-897D-415E01CA6E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6728E5-FB26-4286-B2BD-711D932C03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AA453AE-9790-4BB5-BEB3-9B3AF8EB12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1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F587B10-2BDD-46B1-B198-12CD164A7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3"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52FEED6-C980-4F35-9666-CA8455E169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
        <p:nvSpPr>
          <p:cNvPr id="27"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F93984-3675-4BE6-A3E7-5AABE68A847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7804F-D9E6-47ED-A014-A8CA213675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5, 2010</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5ECF8-AEEC-4A2B-98E6-6156CEB36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5, 2010</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rotocol Revision Subcommittee</a:t>
            </a:r>
            <a:endParaRPr b="0" lang="en-US" sz="2800" spc="-1" strike="noStrike">
              <a:solidFill>
                <a:srgbClr val="000000"/>
              </a:solidFill>
              <a:latin typeface="Arial Black"/>
            </a:endParaRPr>
          </a:p>
        </p:txBody>
      </p:sp>
      <p:sp>
        <p:nvSpPr>
          <p:cNvPr id="94"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om Burke</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May 2, 2013</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25, Elimination of Three-Year Expiration for CRR Auction Revenue Distribution Methodology </a:t>
            </a:r>
            <a:br>
              <a:rPr sz="1800"/>
            </a:br>
            <a:endParaRPr b="0" lang="en-US" sz="1800" spc="-1" strike="noStrike">
              <a:solidFill>
                <a:srgbClr val="000000"/>
              </a:solidFill>
              <a:latin typeface="Arial Black"/>
            </a:endParaRPr>
          </a:p>
        </p:txBody>
      </p:sp>
      <p:graphicFrame>
        <p:nvGraphicFramePr>
          <p:cNvPr id="114" name=""/>
          <p:cNvGraphicFramePr/>
          <p:nvPr/>
        </p:nvGraphicFramePr>
        <p:xfrm>
          <a:off x="228600" y="762120"/>
          <a:ext cx="8763120" cy="5257800"/>
        </p:xfrm>
        <a:graphic>
          <a:graphicData uri="http://schemas.openxmlformats.org/drawingml/2006/table">
            <a:tbl>
              <a:tblPr/>
              <a:tblGrid>
                <a:gridCol w="2397240"/>
                <a:gridCol w="6365880"/>
              </a:tblGrid>
              <a:tr h="1373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ill remove the December 1, 2013 deadline for reconsideration of the Congestion Revenue Right (CRR) Auction Revenue Distribution (CARD) method and allow the current methodology to become perman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0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3/21/13, PRS unanimously voted to recommend approval of NPRR525 as submitted.  On 4/18/13, PRS unanimously voted to endorse and forward the 3/21/13 PRS Report and Impact Analysis for NPRR525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8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905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tisfies the Protocol requirements that expire on December 1, 2013 regarding the appropriate distribution of CRR Auction revenues during the early years of the Nodal Market transition of the CRR market.  This makes the transitional methodology used during the first three-years the permanent methodolo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26, Frequency of Audit on ERCOT Model </a:t>
            </a:r>
            <a:br>
              <a:rPr sz="1800"/>
            </a:br>
            <a:endParaRPr b="0" lang="en-US" sz="1800" spc="-1" strike="noStrike">
              <a:solidFill>
                <a:srgbClr val="000000"/>
              </a:solidFill>
              <a:latin typeface="Arial Black"/>
            </a:endParaRPr>
          </a:p>
        </p:txBody>
      </p:sp>
      <p:graphicFrame>
        <p:nvGraphicFramePr>
          <p:cNvPr id="116" name=""/>
          <p:cNvGraphicFramePr/>
          <p:nvPr/>
        </p:nvGraphicFramePr>
        <p:xfrm>
          <a:off x="152280" y="762120"/>
          <a:ext cx="8763120" cy="5333760"/>
        </p:xfrm>
        <a:graphic>
          <a:graphicData uri="http://schemas.openxmlformats.org/drawingml/2006/table">
            <a:tbl>
              <a:tblPr/>
              <a:tblGrid>
                <a:gridCol w="2397240"/>
                <a:gridCol w="6365880"/>
              </a:tblGrid>
              <a:tr h="1058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frequency of the audit on the ERCOT model from an annual audit to once every three year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82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3/21/13, PRS voted to recommend approval of NPRR526 as submitted.  There were two opposing votes from the Independent Generator and Consumer Market Segments and six abstentions from the Cooperative, Independent Generator, Independent Power Marketer (IPM), Independent Retail Electric Provider (IREP) (2) and Municipal Market Segments.  On 4/18/13, PRS unanimously voted to endorse and forward the 3/21/13 PRS Report and Impact Analysis for NPRR526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33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business functions will be updated; 0.25 FTE sav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460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tion in audits will allow flexibility for scheduling audits in a more risk-based manner; Reduction in co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30, Transfers of Specific NOIEs Within a NOIE Load Zone to a Competitive Load Zone – URGENT  </a:t>
            </a:r>
            <a:br>
              <a:rPr sz="1800"/>
            </a:br>
            <a:endParaRPr b="0" lang="en-US" sz="1800" spc="-1" strike="noStrike">
              <a:solidFill>
                <a:srgbClr val="000000"/>
              </a:solidFill>
              <a:latin typeface="Arial Black"/>
            </a:endParaRPr>
          </a:p>
        </p:txBody>
      </p:sp>
      <p:graphicFrame>
        <p:nvGraphicFramePr>
          <p:cNvPr id="118" name=""/>
          <p:cNvGraphicFramePr/>
          <p:nvPr/>
        </p:nvGraphicFramePr>
        <p:xfrm>
          <a:off x="152280" y="762120"/>
          <a:ext cx="8763120" cy="5584680"/>
        </p:xfrm>
        <a:graphic>
          <a:graphicData uri="http://schemas.openxmlformats.org/drawingml/2006/table">
            <a:tbl>
              <a:tblPr/>
              <a:tblGrid>
                <a:gridCol w="2397240"/>
                <a:gridCol w="6365880"/>
              </a:tblGrid>
              <a:tr h="2530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ty of Georgetow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would allow a NOIE, who has provided notification of termination of its pre-1999 power supply contract that was terminated in 2013, to move to a Competitive Load Zone in January 2014.  Currently Protocols require that such a NOIE provide notice to ERCOT of termination of its power supply arrangement no later than 90 days prior to the next annual Congestion Revenue Right (CRR) Auction.  Upon implementation of NPRR463 annual CRR Auctions will no longer be conducted.  This NPRR also removes obsolete references to the Texas Nodal Market Implementation Date and provides additional clarification regarding NOIE Load Zon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666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unanimously voted to grant NPRR530 Urgent status.  PRS then unanimously voted to recommend approval of NPRR530 as amended by the 4/17/13 ERCOT comments and to forward NPRR530 to TAC.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7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ll allow impacted NOIEs access to Load Zone priced products in a Competitive Load Zone; Will facilitate transactions between impacted NOIEs and wholesale generation provid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34, Clarification of QSE Responsibilities to Provide Service in NOIE Territory – URGENT </a:t>
            </a:r>
            <a:br>
              <a:rPr sz="1800"/>
            </a:br>
            <a:endParaRPr b="0" lang="en-US" sz="1800" spc="-1" strike="noStrike">
              <a:solidFill>
                <a:srgbClr val="000000"/>
              </a:solidFill>
              <a:latin typeface="Arial Black"/>
            </a:endParaRPr>
          </a:p>
        </p:txBody>
      </p:sp>
      <p:graphicFrame>
        <p:nvGraphicFramePr>
          <p:cNvPr id="120" name=""/>
          <p:cNvGraphicFramePr/>
          <p:nvPr/>
        </p:nvGraphicFramePr>
        <p:xfrm>
          <a:off x="228600" y="914400"/>
          <a:ext cx="8763120" cy="5502240"/>
        </p:xfrm>
        <a:graphic>
          <a:graphicData uri="http://schemas.openxmlformats.org/drawingml/2006/table">
            <a:tbl>
              <a:tblPr/>
              <a:tblGrid>
                <a:gridCol w="2397240"/>
                <a:gridCol w="6365880"/>
              </a:tblGrid>
              <a:tr h="1116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C, CPS, KPUB, Rayburn, Golden Spread, Dent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vides clarity that third party Qualified Scheduling Entities (QSEs) offering services within a NOIE service territory require NOIE authoriz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54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voted to grant NPRR534 Urgent status.  There was one abstention from the Consumer Market Segment.  PRS then voted to recommend approval of NPRR534 as submitted and to forward NPRR534 to TAC.  There was one opposing vote from the IREP Market Segment and seven abstentions from the Independent Generator (2), IREP, IPM (3), and Consumer Market Segment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88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minor impacts to internal applications which can be absorbed;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63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s with PURA; provides clarity as to the provider for services within a NOIE service territory; Clarifies that third party QSEs are required to obtain NOIE permission prior to recruiting NOIE customers; Will save time and effort on the part of QSEs and NOIEs which could be better spent recruiting customers who can participate in a progra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22"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jecte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444, </a:t>
            </a:r>
            <a:r>
              <a:rPr b="1" i="1" lang="en-US" sz="2000" spc="-1" strike="noStrike">
                <a:solidFill>
                  <a:srgbClr val="000000"/>
                </a:solidFill>
                <a:latin typeface="Arial Black"/>
              </a:rPr>
              <a:t>Supplemental Reliability Deployments - URGENT </a:t>
            </a:r>
            <a:br>
              <a:rPr sz="2000"/>
            </a:br>
            <a:endParaRPr b="0" lang="en-US" sz="2000" spc="-1" strike="noStrike">
              <a:solidFill>
                <a:srgbClr val="000000"/>
              </a:solidFill>
              <a:latin typeface="Arial Black"/>
            </a:endParaRPr>
          </a:p>
        </p:txBody>
      </p:sp>
      <p:graphicFrame>
        <p:nvGraphicFramePr>
          <p:cNvPr id="124" name=""/>
          <p:cNvGraphicFramePr/>
          <p:nvPr/>
        </p:nvGraphicFramePr>
        <p:xfrm>
          <a:off x="228600" y="762120"/>
          <a:ext cx="8763120" cy="5630760"/>
        </p:xfrm>
        <a:graphic>
          <a:graphicData uri="http://schemas.openxmlformats.org/drawingml/2006/table">
            <a:tbl>
              <a:tblPr/>
              <a:tblGrid>
                <a:gridCol w="2397240"/>
                <a:gridCol w="6365880"/>
              </a:tblGrid>
              <a:tr h="1311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rgan Stanl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tion and Load Resources deployed for reliability purposes often result in market distortions that artificially lower prices when market conditions would call for prices to be at a higher level.  This NPRR works to remove those influences from the market for more accurate price formation.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98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3/21/13, the PRS vote to recommend approval of NPRR444 as amended by the 12/20/12 ERCOT comments and direct that NPRR444 return to PRS with an Impact Analysis failed via roll call vote.  There were ten opposing votes from the Consumer (2), Cooperative (3), IOU, IREP and Municipal (3) Market Segments and one abstention from the IREP Market Segment.  Due to lack of a subsequent PRS action, NPRR444 was deemed rejected by P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applicabl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714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s the impact of Resources that have been deployed by ERCOT, but are not needed for the full duration of the deployment; This modification has been listed by the PUCT as one of the changes that should be investigated to ensure long term Resource adequacy in the mark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304920" y="0"/>
            <a:ext cx="8229600" cy="79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ummary of Revision Requests</a:t>
            </a:r>
            <a:endParaRPr b="0" lang="en-US" sz="2000" spc="-1" strike="noStrike">
              <a:solidFill>
                <a:srgbClr val="000000"/>
              </a:solidFill>
              <a:latin typeface="Arial"/>
            </a:endParaRPr>
          </a:p>
        </p:txBody>
      </p:sp>
      <p:sp>
        <p:nvSpPr>
          <p:cNvPr id="96" name="Rectangle 3"/>
          <p:cNvSpPr/>
          <p:nvPr/>
        </p:nvSpPr>
        <p:spPr>
          <a:xfrm>
            <a:off x="304920" y="990720"/>
            <a:ext cx="8153280" cy="563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 NPRRs Recommended for Approv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NPRR Rejec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Items for a Vote</a:t>
            </a:r>
            <a:endParaRPr b="0" lang="en-US" sz="2000" spc="-1" strike="noStrike">
              <a:solidFill>
                <a:srgbClr val="000000"/>
              </a:solidFill>
              <a:latin typeface="Arial Black"/>
            </a:endParaRPr>
          </a:p>
        </p:txBody>
      </p:sp>
      <p:sp>
        <p:nvSpPr>
          <p:cNvPr id="98" name="PlaceHolder 2"/>
          <p:cNvSpPr>
            <a:spLocks noGrp="1"/>
          </p:cNvSpPr>
          <p:nvPr>
            <p:ph/>
          </p:nvPr>
        </p:nvSpPr>
        <p:spPr>
          <a:xfrm>
            <a:off x="228600" y="838080"/>
            <a:ext cx="8153280" cy="5639040"/>
          </a:xfrm>
          <a:prstGeom prst="rect">
            <a:avLst/>
          </a:prstGeom>
          <a:noFill/>
          <a:ln w="0">
            <a:noFill/>
          </a:ln>
        </p:spPr>
        <p:txBody>
          <a:bodyPr anchor="t">
            <a:normAutofit fontScale="70000"/>
          </a:bodyPr>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Unopposed Recommendations</a:t>
            </a:r>
            <a:endParaRPr b="1"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3, Removal of Nodal Implementation Surcharge*</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4, Seasonal Generation Resource - URGENT</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6, Change to Verifiable Cost Manual Revision Process*</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17, Revisions to the Telemetry Standards and State Estimator Standards Approval Process*</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23, Available Credit Limit (ACLC and/or ACLD) Calculations During Computer System Failures*</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25, Elimination of Three-Year Expiration for CRR Auction Revenue Distribution Methodology*</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30, Transfers of Specific NOIEs Within a NOIE Load Zone to a Competitive Load Zone – URGENT*</a:t>
            </a:r>
            <a:endParaRPr b="0" lang="en-US" sz="1600" spc="-1" strike="noStrike">
              <a:solidFill>
                <a:srgbClr val="000000"/>
              </a:solidFill>
              <a:latin typeface="Arial"/>
            </a:endParaRPr>
          </a:p>
          <a:p>
            <a:pPr marL="2401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commendations with Opposing Votes</a:t>
            </a:r>
            <a:endParaRPr b="1"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26, Frequency of Audit on ERCOT Model*</a:t>
            </a:r>
            <a:endParaRPr b="0"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534, Clarification of QSE Responsibilities to Provide Service in NOIE Territory – URGENT*</a:t>
            </a:r>
            <a:endParaRPr b="0"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jected Revision Requests</a:t>
            </a:r>
            <a:endParaRPr b="1" lang="en-US" sz="1600" spc="-1" strike="noStrike">
              <a:solidFill>
                <a:srgbClr val="000000"/>
              </a:solidFill>
              <a:latin typeface="Arial"/>
            </a:endParaRPr>
          </a:p>
          <a:p>
            <a:pPr lvl="1" marL="519840" indent="-199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PRR444, Supplemental Reliability Deployments</a:t>
            </a:r>
            <a:endParaRPr b="0" lang="en-US" sz="16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40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denotes no impacts)</a:t>
            </a:r>
            <a:endParaRPr b="1" lang="en-US" sz="1800" spc="-1" strike="noStrike">
              <a:solidFill>
                <a:srgbClr val="000000"/>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519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70c0"/>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0949a"/>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Arial"/>
              </a:rPr>
              <a:t>	</a:t>
            </a: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40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 name="Slide Number Placeholder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NPRR Descriptions</a:t>
            </a:r>
            <a:endParaRPr b="0" lang="en-US" sz="2000" spc="-1" strike="noStrike">
              <a:solidFill>
                <a:srgbClr val="000000"/>
              </a:solidFill>
              <a:latin typeface="Arial Black"/>
            </a:endParaRPr>
          </a:p>
        </p:txBody>
      </p:sp>
      <p:sp>
        <p:nvSpPr>
          <p:cNvPr id="101" name=""/>
          <p:cNvSpPr txBox="1"/>
          <p:nvPr/>
        </p:nvSpPr>
        <p:spPr>
          <a:xfrm>
            <a:off x="457200" y="1066680"/>
            <a:ext cx="8229600" cy="4724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NPRRs Recommended for Approval</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13, Removal of Nodal Implementation Surcharge </a:t>
            </a:r>
            <a:endParaRPr b="0" lang="en-US" sz="2000" spc="-1" strike="noStrike">
              <a:solidFill>
                <a:srgbClr val="000000"/>
              </a:solidFill>
              <a:latin typeface="Arial Black"/>
            </a:endParaRPr>
          </a:p>
        </p:txBody>
      </p:sp>
      <p:graphicFrame>
        <p:nvGraphicFramePr>
          <p:cNvPr id="103" name=""/>
          <p:cNvGraphicFramePr/>
          <p:nvPr/>
        </p:nvGraphicFramePr>
        <p:xfrm>
          <a:off x="152280" y="914400"/>
          <a:ext cx="8763120" cy="5186520"/>
        </p:xfrm>
        <a:graphic>
          <a:graphicData uri="http://schemas.openxmlformats.org/drawingml/2006/table">
            <a:tbl>
              <a:tblPr/>
              <a:tblGrid>
                <a:gridCol w="2397240"/>
                <a:gridCol w="6365880"/>
              </a:tblGrid>
              <a:tr h="982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moves references to the Nodal Implementation Surcharge (NI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094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21/13, PRS unanimously voted to recommend approval of NPRR513 as submitted.  On 3/21/13, PRS unanimously voted to endorse and forward the 2/21/13 PRS Report and Impact Analysis for NPRR513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8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828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references of NIS to align Protocols with current practice; maintain updated and accurate language in Protoco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14, Seasonal Generation Resource - URGENT</a:t>
            </a:r>
            <a:br>
              <a:rPr sz="2000"/>
            </a:br>
            <a:endParaRPr b="0" lang="en-US" sz="2000" spc="-1" strike="noStrike">
              <a:solidFill>
                <a:srgbClr val="000000"/>
              </a:solidFill>
              <a:latin typeface="Arial Black"/>
            </a:endParaRPr>
          </a:p>
        </p:txBody>
      </p:sp>
      <p:graphicFrame>
        <p:nvGraphicFramePr>
          <p:cNvPr id="105" name=""/>
          <p:cNvGraphicFramePr/>
          <p:nvPr/>
        </p:nvGraphicFramePr>
        <p:xfrm>
          <a:off x="228600" y="762120"/>
          <a:ext cx="8763120" cy="5730840"/>
        </p:xfrm>
        <a:graphic>
          <a:graphicData uri="http://schemas.openxmlformats.org/drawingml/2006/table">
            <a:tbl>
              <a:tblPr/>
              <a:tblGrid>
                <a:gridCol w="2397240"/>
                <a:gridCol w="6365880"/>
              </a:tblGrid>
              <a:tr h="25304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uminant Ener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creates a new type of Generation Resource, a Seasonal Generation Resource, to allow Resource Entities to operate their Facilities during summer peak Load periods only without having to go through the existing mothballing process; modifies the Protocols to allow a Resource Entity to designate that its Generation Resource will operate only on a seasonal basis (i.e., during the period June 1 to September 30); and allows ERCOT to request the Seasonal Generation Resource to become available earlier than June 1 or remain available after September 30 if ERCOT determines that the Seasonal Generation Resource is needed for reliability reason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03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4/18/13, PRS voted to grant NPRR514 Urgent status; recommend approval of NPRR514 as amended by the 4/15/13 WMS comments; and forward NPRR514 to TAC.  There were two abstentions from the Consumer Market Segmen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d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11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time and resources necessary to allow a Generation Resource to operate seasonally; eliminates the complex process to “mothball” and “un-mothball” a Generation Resource that wants to operate seasonally; provides market transparency of all Generation Resources that plan to operate on a seasonal bas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6" name="Date Placeholder 3"/>
          <p:cNvSpPr/>
          <p:nvPr/>
        </p:nvSpPr>
        <p:spPr>
          <a:xfrm>
            <a:off x="6553080" y="63658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COT Public</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36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16, Change to Verifiable Cost Manual Revision Process </a:t>
            </a:r>
            <a:endParaRPr b="0" lang="en-US" sz="2000" spc="-1" strike="noStrike">
              <a:solidFill>
                <a:srgbClr val="000000"/>
              </a:solidFill>
              <a:latin typeface="Arial Black"/>
            </a:endParaRPr>
          </a:p>
        </p:txBody>
      </p:sp>
      <p:graphicFrame>
        <p:nvGraphicFramePr>
          <p:cNvPr id="108" name=""/>
          <p:cNvGraphicFramePr/>
          <p:nvPr/>
        </p:nvGraphicFramePr>
        <p:xfrm>
          <a:off x="228600" y="838080"/>
          <a:ext cx="8763120" cy="4784760"/>
        </p:xfrm>
        <a:graphic>
          <a:graphicData uri="http://schemas.openxmlformats.org/drawingml/2006/table">
            <a:tbl>
              <a:tblPr/>
              <a:tblGrid>
                <a:gridCol w="2397240"/>
                <a:gridCol w="6365880"/>
              </a:tblGrid>
              <a:tr h="1798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moves the Verifiable Cost Manual revision process from Section 5.6.1, Verifiable Costs.  In conjunction with this NPRR, the Verifiable Cost Manual will be revised to incorporate a change control process analogous to the common process used in ERCOT Protocols and market guid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255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2/21/13, PRS unanimously voted to recommend approval of NPRR516 as submitted.  On 3/21/13, PRS unanimously voted to endorse and forward the 2/21/13 PRS Report and Impact Analysis for NPRR516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5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s change control process that is sufficiently detailed and provides for assessment of impacts will produce more efficient and workable outco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0"/>
            <a:ext cx="8763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Black"/>
              </a:rPr>
              <a:t>NPRR517, Revisions to the Telemetry Standards and State Estimator Standards Approval Process</a:t>
            </a:r>
            <a:br>
              <a:rPr sz="2000"/>
            </a:br>
            <a:endParaRPr b="0" lang="en-US" sz="2000" spc="-1" strike="noStrike">
              <a:solidFill>
                <a:srgbClr val="000000"/>
              </a:solidFill>
              <a:latin typeface="Arial Black"/>
            </a:endParaRPr>
          </a:p>
        </p:txBody>
      </p:sp>
      <p:graphicFrame>
        <p:nvGraphicFramePr>
          <p:cNvPr id="110" name=""/>
          <p:cNvGraphicFramePr/>
          <p:nvPr/>
        </p:nvGraphicFramePr>
        <p:xfrm>
          <a:off x="152280" y="838080"/>
          <a:ext cx="8763120" cy="5222880"/>
        </p:xfrm>
        <a:graphic>
          <a:graphicData uri="http://schemas.openxmlformats.org/drawingml/2006/table">
            <a:tbl>
              <a:tblPr/>
              <a:tblGrid>
                <a:gridCol w="2397240"/>
                <a:gridCol w="6365880"/>
              </a:tblGrid>
              <a:tr h="95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revises the requirement for an annual update to an annual review and provides for updates on an as needed basis for both the Telemetry Standards and State Estimator Standard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1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3/21/13, PRS voted to recommend approval of NPRR517 as amended by the 3/18/13 Luminant Energy Company LLC comments.  There were two abstentions from the Consumer and Independent Generator Market Segments.  On 4/18/13, PRS voted to endorse and forward the 3/21/13 PRS Report as amended by the 4/15/13 ROS comments and Impact Analysis for NPRR517 to TAC.  There was one abstention from the Consumer Market Seg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1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701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888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more accurately describe the maintenance processes for the Telemetry Standards and State Estimator Standar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2640"/>
            <a:ext cx="87631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Black"/>
              </a:rPr>
              <a:t>NPRR523, Available Credit Limit (ACLC and/or ACLD) Calculations During Computer System Failures</a:t>
            </a:r>
            <a:endParaRPr b="0" lang="en-US" sz="1800" spc="-1" strike="noStrike">
              <a:solidFill>
                <a:srgbClr val="000000"/>
              </a:solidFill>
              <a:latin typeface="Arial Black"/>
            </a:endParaRPr>
          </a:p>
        </p:txBody>
      </p:sp>
      <p:graphicFrame>
        <p:nvGraphicFramePr>
          <p:cNvPr id="112" name=""/>
          <p:cNvGraphicFramePr/>
          <p:nvPr/>
        </p:nvGraphicFramePr>
        <p:xfrm>
          <a:off x="228600" y="762120"/>
          <a:ext cx="8763120" cy="5349600"/>
        </p:xfrm>
        <a:graphic>
          <a:graphicData uri="http://schemas.openxmlformats.org/drawingml/2006/table">
            <a:tbl>
              <a:tblPr/>
              <a:tblGrid>
                <a:gridCol w="2397240"/>
                <a:gridCol w="6365880"/>
              </a:tblGrid>
              <a:tr h="179856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RCO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NPRR provides clarification to the process for generating credit exposure calculations (Available Credit Limit (ACL) for the Congestion Revenue Right (CRR) Auction (ACLC), and/or ACL for the Day-Ahead Market (DAM) (ACLD)) when an ERCOT computer system failure occurs and for communication of such calculations to Counter-Parties.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492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S Vot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3/21/13, PRS unanimously voted to recommend approval of NPRR523 as revised by PRS.  On 4/18/13, PRS unanimously voted to endorse and forward the 3/21/13 PRS Report and Impact Analysis for NPRR523 to TAC.</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ive Date/Prior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 1, 201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148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mpac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impacts (business functions will be upd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Case Highlight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igns Protocol language in accordance with existing credit calculation methodolog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Thomas Burke</dc:creator>
  <dc:description/>
  <dc:language>en-US</dc:language>
  <cp:lastModifiedBy>A. Boren</cp:lastModifiedBy>
  <dcterms:modified xsi:type="dcterms:W3CDTF">2013-05-01T18:49:58Z</dcterms:modified>
  <cp:revision>694</cp:revision>
  <dc:subject/>
  <dc:title>Instructions</dc:title>
</cp:coreProperties>
</file>