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D85-CECD-48DB-AD88-7E164DF0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441-F592-4609-894E-2922B9C13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43C-36F0-4979-9A10-211D6BD8F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E55-95F9-4CC7-BF7A-ED60EC09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3B4-02B4-4A75-B541-22453AAB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89CA-FCD7-4063-A243-54DCE9DA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379B-9708-4A27-BD4B-E8DF1E99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6146-96F0-4759-A1BE-7557E43B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A42-313F-471A-9737-DC1DB39F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0EA-A170-4D4D-AA35-9FEFDA7F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F7CE-2365-4706-B176-F18FD07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A37E-C516-444D-9466-23F0A11F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7366-6186-456A-8698-611B022C1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4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Generation Adequacy Task Force Update to W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76212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ril 12, 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recommendation on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F consensus item?  “…the “green curve” be excluded from further consideration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90720" y="1709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CC is tied to the LOL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46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0663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Questions/Comments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TF Meetings Held on March 2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April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013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th meetings focused on an overview of the 2012 LOLP study results.  Also discussed GATF deliverables and date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ompleted LOLP study report and a supporting document containing the LOLP’s Assumptions and Methodology can be found at the GATF meeting page of March 22, 2013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ATF (non-voting body) came to a consensus agreement on several items and began a deep dive of the CDR inputs at its April 5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eet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ission workshop on CDR inputs held on March 14, 20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Update on Recent GAT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following schedule was provided to the ERCOT Board of Directors by the ERCOT CEO at their March 19, 2013 Board meet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of Load Probability Stu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results will inform setting the Target Reserve Margin, to be discussed a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F on Jan 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on Feb 13 and Mar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CT on Mar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F on Mar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 on Apr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MS on Apr 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C on Ma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ard of Directors on May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and Market Participant Deliver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ased on the preceding Board schedule, the GATF reviewed the following deliverables and associated timel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e to timing issues, the May 2013 CDR will use the existing methodology and CDR inputs approved in NPRR489, Planning Reserve Margin (13.75% target reserve margin, 8.7% ELCC of wi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ATF will have a new target reserve margin and ELCC of wind recommendation ready by the April WMS meeting (d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S will vote on the recommendation and have it ready for the May TAC meeting. (TBD tod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C will vote and send a recommendation to the Board’s May mee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raft NPRR with any suggested modifications to the CDR inputs will be ready for WMS in M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Discussion of Sche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the April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meeting, the GATF developed the following recommend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GATF reviewed the 2012 LOLP study results in detail at its March 2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nd April 5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2013 meeting.  The GATF members reached a consensus opinion that the LOLP study results are reasonable.  GATF recommends using the LOLP results for the 2014 study year, resulting in a 16.1% planning reserve margin and an ELCC of non-coastal Texas wind of 14.2% and coastal wind of 32.9%.  GATF also points out the recommendation is not based on any type of economic analyses, but rather on the loss-of-load probability methodology that has been used historically.  This recommendation is not intended to establish the value of any resource type in any future market structure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Consensus Recommendation #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TF suggests the “green curve” from ERCOT’s earlier presentation, which shows a loss-of-load expectation ignoring the effects of 2011, be excluded from further consid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ATF Consensus Recommendation #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23888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March 1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Commission conducted a workshop in Project 41060, Proceeding to Examine the Inputs Included in the ERCOT Capacity, Demand and Reserves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verview of the current CDR input assumptions was provid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nges were recommended, but Comm. Anderson hinted he may file a memo concerning the CDR prior to the next open me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ommission Work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R assumptions discussed so far by GATF; to be continued at next meeting - not yet consensus i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alate ERS based on previous 3 years average growth instead of escalating 10% per y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ydro Unit Capacity – The average hydro unit capacity available, as determined from the COP, during the highest 20 peak load hours for each preceding 3 year perio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ar Unit Capacity – 100% of the nameplate capacity for operational solar units until a threshold value of 200 MWs of installed solar capacity is reach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 tie Capacity – language similar to hydro information, i.e., the average capacity available from the DC ties during the highest 20 peak load hours for each preceding 3 year perio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thball capacity – still discussing, but may change to 100% of a unit’s capacity if return probability is greater than or equal to 50%; show zero capacity if probability is less than 5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units:  maintain existing SGIA and TCEQ air permit requirement, but add a new requirement to have a federal Greenhouse Gas permit before including in the CDR.  If a new unit developer has met all of these requirements, language should also be added that allows ERCOT to remove a unit from the CDR if they have received documentation from the developer the new unit will not be proceeding with construc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DR Inputs Being Review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market participants should understand the May 2013 CDR will utilize the existing reserve margin of 13.75% and ELCC of wind of 8.7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a recommendation on the planning reserve margin to the Board by May, WMS will need to have a recommendation to TAC voted on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F recommended a 16.1% planning reserve margin and 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ELCC of non-coastal Texas wind of 14.2% and coastal wind of 32.9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7760" indent="-5778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MS vo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ary – Next Step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6:03:50Z</dcterms:created>
  <dc:creator>apieniazek</dc:creator>
  <dc:description/>
  <dc:language>en-US</dc:language>
  <cp:lastModifiedBy>albracht</cp:lastModifiedBy>
  <dcterms:modified xsi:type="dcterms:W3CDTF">2013-04-25T18:31:14Z</dcterms:modified>
  <cp:revision>89</cp:revision>
  <dc:subject/>
  <dc:title>Generation Adequacy Task Force Update to WMS</dc:title>
</cp:coreProperties>
</file>