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43E4-1588-49C3-B879-C857E541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FDAB-9445-48AE-88F3-FE00C12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5CB-7E9E-4806-ABC0-767E14FC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B0A3-5E9F-4018-B9C9-24A12599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7277-1A2E-46EE-8527-9CC0905E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32A-FFA4-47D7-B1E7-62D2B38A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48C5-B9D6-4BB5-AFBA-E7016BC1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A195-73BE-4011-940A-D94BCCA9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E8E2-537F-449E-A223-84682999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E162-7868-45BA-B789-CBBFB941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8DE-8DEF-4326-8B78-5F5FDEF3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2C25-2872-4EAA-B42B-FDC35B0F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51CE-D98D-4153-A98F-DDCAB1FB7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liability and Operations Subcommitte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port to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chnical Advisory Committ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ril -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360" y="1600200"/>
            <a:ext cx="7086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NOGRR10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Disturbance Monitoring Requirements Clar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OS reviewed NOGRR107 and determined that this NOGR provides more descriptive language for the existing guide but does not change or add any new requirements to the guide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S motion to recommend approval with SSWG comm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tion p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ses with unanimous vo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Calibri"/>
              </a:rPr>
              <a:t>TAC Agenda item 7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ability and Operations Sub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liability and Operations Subcommitte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PGRR027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alysis of Sub Synchronous Resonance Studies in Transmissi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S motion to recommend approval PGRR027 as revised by R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tion p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sses with unanimous vo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ther Binding Document – State Estimator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S motion to approve as amended by RO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tion passes with one oppos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Other Binding Document – Telemetry Standar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S motion to approve as amended by ROS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tion passes with one opposed and two abst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6:48:56Z</dcterms:created>
  <dc:creator>bawilliams</dc:creator>
  <dc:description/>
  <dc:language>en-US</dc:language>
  <cp:lastModifiedBy>hholloway</cp:lastModifiedBy>
  <dcterms:modified xsi:type="dcterms:W3CDTF">2013-04-18T22:24:02Z</dcterms:modified>
  <cp:revision>115</cp:revision>
  <dc:subject/>
  <dc:title>Reliability and Operations Subcommittee Report</dc:title>
</cp:coreProperties>
</file>