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1C56-3553-43BC-8C27-ED81CE22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C9F-309E-4E53-AD00-1B5AE549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6ED-04BF-4438-9C9F-FA9C8FE2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20A-D0E2-4683-8075-BFD24E16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B08-965E-41E5-B468-943486BF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EF1-CA6D-48BA-BE70-4A33F255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F03-2BB2-418B-934F-88CB2D01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92A-52F3-4279-BAF0-993D4DA6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6D1-1E19-404B-B4D6-4F5B0B38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594-FE30-4814-91DD-C4BE137F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878A-BBE5-4D09-B7D3-963366E7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9B8-DC0F-4D60-9937-135320DF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7F5F-0D48-4E36-AAD4-460EFDE37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904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eneration Adequacy Task Force Update to W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76212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12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MS recommendation on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TF consensus item?  “…the “green curve” be excluded from further considera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ummary – Next Step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990720" y="1709640"/>
            <a:ext cx="72388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CC is tied to the LOL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ummary – Next Step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461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Questions/Comments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TF Meetings Held on March 2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April 5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013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meetings focused on an overview of the 2012 LOLP study results.  Also discussed GATF deliverables and date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pleted LOLP study report and a supporting document containing the LOLP’s Assumptions and Methodology can be found at the GATF meeting page of March 22, 201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F (non-voting body) came to a consensus agreement on several items and began a deep dive of the CDR inputs at its April 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ee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ission workshop on CDR inputs held on March 14, 20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pdate on Recent GAT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ollowing schedule was provided to the ERCOT Board of Directors by the ERCOT CEO at their March 19, 2013 Board meet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Load Probability Stu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results will inform setting the Target Reserve Margin, to be discussed 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F on Jan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 on Feb 13 and Mar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CT on Mar 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F on Mar 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 on Apr 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 on Apr 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on May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of Directors on May 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ATF and Market Participant Deliver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the preceding Board schedule, the GATF reviewed the following deliverables and associated timeli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iming issues, the May 2013 CDR will use the existing methodology and CDR inputs approved in NPRR489, Planning Reserve Margin (13.75% target reserve margin, 8.7% ELCC of wi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ATF will have a new target reserve margin and ELCC of wind recommendation ready by the April WMS meeting (do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MS will vote on the recommendation and have it ready for the May TAC meeting. (TBD to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 will vote and send a recommendation to the Board’s May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raft NPRR with any suggested modifications to the CDR inputs will be ready for WMS in M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ATF Discussion of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the April 5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eeting, the GATF developed the following recommend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GATF reviewed the 2012 LOLP study results in detail at its March 2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April 5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2013 meeting.  The GATF members reached a consensus opinion that the LOLP study results are reasonable.  GATF recommends using the LOLP results for the 2014 study year, resulting in a 16.1% planning reserve margin and an ELCC of non-coastal Texas wind of 14.2% and coastal wind of 32.9%.  GATF also points out the recommendation is not based on any type of economic analyses, but rather on the loss-of-load probability methodology that has been used historically.  This recommendation is not intended to establish the value of any resource type in any future market structur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ATF Consensus Recommendation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ATF suggests the “green curve” from ERCOT’s earlier presentation, which shows a loss-of-load expectation ignoring the effects of 2011, be excluded from further consid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ATF Consensus Recommendation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23888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March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Commission conducted a workshop in Project 41060, Proceeding to Examine the Inputs Included in the ERCOT Capacity, Demand and Reserves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the current CDR input assumptions was provi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ges were recommended, but Comm. Anderson hinted he may file a memo concerning the CDR prior to the next open me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mmission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R assumptions discussed so far by GATF; to be continued at next meeting - not yet consensus i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577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alate ERS based on previous 3 years average growth instead of escalating 10% per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577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dro Unit Capacity – The average hydro unit capacity available, as determined from the COP, during the highest 20 peak load hours for each preceding 3 year perio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577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 Unit Capacity – 100% of the nameplate capacity for operational solar units until a threshold value of 200 MWs of installed solar capacity is reach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577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C tie Capacity – language similar to hydro information, i.e., the average capacity available from the DC ties during the highest 20 peak load hours for each preceding 3 year peri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577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thball capacity – still discussing, but may change to 100% of a unit’s capacity if return probability is greater than or equal to 50%; show zero capacity if probability is less than 5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577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units:  maintain existing SGIA and TCEQ air permit requirement, but add a new requirement to have a federal Greenhouse Gas permit before including in the CDR.  If a new unit developer has met all of these requirements, language should also be added that allows ERCOT to remove a unit from the CDR if they have received documentation from the developer the new unit will not be proceeding with constru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DR Inputs Being Revie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arket participants should understand the May 2013 CDR will utilize the existing reserve margin of 13.75% and ELCC of wind of 8.7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ave a recommendation on the planning reserve margin to the Board by May, WMS will need to have a recommendation to TAC voted on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F recommended a 16.1% planning reserve margin and 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ELCC of non-coastal Texas wind of 14.2% and coastal wind of 32.9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577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MS vo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ummary – Next Step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6:03:50Z</dcterms:created>
  <dc:creator>apieniazek</dc:creator>
  <dc:description/>
  <dc:language>en-US</dc:language>
  <cp:lastModifiedBy>Lasher, Warren</cp:lastModifiedBy>
  <dcterms:modified xsi:type="dcterms:W3CDTF">2013-04-10T18:41:56Z</dcterms:modified>
  <cp:revision>89</cp:revision>
  <dc:subject/>
  <dc:title>Generation Adequacy Task Force Update to WMS</dc:title>
</cp:coreProperties>
</file>