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1466-57FB-4050-8EAF-53DB20C7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8165-44D6-46E3-8486-D75739E6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2D03-443A-4F28-B8CB-C7ACAFEA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27F8-2BE5-455D-883D-5030B6C5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38CF-E694-4331-92B4-78554277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A225-45A9-4128-9616-3C6A2318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474F-774B-43E6-8F5D-7A2BF8B9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0DA5-5E15-4E5A-A980-30AC6719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6888-755A-4F3B-9F21-995A1B62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FF3C-DC55-48EA-800B-290A642B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EBDC-4CCB-4EDE-8EC3-A8F77197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155A-5A4E-41BB-AEBD-EB8F25D5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EFC6-92AA-460D-9F67-5B43346D8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9047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ecommended Threshold ECI for SCED Competitive Constraint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762120" y="3657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il 12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mpts to implement the CCT logic have not been successful since the market op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f the difficulties with the CCT, prior to nodal the 2010 zonal CSCs and CREs were deemed competitive by default.  Indeed, the Board passed a motion in Sept. 2012 to “restore the zonal 2010 designated CSCs and CREs as the 2013 Competitive Constraints; and directed TAC to study and develop alternatives to improve the Constraints Competitiveness Tes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RR520 is the result of the Board motion and appears to be a good step for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the question is what are the proper values for the variables in NPRR520, particularly the ECI thresh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Constraint Competitiveness Test (C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“bright line” for the proper ECI threshold value because the market has always deemed the CSCs and CREs as competitive, everything else was deemed non-compet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f the historical CCT language had been implemented, there are different values for the import side ECI, depending on the tenor of the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Term CCT – ECI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,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less is compet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hly  CCT - ECI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,5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less is compet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ily  CCT - ECI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,5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less is compet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ata provided recently by ERCOT, plus the market’s history of solving CSCs and CREs competitively, indicates an ECI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,5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ould be the initial value for NPRR5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hat is the Proper Value for the ECI Threshold Val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rth to Houston has been a CSC (i.e., competitive constraint) since 2004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most $200M of congestion on North to Houston in the zonal mark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PRR 520 methodology shows an ECI of 2,369 for North to Houst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rth to Houston CSC is a good benchmark for the ECI threshold evalu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,500 is recommended as the proper ECI threshold valu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rth – Houston CSC as a Bench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st to North has been a CSC since Zonal Market open in 2002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$137M of congestion on West to North in the zonal mark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PRR 520 methodology shows an ECI of 2,187 for North to Houst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st to North CSC is a good benchmark for the ECI threshold evalu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est – North CSC as a Bench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5800" y="1295280"/>
          <a:ext cx="7848720" cy="5451480"/>
        </p:xfrm>
        <a:graphic>
          <a:graphicData uri="http://schemas.openxmlformats.org/drawingml/2006/table">
            <a:tbl>
              <a:tblPr/>
              <a:tblGrid>
                <a:gridCol w="1962000"/>
                <a:gridCol w="1962360"/>
                <a:gridCol w="1962000"/>
                <a:gridCol w="196236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g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–Tomb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–R.Prair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g Brown - Venus Double Circu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ytton Sp - Hol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ppyd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ed 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 – Zen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hland - Trin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PP - Lost P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Units w/ SF&gt;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st SF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D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Units Mitiga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igated D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G, Calp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minant, Nextera, Sh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in, LCRA, NR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Eff. Capacity Mitiga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6:03:50Z</dcterms:created>
  <dc:creator>apieniazek</dc:creator>
  <dc:description/>
  <dc:language>en-US</dc:language>
  <cp:lastModifiedBy>Larry Gurley</cp:lastModifiedBy>
  <dcterms:modified xsi:type="dcterms:W3CDTF">2013-04-11T21:13:26Z</dcterms:modified>
  <cp:revision>105</cp:revision>
  <dc:subject/>
  <dc:title>Generation Adequacy Task Force Update to WMS</dc:title>
</cp:coreProperties>
</file>