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F3DB1-22FB-41A7-A775-7F7536A64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D3BFA-3B6E-435B-9FD8-2DA9FEEC8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4E9E2-794C-4518-AAA3-E926C4E3B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66BD8-181C-4625-86E2-ABB1318CA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2013B-78FF-417D-A54F-727FE6533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F2402-61F9-48D8-B1F2-0380DFFB2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64B18-8779-4696-818C-8D4822FE2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61E09-C33A-4793-83F7-FD60D5B0C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FC738-89CE-4CC2-9BAE-84C52C2B5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9AA5E-69F4-4AAF-987F-83D45FA1E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A6756-D1DF-4A63-8163-A585DCAB5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F940B-35B2-4139-954E-EA0715DA6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8ADAB-CCBF-4045-8EE1-61E4D1FFC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9A231-30BF-4BE0-8D4A-8FA3A7D3F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E85FF-FB7F-4DE3-A433-7B6537613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DB637-9CBF-4EB9-9F40-B24EAFAFD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DE29D-8B16-45A9-83BA-4329ACF7E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13471-5A0A-4141-81FC-927C67DB5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48ADD-64CC-45CF-847C-E6A50B3C7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68F54-822A-4565-97D2-F9D6C02AA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AE5B6-2D8E-49A0-ACA9-FA6DB5A5F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9213F-47CD-4B8A-A0BC-0C57031D4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F443F-0A25-4D93-B9C5-D104523CA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D5E22-F2A3-4798-8728-13AC31B32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72AF-91E6-4532-A66F-1479BBD48D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DD59-19E7-40F6-AAE3-B49FF2796A8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CWG Update to WMS</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ril 12, 2013</a:t>
            </a:r>
            <a:endParaRPr b="0" lang="en-US" sz="3000" spc="-1" strike="noStrike">
              <a:solidFill>
                <a:srgbClr val="000000"/>
              </a:solidFill>
              <a:latin typeface="Arial"/>
            </a:endParaRPr>
          </a:p>
        </p:txBody>
      </p:sp>
      <p:sp>
        <p:nvSpPr>
          <p:cNvPr id="92" name="Slide Number Placeholder 1"/>
          <p:cNvSpPr/>
          <p:nvPr/>
        </p:nvSpPr>
        <p:spPr>
          <a:xfrm>
            <a:off x="2209680" y="6248520"/>
            <a:ext cx="1219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AE49-5D49-43EC-8987-5383FEEDAF5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eneral Update</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94" name="PlaceHolder 2"/>
          <p:cNvSpPr>
            <a:spLocks noGrp="1"/>
          </p:cNvSpPr>
          <p:nvPr>
            <p:ph/>
          </p:nvPr>
        </p:nvSpPr>
        <p:spPr>
          <a:xfrm>
            <a:off x="1523880" y="1447560"/>
            <a:ext cx="7010640" cy="510516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da Items for Today:</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NPRR 511 changes into the VC Manual (vote)</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Fuel Cost  Solution for Fuel Adder (no vote)</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tem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Providing Capacity – Tabled</a:t>
            </a:r>
            <a:endParaRPr b="0" lang="en-US" sz="1800" spc="-1" strike="noStrike">
              <a:solidFill>
                <a:srgbClr val="000000"/>
              </a:solidFill>
              <a:latin typeface="Arial"/>
            </a:endParaRPr>
          </a:p>
        </p:txBody>
      </p:sp>
      <p:sp>
        <p:nvSpPr>
          <p:cNvPr id="95"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4068-E851-4E1A-ABD7-B052DBC9C0B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RR 511 and QSGR MOC </a:t>
            </a:r>
            <a:endParaRPr b="0" lang="en-US" sz="4400" spc="-1" strike="noStrike">
              <a:solidFill>
                <a:srgbClr val="000000"/>
              </a:solidFill>
              <a:latin typeface="Arial"/>
            </a:endParaRPr>
          </a:p>
        </p:txBody>
      </p:sp>
      <p:sp>
        <p:nvSpPr>
          <p:cNvPr id="97" name="PlaceHolder 2"/>
          <p:cNvSpPr>
            <a:spLocks noGrp="1"/>
          </p:cNvSpPr>
          <p:nvPr>
            <p:ph/>
          </p:nvPr>
        </p:nvSpPr>
        <p:spPr>
          <a:xfrm>
            <a:off x="914040" y="1752120"/>
            <a:ext cx="7620120" cy="4876920"/>
          </a:xfrm>
          <a:prstGeom prst="rect">
            <a:avLst/>
          </a:prstGeom>
          <a:noFill/>
          <a:ln w="0">
            <a:noFill/>
          </a:ln>
        </p:spPr>
        <p:txBody>
          <a:bodyPr anchor="t">
            <a:normAutofit/>
          </a:bodyPr>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NPRR 511 is to correct language inserted in Section 6.6.9 via NPRR325, Price Correction During SCED Process Failure, so that QSGRs that are given a manual override by an ERCOT operator, do not receive variable O&amp;M or fuel costs for the star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discussion, RCWG recommended that when a QSGR has a status of “ON” (regardless of whether the breaker is closed), and receives a manual override, it will be treated just like any generator with an “ON” status, and will not receive variable O&amp;M or fuel costs related to start up.  It will continue to receive non-start fuel and minimum energy costs.</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rifiable Cost Manual amortizes the variable O&amp;M costs for the QSGR MOC based upon the online time and starts of the units.  RCWG also recommended that the VCM be amended so that online hours and starts due to a QSGR receiving treatment per 6.6.9 paragraph (3) will be included in the amortization and all other hours (override, capacity tests, SCED failure, etc.) will be exclud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F266-0D36-4BD3-B936-2FD718A8737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erational Procedures for non-SCED deployment of QSGR</a:t>
            </a:r>
            <a:endParaRPr b="0" lang="en-US" sz="36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7F99-B168-4BEF-85DC-1702977BE1C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graphicFrame>
        <p:nvGraphicFramePr>
          <p:cNvPr id="102" name=""/>
          <p:cNvGraphicFramePr/>
          <p:nvPr/>
        </p:nvGraphicFramePr>
        <p:xfrm>
          <a:off x="1447920" y="1828800"/>
          <a:ext cx="6705360" cy="4206960"/>
        </p:xfrm>
        <a:graphic>
          <a:graphicData uri="http://schemas.openxmlformats.org/drawingml/2006/table">
            <a:tbl>
              <a:tblPr/>
              <a:tblGrid>
                <a:gridCol w="2133360"/>
                <a:gridCol w="1930680"/>
                <a:gridCol w="2641320"/>
              </a:tblGrid>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vent</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or Actio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rt-Up O&amp;M and Start-Up Fuel Settlement</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Manual Overrid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Change LDL or HDL</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None, not counted towards amortizatio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RUC</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Unit Commitment</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Offline units only.  Use RUC make-whole settlement</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Non-Spin Deployment</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SCED dispatched</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Normal settlement.  No additional make-whol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ec"/>
                    </a:solidFill>
                  </a:tcPr>
                </a:tc>
              </a:tr>
              <a:tr h="824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Offline (not operating as QSGR) Non-Spin Deployment</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Manual dispatch</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None, not counted towards amortizatio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Other (e.g., capacity test, SCED failur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System wide dispatch</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None, not counted towards amortizatio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220680"/>
            <a:ext cx="777240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Long Term Fuel Cost  Solution for Fuel Adder </a:t>
            </a:r>
            <a:endParaRPr b="0" lang="en-US" sz="4400" spc="-1" strike="noStrike">
              <a:solidFill>
                <a:srgbClr val="000000"/>
              </a:solidFill>
              <a:latin typeface="Arial"/>
            </a:endParaRPr>
          </a:p>
        </p:txBody>
      </p:sp>
      <p:sp>
        <p:nvSpPr>
          <p:cNvPr id="104" name="PlaceHolder 2"/>
          <p:cNvSpPr>
            <a:spLocks noGrp="1"/>
          </p:cNvSpPr>
          <p:nvPr>
            <p:ph/>
          </p:nvPr>
        </p:nvSpPr>
        <p:spPr>
          <a:xfrm>
            <a:off x="304920" y="1980720"/>
            <a:ext cx="8153280" cy="3048120"/>
          </a:xfrm>
          <a:prstGeom prst="rect">
            <a:avLst/>
          </a:prstGeom>
          <a:noFill/>
          <a:ln w="0">
            <a:noFill/>
          </a:ln>
        </p:spPr>
        <p:txBody>
          <a:bodyPr anchor="t">
            <a:normAutofit/>
          </a:bodyPr>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uggling with an affordable solution that would allow Generators to provide fuel cost individually.</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will be a presentation at our next meeting to explore inserting a fuel factor into the VOX.</a:t>
            </a:r>
            <a:endParaRPr b="0" lang="en-US" sz="1800" spc="-1" strike="noStrike">
              <a:solidFill>
                <a:srgbClr val="000000"/>
              </a:solidFill>
              <a:latin typeface="Arial"/>
            </a:endParaRPr>
          </a:p>
          <a:p>
            <a:pPr lvl="1" marL="743040" indent="-28584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fferent technologies have different fuel factors?</a:t>
            </a:r>
            <a:endParaRPr b="0" lang="en-US" sz="1600" spc="-1" strike="noStrike">
              <a:solidFill>
                <a:srgbClr val="000000"/>
              </a:solidFill>
              <a:latin typeface="Arial"/>
            </a:endParaRPr>
          </a:p>
          <a:p>
            <a:pPr lvl="1" marL="743040" indent="-28584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uel factors changed by month?</a:t>
            </a:r>
            <a:endParaRPr b="0" lang="en-US" sz="1600" spc="-1" strike="noStrike">
              <a:solidFill>
                <a:srgbClr val="000000"/>
              </a:solidFill>
              <a:latin typeface="Arial"/>
            </a:endParaRPr>
          </a:p>
          <a:p>
            <a:pPr lvl="1" marL="743040" indent="-28584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ther?</a:t>
            </a:r>
            <a:endParaRPr b="0" lang="en-US" sz="16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3024-52BC-492F-94B5-D1128373F08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20:14:57Z</dcterms:created>
  <dc:creator>jbevill</dc:creator>
  <dc:description/>
  <dc:language>en-US</dc:language>
  <cp:lastModifiedBy>Shaw, Pamela</cp:lastModifiedBy>
  <dcterms:modified xsi:type="dcterms:W3CDTF">2013-04-11T18:11:19Z</dcterms:modified>
  <cp:revision>113</cp:revision>
  <dc:subject/>
  <dc:title>Slide 1</dc:title>
</cp:coreProperties>
</file>