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014-7805-4439-8C3D-29DB59663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5F50-AC43-4FA6-BD07-BE864E007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2B3-F7F3-4F21-8948-9AEE3213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FD5-5348-4043-B0D1-0E0B7691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3F7-1F0B-4EE4-BF8F-F8E4A2E8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C39-2A34-4C51-9043-EA8EEAE4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380F-CEF4-4E9B-AC0E-A1AE1D9A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293A-F708-4871-AEA5-CAB81FE5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754D-16AC-4D86-8EBF-0CE738EA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5ECD-06D3-402B-B11D-E436DA38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E86C-6152-44FC-BBC6-05EBF87F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9DCD-478C-413C-B9C6-1A47BEBE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34E2-FA37-468B-9F88-701875E0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0BD-1135-46EF-82F9-43079E56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FBCA-B084-4176-A080-EFE3EF0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7798-3CCB-47EC-97FF-8A8491D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29FC-DEA7-4E89-89D5-C78E3E65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28CA-07E8-481F-9F9B-CD92D8EC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9752-6935-46AF-A469-CEFE5965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F79-1FBD-42EC-9270-FB6CD0D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850-1CF3-4A1B-A056-94884995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89E-8FD5-40C7-B81A-D3A00BFF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931-80A4-45EB-99E0-8DB25CC6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295-594D-4648-9FE8-D71D3EE7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7F9-02D8-418C-BC4E-A889EC2A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A97-BE46-4BB2-B187-906B1A40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7D2-0157-4C5A-9C05-AF7C2D9456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E27A-F5B7-438E-9FE9-045FEBFA9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9512-F48D-4474-AF27-B6070250C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0457-5F97-4F1D-8FF0-58A95FCC9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/12/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67C7-E258-48E2-9557-4E353A120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2" descr=""/>
          <p:cNvPicPr/>
          <p:nvPr/>
        </p:nvPicPr>
        <p:blipFill>
          <a:blip r:embed="rId1"/>
          <a:stretch/>
        </p:blipFill>
        <p:spPr>
          <a:xfrm>
            <a:off x="371520" y="1547640"/>
            <a:ext cx="8364600" cy="726156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3"/>
          <p:cNvSpPr/>
          <p:nvPr/>
        </p:nvSpPr>
        <p:spPr>
          <a:xfrm>
            <a:off x="7010280" y="668988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628E-43E1-47F4-85D4-3D6208E6F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B0DF-923C-4A67-B9EF-84054A0B3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840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2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664380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3"/>
          <p:cNvSpPr/>
          <p:nvPr/>
        </p:nvSpPr>
        <p:spPr>
          <a:xfrm>
            <a:off x="7010280" y="668988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23D7-3430-4E2A-9A03-B22ADC93B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9:19:22Z</dcterms:created>
  <dc:creator>XJSV</dc:creator>
  <dc:description/>
  <dc:language>en-US</dc:language>
  <cp:lastModifiedBy>TrishE</cp:lastModifiedBy>
  <dcterms:modified xsi:type="dcterms:W3CDTF">2013-04-08T15:03:24Z</dcterms:modified>
  <cp:revision>299</cp:revision>
  <dc:subject/>
  <dc:title>MCWG Update to WMS</dc:title>
</cp:coreProperties>
</file>