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A649-E19C-4BBC-8992-2C215A264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1AA0-FADF-40C0-A400-3487D7625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6DB1-7363-48E8-A482-AF83A38D1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7076-04B8-4EDC-A5E2-62FE5E0B9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488F-A074-49F1-BC04-DFFA3702E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DBCC-E829-4BF5-9653-4CC384CA1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57D9-4A55-4F2F-AD7B-AAD9C0DAE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97DF-E5A5-41DD-BEE2-D7CB1E7C1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608E-2D33-485C-BDE9-761C0089E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D661-BA29-4F6C-A393-71419B3F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C8B2-B481-479C-8C12-AFD9433E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632C-AD46-4C4E-8FC5-3E04D6DD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1B9C-CAF9-4766-A6C4-42DF7E7F70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odal.ercot.com/readiness/rq/documents/index.htm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 Change Process Task Force (DCPTF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Update to R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pril 11, 20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RF – Data 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 of data elements through Resource Registration Glossa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lude certain descriptive elements in Glossary (e.g. Required, Optional, Conditional) that may inform the Validation Ru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ject to review as noted belo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5943600" y="54100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RARF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8458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RF – Data 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ew, modified or deleted data elemen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yone wanting to make a change would submit the change request form (to be developed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m to be posted with the RARF docu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RCOT shall provide an initial review of the request, as soon as practicabl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RCOT shall post any proposed changes to required data elements on the ERCOT MIS Public Area and provide notification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tification via ema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OS can consider at its next meeting any proposed revision to the Glossary but cannot recommend approval or rejection until after the 30 day market review perio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posed changes to the required data elements included in the Resource Registration Glossary shall be subject to review by ROS and approval by the Technical Advisory Committee (TA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RF – Data Re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RF remains binding document under ERCOT contr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nguage added to say RARF data will be consistent with Glossary – no data elements will be in the RARF that are not in the Glossa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former test data, dynamic data and models, reactive capability curves and one-line diagrams need to be added (and any other missing elemen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ource Asset Registration Guide remains under ERCOT control (not a binding documen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siness Validation Rul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 a binding document, controlled by ERCOT, but incorporating descriptive elements, as noted above (bullet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8T19:08:02Z</dcterms:created>
  <dc:creator>Brenda Hampton</dc:creator>
  <dc:description/>
  <dc:language>en-US</dc:language>
  <cp:lastModifiedBy>Brenda Hampton</cp:lastModifiedBy>
  <dcterms:modified xsi:type="dcterms:W3CDTF">2013-03-28T19:39:07Z</dcterms:modified>
  <cp:revision>4</cp:revision>
  <dc:subject/>
  <dc:title>Data Change Process Task Force (DCPTF)</dc:title>
</cp:coreProperties>
</file>