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C943-2B5C-4C54-8938-2E9B53B8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403A7-BBFA-48B0-9685-0FA39087E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02252-6149-4642-B03C-D6B09EC8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4F59-0D4E-4EBA-A560-7F666CC7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BFF7E-B9C9-49E0-A144-84AF58E9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B00B3-ED4F-48FF-B513-C5E1D39F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F9ABA-8041-4811-98A0-9A2FEE1E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41D6F-F4AF-4280-86A2-17AAED2F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5CE20-0123-4D3A-A1DE-B05E24FB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7C3CB-AA38-4CA1-9587-05B0A898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282F7-29C6-407A-8708-8C5D89BF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9D92E-C2B3-4CE0-AE19-A4BB3E94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12B8-B4AF-43DE-9917-7B2E8C8B36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Arial"/>
              </a:rPr>
              <a:t>OPSTF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dcb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dcb7"/>
                </a:solidFill>
                <a:latin typeface="Arial"/>
              </a:rPr>
              <a:t>May 30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43000" y="3733560"/>
            <a:ext cx="6858000" cy="81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e8d8c"/>
                </a:solidFill>
                <a:latin typeface="Calibri"/>
              </a:rPr>
              <a:t>Appropriate Ratings</a:t>
            </a:r>
            <a:endParaRPr b="0" lang="en-US" sz="54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e8d8c"/>
                </a:solidFill>
                <a:latin typeface="Calibri"/>
              </a:rPr>
              <a:t>          </a:t>
            </a:r>
            <a:r>
              <a:rPr b="0" lang="en-US" sz="4000" spc="-1" strike="noStrike">
                <a:solidFill>
                  <a:srgbClr val="8e8d8c"/>
                </a:solidFill>
                <a:latin typeface="Calibri"/>
              </a:rPr>
              <a:t>April 11, 2013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945720" y="1577880"/>
            <a:ext cx="5912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75e47"/>
                </a:solidFill>
                <a:latin typeface="Arial"/>
              </a:rPr>
              <a:t>OPSTF – Issue</a:t>
            </a:r>
            <a:endParaRPr b="0" lang="en-US" sz="66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List of Issues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3(e) Ensure 5-yr Plan project completion is timel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4(a) Ensure Load Forecast and Ratings consistenc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4(c) Make planning more conservative by using normal ratings for select contingencie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8(c) Generator unit unavailabilit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5e47"/>
                </a:solidFill>
                <a:latin typeface="Cambria"/>
              </a:rPr>
              <a:t>Contributing Factors</a:t>
            </a:r>
            <a:endParaRPr b="0" lang="en-US" sz="44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. Construction delays could lead to overloads in real time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2. Planners may miss overloads that occur in operations when multiple generating units are out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3. Operators use dynamic ratings to lower facility ratings during extremely hot weather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4. Load forecasts used in planning may be less than load levels seen during real time operation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5. Planning analysis assumes all facilities are in-service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6. Actual resource dispatch is different from that modeled in planning cases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7. Outages (forced &amp; planned) are generally unknown when planning studies are performed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ERCOT Study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 Sept. 2012 screening study on the 2015 SP case ran credible single contingencies (G-1+N-1 &amp; A-1+N-1 excluded)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acility loading levels above 90% &amp; 95% identifi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sults reviewed by OPSTF w/ six TSPs providing written responses: AEN, BEPC, CNP, LCRA, ONCOR, STEC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PSTF concluded 90% too conservative (and 97% ineffective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he six TSP responses indicate the effect for using 95% will be to accelerate improvements by 1 to 2 yea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Expected Benefits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	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etter aligns Planning w/ RT Operational condi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duces impact of long term equipment outag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arlier construction start should ease outage schedul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duces the need for planned load shed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ving more capacity sooner will increase grid Reliabil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Will likely reduce congestion while improving the use of available generation capac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Recommendatio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0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PSTF Recommendati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0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04040">
              <a:spcBef>
                <a:spcPts val="601"/>
              </a:spcBef>
              <a:buClr>
                <a:srgbClr val="a9a5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quire transmission facility loading level thresholds be set at 95 percent of facility rat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0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04040">
              <a:spcBef>
                <a:spcPts val="601"/>
              </a:spcBef>
              <a:buClr>
                <a:srgbClr val="a9a5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fer the proposal to the PLWG to develop a Revision   Request to change the ERCOT Planning Criteria with a time-sufficient implementation schedu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0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04040">
              <a:spcBef>
                <a:spcPts val="601"/>
              </a:spcBef>
              <a:buClr>
                <a:srgbClr val="a9a5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LWG to also address whether any exceptions are appropriat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04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04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104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0:31:22Z</dcterms:created>
  <dc:creator>Shirley Mathew</dc:creator>
  <dc:description/>
  <dc:language>en-US</dc:language>
  <cp:lastModifiedBy>armke</cp:lastModifiedBy>
  <dcterms:modified xsi:type="dcterms:W3CDTF">2013-04-09T21:23:32Z</dcterms:modified>
  <cp:revision>115</cp:revision>
  <dc:subject/>
  <dc:title>OPSTF – Issue 7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E3FE5EC54BBAC24F84CC05CD277A4F8C</vt:lpwstr>
  </property>
  <property fmtid="{D5CDD505-2E9C-101B-9397-08002B2CF9AE}" pid="3" name="Vault">
    <vt:lpwstr>0</vt:lpwstr>
  </property>
</Properties>
</file>