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CE0C-6161-4D75-B050-54AE4518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64D0-7534-47A6-A7DC-92207E7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6477-CCB1-450C-ADFD-8F811DB3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3048-A288-48E4-A01C-849F0AFF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EC0F-94B9-4180-801A-05A5D63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C69E-9069-4DD0-95ED-A081A16A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5BD8-C0BC-41CF-BFB6-000B43A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D639-707D-4213-A916-21A38242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F87D-7BF1-49D0-8158-8EC12C5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D09C-1D6A-4CB1-BFBD-065C47A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65F5-0F1E-4C53-9299-F4626AC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5636-4098-4943-9FBD-163EBE2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250A-80DB-4518-8039-86194F148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96A-9B0F-40B0-84A6-52F5A5E9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MARCH 201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03/07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Lee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 FROM COPS TO TAC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f0"/>
                </a:solidFill>
                <a:uFillTx/>
                <a:latin typeface="Arial"/>
              </a:rPr>
              <a:t>LPGRR04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AMS ESI IDs in the Annual Validatio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eds to be tabled at TAC to wait for NPRR 504 to be approved by the Board at their March mee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of 2013 Lead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ika Basaran, Austin Energy,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Lee, Direct Energy,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AJOR DISCUSSION  ITEM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Data Transparency- Service Level Agre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2013 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 System Upgrad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14 target date for the data aggregation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 2014 target date for the settlement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 Responding Regulation Service (FRRS) Pilot Upda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Operating Day February 25, 2013, ERCOT will begin settling FR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RS will be settled using existing SASM settlements formulas and will appear on Initial Sett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ASM Code of “SASMFRRS” will be used for each operating day that QSEs providing FRRS have been awar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AS prices for Reg Up and Reg Down will be used to price the FRRS a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s for Non Spin and Responsive will be zero for the SASMFR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 SASM code will allow the market to track the cost of FRRS separate from Ancillary Services awarded through regular SA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SWG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ed 2013 Leadersh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m Galvin, Luminant, 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ddie Lookadoo, NRG, Vice 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509 Reduced RTM Settlement Tim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ill provide a transition plan with specific 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ing MarkeTrack and Wholesale dispute tim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WG and MTTF jointly met to discuss how to approach the discrepancy between load disputes’ resolution time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hite paper will be developed to define issues and offer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520 Real-Time Mitigation Rules and Creation of a Real-Time Constraint Competitiveness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ould 6.6.9 Emergency Energy Settlement continue to cap payments for all resources at MOC or only those resources who were actually mitigated by SCED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 automated process may be needed for ERCOT to FLAG the instances where units would be mitigated.  May need NPPR and/or system ch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WG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ed 2013 Leadersh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 Echols, ONCOR,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Lee, Direct Energy,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requirement-Review Annual UFE Analysis-due 4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 ID Annual validation –Res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 ID Annual validation –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members would like to share their appreciation for 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Arial"/>
              </a:rPr>
              <a:t>Ernie Podra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Direct Energy who has done an excellent job for many years leading the PWG. Thank you Ern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COM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MGRRs to align COPS Market Guide with NPRRs 347 and 5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MGRR034 Updates to the Market Notice Commun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MGRR035 Synchronization of NPRR347 and NPRR5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Leadership recruitment , set agenda &amp; meeting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APRIL 9, 2013 TU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03-05T17:18:55Z</dcterms:modified>
  <cp:revision>527</cp:revision>
  <dc:subject/>
  <dc:title>Instructions</dc:title>
</cp:coreProperties>
</file>