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4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5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2841-F807-48F5-8705-A5DD5339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60E5-5FEE-4424-9091-A3F7637B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3"/>
          <p:cNvGrpSpPr/>
          <p:nvPr/>
        </p:nvGrpSpPr>
        <p:grpSpPr>
          <a:xfrm>
            <a:off x="0" y="6394320"/>
            <a:ext cx="9144000" cy="457200"/>
            <a:chOff x="0" y="6394320"/>
            <a:chExt cx="9144000" cy="457200"/>
          </a:xfrm>
        </p:grpSpPr>
        <p:sp>
          <p:nvSpPr>
            <p:cNvPr id="5" name="Rectangle 7"/>
            <p:cNvSpPr/>
            <p:nvPr/>
          </p:nvSpPr>
          <p:spPr>
            <a:xfrm>
              <a:off x="0" y="6394320"/>
              <a:ext cx="9144000" cy="457200"/>
            </a:xfrm>
            <a:prstGeom prst="rect">
              <a:avLst/>
            </a:prstGeom>
            <a:solidFill>
              <a:srgbClr val="ece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18"/>
            <p:cNvGrpSpPr/>
            <p:nvPr/>
          </p:nvGrpSpPr>
          <p:grpSpPr>
            <a:xfrm>
              <a:off x="0" y="6476760"/>
              <a:ext cx="2870280" cy="306360"/>
              <a:chOff x="0" y="6476760"/>
              <a:chExt cx="2870280" cy="306360"/>
            </a:xfrm>
          </p:grpSpPr>
          <p:grpSp>
            <p:nvGrpSpPr>
              <p:cNvPr id="7" name="Group 12"/>
              <p:cNvGrpSpPr/>
              <p:nvPr/>
            </p:nvGrpSpPr>
            <p:grpSpPr>
              <a:xfrm>
                <a:off x="0" y="6476760"/>
                <a:ext cx="592200" cy="306360"/>
                <a:chOff x="0" y="6476760"/>
                <a:chExt cx="592200" cy="306360"/>
              </a:xfrm>
            </p:grpSpPr>
            <p:pic>
              <p:nvPicPr>
                <p:cNvPr id="8" name="Picture 8" descr="logo_C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476760"/>
                  <a:ext cx="546480" cy="30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Line 11"/>
                <p:cNvSpPr/>
                <p:nvPr/>
              </p:nvSpPr>
              <p:spPr>
                <a:xfrm>
                  <a:off x="592200" y="652752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Text Box 15"/>
              <p:cNvSpPr/>
              <p:nvPr/>
            </p:nvSpPr>
            <p:spPr>
              <a:xfrm>
                <a:off x="601560" y="6519600"/>
                <a:ext cx="226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LS Offer Selec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Text Box 15"/>
            <p:cNvSpPr/>
            <p:nvPr/>
          </p:nvSpPr>
          <p:spPr>
            <a:xfrm>
              <a:off x="7543800" y="6519600"/>
              <a:ext cx="150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nuary 12, 2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Text Box 15"/>
            <p:cNvSpPr/>
            <p:nvPr/>
          </p:nvSpPr>
          <p:spPr>
            <a:xfrm>
              <a:off x="4419720" y="652752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A4A5277-632D-410E-A848-02458EC8A5B6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6"/>
          <p:cNvGrpSpPr/>
          <p:nvPr/>
        </p:nvGrpSpPr>
        <p:grpSpPr>
          <a:xfrm>
            <a:off x="0" y="6394320"/>
            <a:ext cx="9144000" cy="457200"/>
            <a:chOff x="0" y="6394320"/>
            <a:chExt cx="9144000" cy="457200"/>
          </a:xfrm>
        </p:grpSpPr>
        <p:sp>
          <p:nvSpPr>
            <p:cNvPr id="93" name="Rectangle 7"/>
            <p:cNvSpPr/>
            <p:nvPr/>
          </p:nvSpPr>
          <p:spPr>
            <a:xfrm>
              <a:off x="0" y="6394320"/>
              <a:ext cx="9144000" cy="457200"/>
            </a:xfrm>
            <a:prstGeom prst="rect">
              <a:avLst/>
            </a:prstGeom>
            <a:solidFill>
              <a:srgbClr val="ece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2"/>
            <p:cNvGrpSpPr/>
            <p:nvPr/>
          </p:nvGrpSpPr>
          <p:grpSpPr>
            <a:xfrm>
              <a:off x="0" y="6476760"/>
              <a:ext cx="591840" cy="306360"/>
              <a:chOff x="0" y="6476760"/>
              <a:chExt cx="591840" cy="306360"/>
            </a:xfrm>
          </p:grpSpPr>
          <p:pic>
            <p:nvPicPr>
              <p:cNvPr id="95" name="Picture 8" descr="logo_C"/>
              <p:cNvPicPr/>
              <p:nvPr/>
            </p:nvPicPr>
            <p:blipFill>
              <a:blip r:embed="rId2"/>
              <a:stretch/>
            </p:blipFill>
            <p:spPr>
              <a:xfrm>
                <a:off x="0" y="6476760"/>
                <a:ext cx="546120" cy="3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ine 11"/>
              <p:cNvSpPr/>
              <p:nvPr/>
            </p:nvSpPr>
            <p:spPr>
              <a:xfrm>
                <a:off x="591840" y="652752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5"/>
            <p:cNvSpPr/>
            <p:nvPr/>
          </p:nvSpPr>
          <p:spPr>
            <a:xfrm>
              <a:off x="4419720" y="652752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DEF23C7-CD79-4914-9B4D-88B0695BCE1B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5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2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ther Sensitive ERS 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mailto:mpatterson@erco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495520"/>
            <a:ext cx="728676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eather-Sensitive ERS Pilot Project Propos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2333520" y="4876920"/>
            <a:ext cx="61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h 7, 2013 TA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Staff worked with DSWG stakeholders throughout 2012 to identify ways to make ERS friendlier to weather-sensitive Lo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 505 is the result of those discu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abled indefinitely at PRS in favor of the Weather-Sensitive ERS Pilot Projec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, 2013 – ERCOT Staff presented draft of Governing Document for Weather-Sensitive ERS Pilot Project to interested stakeholders requesting com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ing Document will be updated to address some of those com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d objectives for requesting Weather-Sensitive ERS Pilot Project 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the ability of Weather-Sensitive Loads to provide dispatchable demand response during summer system condition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the accuracy of Qualified Scheduling Entity (QSE) projections of demand response capabilities and Load growth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deployment impacts on end-use customer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any unforeseen challenges in procuring, deploying and evaluating the performance of Weather-Sensitive Loa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rpo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ey Aspects for Pilot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7617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lot Timelin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through September 2013 ERS Contrac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eligible to participate: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ad must consist exclusively of residential sites and must qualify for performance evaluation under either the regression baseline methodology or the control group baseline methodology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ad must consist exclusively of non-residential sites and must qualify as Weather-Sensitive under the regression baseline evaluation method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E participating in pilot must agree to participate in a post pilot surv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Offer size – 100 K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ey Aspects for Pilot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um pilot size of 30 MW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 for June through September 2013 pilot project term, BH2, BH3, and Weekend/Holiday Peak Time Period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ekend/Holiday Peak Time Period - 1 p.m. to 8 p.m. on Saturdays, Sundays, and Holi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for Weather-Sensitive ERS Pilot will be considered as a separate offer stack from both 10-Minute ERS and 30-Minute ERS Pilot o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asonableness of offers cri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may be submitted for BH2, BH3 and the Weekend/Holiday Peak Time Perio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ayment structure does not set any precedent for future contract periods for Weather-Sensitive 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ey Aspects for Pilot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ment instru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H2 and BH3 deployments use both XML and V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end/Holiday Peak use VDI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modify operator dispatch instruction to explicitly state Weather-Sensitive ERS in the i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-Minute Ramp period app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remain deployed until recalled by ERCOT, but no single deployment will last longer than 3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to two unannounced tests per month unless deployed during EEA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s and charges associated with Weather-Sensitive ERS Pilot Project will be separate from other ERS charges on Settlements Stat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d cost of Pilot - $34,160 to $86,6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additional ERCOT personnel impacts for pil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ment cost will be managed under the $50 million annual cap for 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"/>
          <p:cNvGrpSpPr/>
          <p:nvPr/>
        </p:nvGrpSpPr>
        <p:grpSpPr>
          <a:xfrm>
            <a:off x="3733920" y="2119320"/>
            <a:ext cx="1447560" cy="2452680"/>
            <a:chOff x="3733920" y="2119320"/>
            <a:chExt cx="1447560" cy="2452680"/>
          </a:xfrm>
        </p:grpSpPr>
        <p:pic>
          <p:nvPicPr>
            <p:cNvPr id="201" name="Picture 4" descr="MCj03403080000[1]"/>
            <p:cNvPicPr/>
            <p:nvPr/>
          </p:nvPicPr>
          <p:blipFill>
            <a:blip r:embed="rId1"/>
            <a:stretch/>
          </p:blipFill>
          <p:spPr>
            <a:xfrm>
              <a:off x="3733920" y="2119320"/>
              <a:ext cx="144756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5"/>
            <p:cNvSpPr/>
            <p:nvPr/>
          </p:nvSpPr>
          <p:spPr>
            <a:xfrm>
              <a:off x="4273560" y="2462760"/>
              <a:ext cx="588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4273560" y="3837240"/>
              <a:ext cx="588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609480" y="5526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patterson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/248-3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rcuch, Chelsea</dc:creator>
  <dc:description>Updated:8/29/2011</dc:description>
  <dc:language>en-US</dc:language>
  <cp:lastModifiedBy>TGarza</cp:lastModifiedBy>
  <dcterms:modified xsi:type="dcterms:W3CDTF">2013-03-06T20:41:08Z</dcterms:modified>
  <cp:revision>673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d">
    <vt:filetime>2011-06-14T05:00:00Z</vt:filetime>
  </property>
</Properties>
</file>