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EF35-DE52-4EC9-987F-D8DBB612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9B60-C8D4-476A-AD42-5D15B1CE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0D3E-B6EB-40D6-AB47-C95FA43F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AF1D-A79B-4973-9BC0-208D39F2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4CB1-6D52-4B04-AEE1-70F8C694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05D6-0121-4D5B-A027-EEA833C2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6348-39F2-44AF-BD3C-0DF68F36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924B-986D-48AC-B875-03EE14AC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B338-369E-401C-A44B-AFC717D5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0FED-C4B2-4F09-9136-837D7F4B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D623-1BCA-4975-8B61-EA8C2D1F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9D9D-500A-4553-A2DE-8FFEBCBA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EACB-26E7-49CD-A3BE-A0554F311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36EA-F7A8-4734-85A9-CC4AF9C17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7,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7975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Protocol Revision Subcommittee (P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bfbfb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Arial"/>
              </a:rPr>
              <a:t>Chair: Tom Burke, Brazos Electric Power Co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bfbfb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Arial"/>
              </a:rPr>
              <a:t>Vice Chair: John Varnell, Tenaska Power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Retail Market Subcommittee (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bfbfb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Arial"/>
              </a:rPr>
              <a:t>Chair: Rob Bevill, Green Mountain Energy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bfbfb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Arial"/>
              </a:rPr>
              <a:t>Vice Chair: Kathy Scott, CenterPoint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Reliability and Operations Subcommittee (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bfbfb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Arial"/>
              </a:rPr>
              <a:t>Chair: Harry Holloway, GDF Suez Energy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bfbfb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Arial"/>
              </a:rPr>
              <a:t>Vice Chair: Bill Hatfield, Lower Colorado River Auth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Wholesale Market Subcommittee (W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bfbfb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Arial"/>
              </a:rPr>
              <a:t>Chair: Seth Cochran, DC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bfbfb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Arial"/>
              </a:rPr>
              <a:t>Vice Chair: Sandra Morris, Direct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rcial Operations Subcommittee (CO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Harika Basaran, Austi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Jim Lee, Direct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94200" y="15228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3 TAC Subcommittee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lbracht</cp:lastModifiedBy>
  <dcterms:modified xsi:type="dcterms:W3CDTF">2013-02-28T18:42:04Z</dcterms:modified>
  <cp:revision>73</cp:revision>
  <dc:subject/>
  <dc:title>Instructions</dc:title>
</cp:coreProperties>
</file>