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F6D9-7FA7-4E79-9E01-A7A650AEA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BC3B-977E-44F7-B814-D8175C0CF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99DE-A048-43BB-A0CA-4F6C246CA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4BAF-2E73-4843-BAB2-ADFC02786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92F0-CC43-43C0-BADE-3440F82B7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06A0-DE91-4EBF-9A77-20FE5B6C9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6DD9-36EA-44BB-84CF-AFD8B5FAD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FE34-D0BF-417F-8798-119D92376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59C7-8DDD-429C-B8B1-8B274EE43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41DE-5E0B-4D40-A026-A1B523F9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D980-1AEC-4FE3-9F8F-8B138CD5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3565-1FED-4DD5-BE27-4F0317B4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83EC2-DCCD-497C-9859-1C8F6B3367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liability and Operations Subcommitte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port to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echnical Advisory Committe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5716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bruary - 20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990360" y="160020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Response to TAC Assignment Re. NPRR461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ROS Recommendation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recommend the Wholesale Storage Load (WSL) definition remain in the Protocols and that it retain the eligible technologies clarity requested by ERCOT, and for ETWG to proceed with redefining WSL-eligible technologies by criteria, with a list for illustrative purpos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ote was unanimou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liability and Operations Subcommitt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liability and Operations Subcommitt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14300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animous Recommendations for Approv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NOGRR107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turbance Monitoring Requirements Clarification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CR773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ition of Regulation Feedback to Generation to be Dispatched Calcul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liability and Operations Subcommitt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066680" y="160020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ommendations for  Approva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h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hree abstentions from th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ndependent Generator Market Seg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NOGRR108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SE and TSP Hotline Responsibiliti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liability and Operations Subcommitt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066680" y="160020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ommendations for  Approva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h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hree opposing votes from the Independent Generator Market Segment and two abstentions from the Independent Retail Electric Provider (IREP) Market Seg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GRR025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ition of Criteria for Autotransformer Unavailabili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3T16:48:56Z</dcterms:created>
  <dc:creator>bawilliams</dc:creator>
  <dc:description/>
  <dc:language>en-US</dc:language>
  <cp:lastModifiedBy>albracht</cp:lastModifiedBy>
  <dcterms:modified xsi:type="dcterms:W3CDTF">2013-03-06T20:48:03Z</dcterms:modified>
  <cp:revision>107</cp:revision>
  <dc:subject/>
  <dc:title>Reliability and Operations Subcommittee Report</dc:title>
</cp:coreProperties>
</file>