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487C8-397F-453B-AEA4-DC091C980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8EA32-CB78-4258-AD44-232508F03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CB5F8-1CEB-4542-BA10-B150BE71E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87142-BAF8-4101-96D9-24C29CDA99D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AA8F-052A-4D48-BEEC-CF866132A79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8FD69-4E8B-4969-9CA1-7C939987433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5CC68-093A-4237-8CAD-30298A4D7BD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F6EC-515F-4556-8511-200DEC9C5D1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A5AC3F1-F7B1-4D65-A418-C839428BB2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8447483-71FD-42F5-8EC7-E3AAFEE5D8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8058E20-C2F6-4D65-A58F-2304446E9A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7D94C0C-3F85-4BB9-95EA-F49B804694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433B053-048F-496A-88CB-908C4C6A96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3DA6180-4C8A-4F5B-9F82-AB9C7E5952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C5C38A1-0359-4466-A747-8B6355F6F1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A41DD88-0315-466C-BC8C-E5CC9BD59F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DE868A1-4DA5-404E-B968-5E392774A0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F43CFC6-0346-4CA8-A201-60F016C627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5674B1E-03DA-4D03-9CD2-22788B5CDE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04414B2-BF05-4125-8A3F-8A8ED09124C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F2328-47E2-4B6C-AD11-6FED703EC6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5, 2010</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3CEE6-3C64-4939-8BE0-41CC8BC455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5, 2010</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tocol Revision Subcommittee</a:t>
            </a:r>
            <a:endParaRPr b="0" lang="en-US" sz="2800" spc="-1" strike="noStrike">
              <a:solidFill>
                <a:srgbClr val="000000"/>
              </a:solidFill>
              <a:latin typeface="Arial Black"/>
            </a:endParaRPr>
          </a:p>
        </p:txBody>
      </p:sp>
      <p:sp>
        <p:nvSpPr>
          <p:cNvPr id="94"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om Burke</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ebruary 7, 2013</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304920" y="0"/>
            <a:ext cx="822960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ummary of Revision Requests</a:t>
            </a:r>
            <a:endParaRPr b="0" lang="en-US" sz="2000" spc="-1" strike="noStrike">
              <a:solidFill>
                <a:srgbClr val="000000"/>
              </a:solidFill>
              <a:latin typeface="Arial"/>
            </a:endParaRPr>
          </a:p>
        </p:txBody>
      </p:sp>
      <p:sp>
        <p:nvSpPr>
          <p:cNvPr id="96" name="Rectangle 3"/>
          <p:cNvSpPr/>
          <p:nvPr/>
        </p:nvSpPr>
        <p:spPr>
          <a:xfrm>
            <a:off x="304920" y="990720"/>
            <a:ext cx="8153280" cy="56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NPRRs Recommended for Approv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NPRR Rejec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tems for a Vote</a:t>
            </a:r>
            <a:endParaRPr b="0" lang="en-US" sz="2000" spc="-1" strike="noStrike">
              <a:solidFill>
                <a:srgbClr val="000000"/>
              </a:solidFill>
              <a:latin typeface="Arial Black"/>
            </a:endParaRPr>
          </a:p>
        </p:txBody>
      </p:sp>
      <p:sp>
        <p:nvSpPr>
          <p:cNvPr id="98" name="PlaceHolder 2"/>
          <p:cNvSpPr>
            <a:spLocks noGrp="1"/>
          </p:cNvSpPr>
          <p:nvPr>
            <p:ph/>
          </p:nvPr>
        </p:nvSpPr>
        <p:spPr>
          <a:xfrm>
            <a:off x="228600" y="838080"/>
            <a:ext cx="8153280" cy="5639040"/>
          </a:xfrm>
          <a:prstGeom prst="rect">
            <a:avLst/>
          </a:prstGeom>
          <a:noFill/>
          <a:ln w="0">
            <a:noFill/>
          </a:ln>
        </p:spPr>
        <p:txBody>
          <a:bodyPr anchor="t">
            <a:normAutofit fontScale="70000"/>
          </a:bodyPr>
          <a:p>
            <a:pPr marL="240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Unopposed Recommendations</a:t>
            </a:r>
            <a:endParaRPr b="1" lang="en-US" sz="1800" spc="-1" strike="noStrike">
              <a:solidFill>
                <a:srgbClr val="000000"/>
              </a:solidFill>
              <a:latin typeface="Arial"/>
            </a:endParaRPr>
          </a:p>
          <a:p>
            <a:pPr marL="240120" indent="-240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487, QSGR Dispatch Adjustment – URGENT</a:t>
            </a:r>
            <a:endParaRPr b="1" lang="en-US" sz="1800" spc="-1" strike="noStrike">
              <a:solidFill>
                <a:srgbClr val="000000"/>
              </a:solidFill>
              <a:latin typeface="Arial"/>
            </a:endParaRPr>
          </a:p>
          <a:p>
            <a:pPr marL="240120" indent="-240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502, Addition of Year 6 to the SSWG Base Cases*</a:t>
            </a:r>
            <a:endParaRPr b="1" lang="en-US" sz="1800" spc="-1" strike="noStrike">
              <a:solidFill>
                <a:srgbClr val="000000"/>
              </a:solidFill>
              <a:latin typeface="Arial"/>
            </a:endParaRPr>
          </a:p>
          <a:p>
            <a:pPr marL="240120" indent="-240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504, Removal of Language Related to LPGRR049*</a:t>
            </a:r>
            <a:endParaRPr b="1" lang="en-US" sz="1800" spc="-1" strike="noStrike">
              <a:solidFill>
                <a:srgbClr val="000000"/>
              </a:solidFill>
              <a:latin typeface="Arial"/>
            </a:endParaRPr>
          </a:p>
          <a:p>
            <a:pPr marL="240120" indent="-240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509, Shortened RTM Settlement Timeline – URGENT</a:t>
            </a:r>
            <a:endParaRPr b="1" lang="en-US" sz="1800" spc="-1" strike="noStrike">
              <a:solidFill>
                <a:srgbClr val="000000"/>
              </a:solidFill>
              <a:latin typeface="Arial"/>
            </a:endParaRPr>
          </a:p>
          <a:p>
            <a:pPr marL="240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40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commendation with Opposing Votes</a:t>
            </a:r>
            <a:endParaRPr b="1" lang="en-US" sz="1800" spc="-1" strike="noStrike">
              <a:solidFill>
                <a:srgbClr val="000000"/>
              </a:solidFill>
              <a:latin typeface="Arial"/>
            </a:endParaRPr>
          </a:p>
          <a:p>
            <a:pPr marL="240120" indent="-240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484, Revisions to Congestion Revenue Rights Credit Calculations and Payments</a:t>
            </a:r>
            <a:endParaRPr b="1" lang="en-US" sz="1800" spc="-1" strike="noStrike">
              <a:solidFill>
                <a:srgbClr val="000000"/>
              </a:solidFill>
              <a:latin typeface="Arial"/>
            </a:endParaRPr>
          </a:p>
          <a:p>
            <a:pPr marL="240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40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jected NPRRs</a:t>
            </a:r>
            <a:endParaRPr b="1" lang="en-US" sz="1800" spc="-1" strike="noStrike">
              <a:solidFill>
                <a:srgbClr val="000000"/>
              </a:solidFill>
              <a:latin typeface="Arial"/>
            </a:endParaRPr>
          </a:p>
          <a:p>
            <a:pPr marL="240120" indent="-240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494, Load Resource Proration Report</a:t>
            </a:r>
            <a:endParaRPr b="1" lang="en-US" sz="1800" spc="-1" strike="noStrike">
              <a:solidFill>
                <a:srgbClr val="000000"/>
              </a:solidFill>
              <a:latin typeface="Arial"/>
            </a:endParaRPr>
          </a:p>
          <a:p>
            <a:pPr marL="240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40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40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40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denotes no impacts)</a:t>
            </a:r>
            <a:endParaRPr b="1" lang="en-US" sz="1800" spc="-1" strike="noStrike">
              <a:solidFill>
                <a:srgbClr val="000000"/>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19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19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19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19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0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70c0"/>
                </a:solidFill>
                <a:latin typeface="Arial"/>
              </a:rPr>
              <a:t>	</a:t>
            </a:r>
            <a:endParaRPr b="1" lang="en-US" sz="1600" spc="-1" strike="noStrike">
              <a:solidFill>
                <a:srgbClr val="000000"/>
              </a:solidFill>
              <a:latin typeface="Arial"/>
            </a:endParaRPr>
          </a:p>
          <a:p>
            <a:pPr marL="240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40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949a"/>
                </a:solidFill>
                <a:latin typeface="Arial"/>
              </a:rPr>
              <a:t>	</a:t>
            </a:r>
            <a:endParaRPr b="1" lang="en-US" sz="1600" spc="-1" strike="noStrike">
              <a:solidFill>
                <a:srgbClr val="000000"/>
              </a:solidFill>
              <a:latin typeface="Arial"/>
            </a:endParaRPr>
          </a:p>
          <a:p>
            <a:pPr marL="240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	</a:t>
            </a:r>
            <a:endParaRPr b="1" lang="en-US" sz="1600" spc="-1" strike="noStrike">
              <a:solidFill>
                <a:srgbClr val="000000"/>
              </a:solidFill>
              <a:latin typeface="Arial"/>
            </a:endParaRPr>
          </a:p>
          <a:p>
            <a:pPr marL="240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40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PRR Descriptions</a:t>
            </a:r>
            <a:endParaRPr b="0" lang="en-US" sz="2000" spc="-1" strike="noStrike">
              <a:solidFill>
                <a:srgbClr val="000000"/>
              </a:solidFill>
              <a:latin typeface="Arial Black"/>
            </a:endParaRPr>
          </a:p>
        </p:txBody>
      </p:sp>
      <p:sp>
        <p:nvSpPr>
          <p:cNvPr id="101"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PRRs Recommended for Approval</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484, Revisions to Congestion Revenue Rights Credit Calculations and Payments </a:t>
            </a:r>
            <a:endParaRPr b="0" lang="en-US" sz="2000" spc="-1" strike="noStrike">
              <a:solidFill>
                <a:srgbClr val="000000"/>
              </a:solidFill>
              <a:latin typeface="Arial Black"/>
            </a:endParaRPr>
          </a:p>
        </p:txBody>
      </p:sp>
      <p:graphicFrame>
        <p:nvGraphicFramePr>
          <p:cNvPr id="103" name=""/>
          <p:cNvGraphicFramePr/>
          <p:nvPr/>
        </p:nvGraphicFramePr>
        <p:xfrm>
          <a:off x="228600" y="731880"/>
          <a:ext cx="8763120" cy="5532480"/>
        </p:xfrm>
        <a:graphic>
          <a:graphicData uri="http://schemas.openxmlformats.org/drawingml/2006/table">
            <a:tbl>
              <a:tblPr/>
              <a:tblGrid>
                <a:gridCol w="2397240"/>
                <a:gridCol w="6365880"/>
              </a:tblGrid>
              <a:tr h="9907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mina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replaces the CRR Auction credit calculations with path-specific exposure calculations based on DAM clearing prices over a rolling period and revises the FCE calculations for CRR Account Holders; which results in a modification to the payment schedule for CRR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255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12/13/12, PRS voted to endorse the 10/18/12 PRS Report for NPRR484 as amended by the 12/12/12 ERCOT comments and to request that NPRR484 return to the January 17, 2013 PRS meeting with a final Impact Analysis.  There was one abstention from the Consumer Market Segment.  On 1/17/13, PRS voted to endorse and forward NPRR484 as recommended by PRS in the 12/13/12 PRS Report and as amended by the 1/10/13 ERCOT comments and 1/10/13 Luminant Energy comments; and the preliminary Impact Analysis for NPRR484 to TAC with a recommended priority of 2014 and rank of 895.  There were three opposing votes from the IOU (2) and IREP Market Segment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System Implementation – Priority 2014; Rank 89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50k - $1.2M project cost; ongoing operational impact of 0.6 FTEs in Credit Management requiring 1 new FTE (ongoing O&amp;M cost of $120k - $130k); impacts to CRR, CMM, System Integration, S&amp;B, CDR, and EI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88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path-specific exposure calculations which more appropriately collateralize CRRs; significantly reduce the amount of cash that ERCOT has to hold and manage following prepayment of notional value of CRRs awarded after an annual auction or long-term auction sequence; see 1/10/13 Luminant Energy comme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487, QSGR Dispatch Adjustment – URGENT </a:t>
            </a:r>
            <a:endParaRPr b="0" lang="en-US" sz="2000" spc="-1" strike="noStrike">
              <a:solidFill>
                <a:srgbClr val="000000"/>
              </a:solidFill>
              <a:latin typeface="Arial Black"/>
            </a:endParaRPr>
          </a:p>
        </p:txBody>
      </p:sp>
      <p:graphicFrame>
        <p:nvGraphicFramePr>
          <p:cNvPr id="105" name=""/>
          <p:cNvGraphicFramePr/>
          <p:nvPr/>
        </p:nvGraphicFramePr>
        <p:xfrm>
          <a:off x="228600" y="838080"/>
          <a:ext cx="8763120" cy="5281560"/>
        </p:xfrm>
        <a:graphic>
          <a:graphicData uri="http://schemas.openxmlformats.org/drawingml/2006/table">
            <a:tbl>
              <a:tblPr/>
              <a:tblGrid>
                <a:gridCol w="2397240"/>
                <a:gridCol w="6365880"/>
              </a:tblGrid>
              <a:tr h="10670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umina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allows a QSE to telemeter a zero LSL for a QSGR when physically On-Line and provides exceptions for Base Point Deviation Charges and GREDP violations when operating under those condi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860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0/18/12, PRS unanimously voted to grant NPRR487 Urgent status.  PRS then voted to recommend approval of NPRR487 as submitted and that NPRR487 return to the November 15, 2012 PRS meeting with an Impact Analysis.  There were two abstentions from the Municipal and IOU Market Segments.   On 1/17/13, PRS voted to endorse and forward the 12/13/12 PRS Report as amended by the 1/17/13 Luminant Energy Company LLC comments to TAC.  There were six abstentions from the IOU, IPM (2) and Municipal (3) Market Segment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 determin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 determin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40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cts a current situation where a QSGR can be called upon by SCED to resolve congestion and be Dispatched at a price below its Mitigated Offer Cap; will more accurately determine the actual cost of energy for QSGRs in the R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6" name="Date Placeholder 3"/>
          <p:cNvSpPr/>
          <p:nvPr/>
        </p:nvSpPr>
        <p:spPr>
          <a:xfrm>
            <a:off x="6553080" y="6365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Public</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502, Addition of Year 6 to the SSWG Base Cases </a:t>
            </a:r>
            <a:endParaRPr b="0" lang="en-US" sz="2000" spc="-1" strike="noStrike">
              <a:solidFill>
                <a:srgbClr val="000000"/>
              </a:solidFill>
              <a:latin typeface="Arial Black"/>
            </a:endParaRPr>
          </a:p>
        </p:txBody>
      </p:sp>
      <p:graphicFrame>
        <p:nvGraphicFramePr>
          <p:cNvPr id="108" name=""/>
          <p:cNvGraphicFramePr/>
          <p:nvPr/>
        </p:nvGraphicFramePr>
        <p:xfrm>
          <a:off x="228600" y="838080"/>
          <a:ext cx="8763120" cy="5029200"/>
        </p:xfrm>
        <a:graphic>
          <a:graphicData uri="http://schemas.openxmlformats.org/drawingml/2006/table">
            <a:tbl>
              <a:tblPr/>
              <a:tblGrid>
                <a:gridCol w="2397240"/>
                <a:gridCol w="6365880"/>
              </a:tblGrid>
              <a:tr h="8384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W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adds a sixth year (Year 6) to the SSWG Data Set B base cas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300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2/13/12, PRS unanimously voted to recommend approval of NPRR502 as submitted.  On 1/17/13, PRS voted to endorse and forward the 12/13/12 PRS Report and revised Impact Analysis for NPRR502 to TAC.  There were three abstentions from the Independent Generator and IPM (2) Market Segment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73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1, 2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1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 impacts to Coordination/Model Administration and Transmission Planning which can be absorbed by existing ERCOT Staff as ERCOT anticipates fewer Transmission Project and Information Tracking updates as a result of NPRR which will offset incremental new wor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value as a planning tool to assist in identifying large, long-lead time type projects earlier in the planning horizon; aligns ERCOT process with proposed NERC Reliability Standard TPL-00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504, Removal of Language Related to LPGRR049 </a:t>
            </a:r>
            <a:br>
              <a:rPr sz="2000"/>
            </a:br>
            <a:endParaRPr b="0" lang="en-US" sz="2000" spc="-1" strike="noStrike">
              <a:solidFill>
                <a:srgbClr val="000000"/>
              </a:solidFill>
              <a:latin typeface="Arial Black"/>
            </a:endParaRPr>
          </a:p>
        </p:txBody>
      </p:sp>
      <p:graphicFrame>
        <p:nvGraphicFramePr>
          <p:cNvPr id="110" name=""/>
          <p:cNvGraphicFramePr/>
          <p:nvPr/>
        </p:nvGraphicFramePr>
        <p:xfrm>
          <a:off x="152280" y="752400"/>
          <a:ext cx="8763120" cy="5343480"/>
        </p:xfrm>
        <a:graphic>
          <a:graphicData uri="http://schemas.openxmlformats.org/drawingml/2006/table">
            <a:tbl>
              <a:tblPr/>
              <a:tblGrid>
                <a:gridCol w="2397240"/>
                <a:gridCol w="6365880"/>
              </a:tblGrid>
              <a:tr h="14893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ing Working Grou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requires ESI IDs with provisioned Advanced Meters to be included in the Annual Validation of the Load Profile Segment proces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60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2/13/12, PRS unanimously voted to recommend approval of NPRR504 as revised by PRS.  On 1/17/13, PRS unanimously voted to endorse and forward the 12/13/12 PRS Report and the Impact Analysis for NPRR504 to TA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1, 2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57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k - $25k for additional data storage (to be tracked as demand in support of a future ERCOT infrastructure purcha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49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for Advanced Meters to be part of Annual Validation of the Load Profile ID; improves the accuracy of Load Profile Type cod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509, Shortened RTM Settlement Timeline – URGENT </a:t>
            </a:r>
            <a:br>
              <a:rPr sz="2000"/>
            </a:br>
            <a:endParaRPr b="0" lang="en-US" sz="2000" spc="-1" strike="noStrike">
              <a:solidFill>
                <a:srgbClr val="000000"/>
              </a:solidFill>
              <a:latin typeface="Arial Black"/>
            </a:endParaRPr>
          </a:p>
        </p:txBody>
      </p:sp>
      <p:graphicFrame>
        <p:nvGraphicFramePr>
          <p:cNvPr id="112" name=""/>
          <p:cNvGraphicFramePr/>
          <p:nvPr/>
        </p:nvGraphicFramePr>
        <p:xfrm>
          <a:off x="228600" y="914400"/>
          <a:ext cx="8763120" cy="5257800"/>
        </p:xfrm>
        <a:graphic>
          <a:graphicData uri="http://schemas.openxmlformats.org/drawingml/2006/table">
            <a:tbl>
              <a:tblPr/>
              <a:tblGrid>
                <a:gridCol w="2397240"/>
                <a:gridCol w="6365880"/>
              </a:tblGrid>
              <a:tr h="1477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proposes a phased approach to reduce the posting date for the Initial Settlement Statement from nine days after the Operating Day to seven days after the Operating Day and reduces the posting date of the Final Settlement Statement from the 59</a:t>
                      </a:r>
                      <a:r>
                        <a:rPr b="0" lang="en-US" sz="1600" spc="-1" strike="noStrike" baseline="30000">
                          <a:solidFill>
                            <a:srgbClr val="000000"/>
                          </a:solidFill>
                          <a:latin typeface="Arial"/>
                        </a:rPr>
                        <a:t>th</a:t>
                      </a:r>
                      <a:r>
                        <a:rPr b="0" lang="en-US" sz="1600" spc="-1" strike="noStrike">
                          <a:solidFill>
                            <a:srgbClr val="000000"/>
                          </a:solidFill>
                          <a:latin typeface="Arial"/>
                        </a:rPr>
                        <a:t> day after the Operating Day to the 57</a:t>
                      </a:r>
                      <a:r>
                        <a:rPr b="0" lang="en-US" sz="1600" spc="-1" strike="noStrike" baseline="30000">
                          <a:solidFill>
                            <a:srgbClr val="000000"/>
                          </a:solidFill>
                          <a:latin typeface="Arial"/>
                        </a:rPr>
                        <a:t>th</a:t>
                      </a:r>
                      <a:r>
                        <a:rPr b="0" lang="en-US" sz="1600" spc="-1" strike="noStrike">
                          <a:solidFill>
                            <a:srgbClr val="000000"/>
                          </a:solidFill>
                          <a:latin typeface="Arial"/>
                        </a:rPr>
                        <a:t> day after the Operating Da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78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17/13, PRS voted to grant NPRR509 Urgent status.  There were two abstentions from the Cooperative and Consumer Market Segments.  PRS then unanimously voted to recommend approval of NPRR509 as amended by the 1/16/13 ERCOT comments and to forward NPRR509 to TA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1, 2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k - $45k; impacts to Registr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79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es concerns raised at the PUCT regarding impacts of the forthcoming increase to the SWCAP;  reduces credit exposure, thereby reducing the risk of uplift charge; reduces credit requirements; beneficial to all Market Segments due to shortened timeline and reduced credit expos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Thomas Burke</dc:creator>
  <dc:description/>
  <dc:language>en-US</dc:language>
  <cp:lastModifiedBy>ERCOT</cp:lastModifiedBy>
  <dcterms:modified xsi:type="dcterms:W3CDTF">2013-02-06T13:02:44Z</dcterms:modified>
  <cp:revision>675</cp:revision>
  <dc:subject/>
  <dc:title>Instructions</dc:title>
</cp:coreProperties>
</file>