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0FF1-5227-497D-833E-CDAE1D19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0276-3A6B-449B-804F-385178B8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A6E1-B2F2-4957-A35E-0759546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CDD9-CBED-40DB-A608-4BED9E0B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366D-C7A4-4E13-804C-7D6AA3E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6978-6564-4F60-8AED-CF62A7F2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7F3E-E876-4D01-B050-EC8EF8C2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6326-4B6B-4C37-ACE7-C697254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026F-37E5-46B1-8EFA-3980126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F2F2-8FE3-49A6-B3D4-FBDFF1C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B4B6-BCFA-4F37-8C69-CD4061A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E7A0-7361-45F8-876D-517A6BA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C5A-CB31-47DD-92F1-040B51C4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94B-23EB-4B5E-A8F0-5C61E7D6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7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Tom Burke, Brazos Electric Power 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ohn Varnell, Tenaska Pow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Rob Bevill, Green Mountain Energ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Kathy Scott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Harry Holloway, GDF Suez Energy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Bill Hatfield, Lower Colorado River 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Seth Cochran, DC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Sandra Morris, Direc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hair: TBD - February 12, 2013 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ice Chair: TBD - February 12, 2013 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9420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3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lbracht</cp:lastModifiedBy>
  <dcterms:modified xsi:type="dcterms:W3CDTF">2013-01-31T16:24:55Z</dcterms:modified>
  <cp:revision>72</cp:revision>
  <dc:subject/>
  <dc:title>Instructions</dc:title>
</cp:coreProperties>
</file>