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2CE2-B21F-48E6-85CA-C50F0A61C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EC1-0DF6-4921-B54C-F6343D5D5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D3A-844A-4DF5-B85D-83254ADCE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4D6D-E44B-4EB9-BD82-C36C361E1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8F53-8334-46F8-AF56-F2B4FF20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31B-2CD4-45EA-9881-2BAFF9F6A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1C6-4A28-4A1A-A6A4-625061D6A2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A3C-A0EB-4B3C-9307-7263FD8AF3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09C-A817-43D2-A60C-F58AF7A307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D31-9D8E-402C-A97D-E80F0329C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89D9-62AE-427C-AE6D-CAFAB6FBF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E67E-29A7-4ED7-A3C2-90F607A6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359B-D790-4339-A994-A582D97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2414-7B81-46AB-A402-35B122A1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ABE4-D40A-4460-A41C-707166A8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2ABF-CFF9-46D3-931F-34EB2BF1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30A4-BDF2-4551-9A6E-BDF0C07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3EE6-07E5-4B07-AC56-B6D4346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D91A-4421-4E60-BBB7-B099B9C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83C9-0FEB-4CAD-ADAE-FF07C553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A1ED-F815-469F-905B-A98ECCD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2AFB-8121-419F-9D80-88FB0D0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D600-14FE-4569-B770-E59C259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6989-F5BE-4895-B729-ED8B23895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5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599-224B-473E-89B1-9300FA7A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5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 Revision Subcommitte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m Bur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anuary 3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99, Revisions to Digital Certificate Holder Qualification Requirement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838080"/>
          <a:ext cx="8763120" cy="510552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removes references to the Foreign Corrupt Practices Act; removes language giving new Market Participants a six-month exemption from certain Digital Certificate issuance requirements; and adds a prohibition against the trade or sale of Digital Certific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voted to recommend approval of NPRR499 as submitted.  There was one abstention from the Independent Generator Market Segment.  On 12/13/12, PRS unanimously voted to endorse and forward the 11/15/12 PRS Report and Impact Analysis for NPRR499 to TAC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s unnecessary regulatory burde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506, Correction of Reconfiguration SASM Language Inconsistency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– URGENT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990720"/>
          <a:ext cx="8763120" cy="510516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2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makes corrections to a table describing the timeline for a reconfiguration Supplemental Ancillary Services Market (SASM) such that it is consistent with other Protocol language describing the same timeline.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2/13/12, PRS unanimously voted to grant NPRR506 Urgent status.  PRS then unanimously voted to recommend approval of NPRR506 as revised by PR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ary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 (ERCOT business function upda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ensure consistent Protocol language in regards to the reconfiguration SASM timeli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507, Correction of PTP Obligation Settlement Language Related to NPRR322 and NPRR470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– URGENT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838080"/>
          <a:ext cx="8763120" cy="518184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4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corrects the formula for the “Real-Time PTP Obligation with Links to an Option per QSE per pair of source and sink” variable (RTOBLLO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q, (j, k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which affects the charge to Qualified Scheduling Entities (QSEs) for cleared Point-to-Point (PTP) Obligation bids with Links to an Option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2/13/12, PRS unanimously voted to grant NPRR507 Urgent status.  PRS then unanimously voted to recommend approval of NPRR507 as submitted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ary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 (ERCOT business function update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qualitative benefit is to maintain consistency between Protocol language and as-built systems and proces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mmary of Revis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990720"/>
            <a:ext cx="81532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NPRRs Recommended for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tems for a Vo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opposed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74, Clarification of Price Correction Principles and Associated Timeline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92, Addition of System Lambda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93, Half-Hour RUC Claw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96, Revise West Hub Definition Due to Permanent Topology Change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98, Cleanup of ERCOT Finance and Audit Committee Responsibilities in Operational Audit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499, Revisions to Digital Certificate Holder Qualification Requirement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506, Correction of Reconfiguration SASM Language Inconsistency – URGENT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507, Correction of PTP Obligation Settlement Language Related to NPRR322 and NPRR470 – URGENT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* denotes no impac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949a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PRR Descrip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PRRs Recommended for Approv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74, Clarification of Price Correction Principles and Associated Timelin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838080"/>
          <a:ext cx="8763120" cy="495324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4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vides general principles on the types of errors for which ERCOT may perform a price correction; and greater regulatory certainty around the associated timelines for price corrections, including ERCOT notice to Market Participants for a price correction request to the ERCOT Boar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unanimously voted to recommend approval of NPRR474 as amended by the 11/13/12 Reliant and Noble comments and as revised by PRS.  On 12/13/12, PRS unanimously voted to endorse and forward the 11/15/12 PRS Report as revised by PRS and Impact Analysis for NPRR474 to TA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 (ERCOT business function updates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more clarity and certainty to Market Participants regarding the price correction process and the circumstances under which a price correction shall be performed; and reduced disputes from Market Participan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Date Placeholder 3"/>
          <p:cNvSpPr/>
          <p:nvPr/>
        </p:nvSpPr>
        <p:spPr>
          <a:xfrm>
            <a:off x="6553080" y="636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92,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Addition of System Lambda Inform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838080"/>
          <a:ext cx="8763120" cy="463248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SU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accounts for the addition of the System Lambda to the Locational Marginal Price (LMP) by Resource Node, Load Zone and Trading Hub report and display; and defines System Lambda within the Protocols and applies the defined term througho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voted to recommend approval of NPRR492 as revised by PRS.  There was one abstention from the Consumer Market Segment. On 12/1312, PRS unanimously voted to endorse and forward the 11/15/12 PRS Report and the Impact Analysis for NPRR492 to TAC with a recommended priority of 2013 and rank of 820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– Priority 2013; Rank 8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k - $20k; impacts to MMS and MIS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ransparency to the data used in the LMP price calculations; and Market Participants with the ability to shadow LMP and Settlement Point Price calcula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93, Half-Hour RUC Clawback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752400"/>
          <a:ext cx="8763120" cy="495612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38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DF Sue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removes Reliability Unit Commitment (RUC) Clawback on all Half-Hour Start Units (a) that participate in the Day-Ahead Market (DAM) and (b) during Energy Emergency Alert (EEA) events; and changes the RUC Clawback on all Half-Hour Start Units that did not participate in the DAM to 50%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voted to recommend approval of NPRR493 as submitted.  There was one abstention from the Municipal Market Segment.  On 12/13/12, PRS unanimously voted to endorse and forward the 11/15/12 PRS Report and Impact Analysis for NPRR493 to TAC with a recommended priority of 2013 and rank of 8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System Implementation – Priority 2013; Rank 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k - $20k; system impacts to CSI and S&amp;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moval of RUC Clawback for a subset of Generation Resources would send an appropriate signal to Market Participants, capital markets and manufacturers, thereby encouraging investment in more low-cost operational flexibili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96, Revise West Hub Definition Due to Permanent Topology Chang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914400"/>
          <a:ext cx="8763120" cy="434340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revises the West 345 kV Hub to replace the Sweetwater Cogen (SWCOG) Hub Bus with Sweetwater East Switch (SWESW) Hub Bu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voted to recommend approval of NPRR496 as submitted.  There were two abstentions from the Independent Power Marketer (IPM) Market Segment.  On 12/13/12, PRS unanimously voted to endorse and forward the 11/15/12 PRS Report and Impact Analysis for NPRR496 to TA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345kV Hub definition will reflect actual network topolog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NPRR498, Cleanup of ERCOT Finance and Audit Committee Responsibilities in Operational Audit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838080"/>
          <a:ext cx="8763120" cy="5334120"/>
        </p:xfrm>
        <a:graphic>
          <a:graphicData uri="http://schemas.openxmlformats.org/drawingml/2006/table">
            <a:tbl>
              <a:tblPr/>
              <a:tblGrid>
                <a:gridCol w="2397240"/>
                <a:gridCol w="6365880"/>
              </a:tblGrid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CO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proposes cleanup to Protocol language in regards to the responsibilities of the ERCOT Finance and Audit (F&amp;A) Committee in operational audit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7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11/15/12, PRS unanimously voted to recommend approval of NPRR498 as submitted.  On 12/13/12, PRS unanimously voted to endorse and forward the 11/15/12 PRS Report and Impact Analysis for NPRR498 to TAC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,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pa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 in documentation of ERCOT F&amp;A Committee responsibilities in operational audi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homas Burke</dc:creator>
  <dc:description/>
  <dc:language>en-US</dc:language>
  <cp:lastModifiedBy>ERCOT</cp:lastModifiedBy>
  <dcterms:modified xsi:type="dcterms:W3CDTF">2013-01-02T16:51:11Z</dcterms:modified>
  <cp:revision>664</cp:revision>
  <dc:subject/>
  <dc:title>Instructions</dc:title>
</cp:coreProperties>
</file>