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7"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5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0"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1"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1F35B-AFC1-4D7B-B221-5334E99BE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DA61-DD31-43F3-B7FB-A16C54834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2802B-FB89-4CFD-884F-DD2E27181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D5378-B318-4478-8AF2-FEBA41BA1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0007E5-2D66-467F-BBBE-E4E90D1AF0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BA7AA1-066A-4470-844D-E818B5DB5B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C76448-2833-49B3-82A3-C4D1D7AC6D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0D26FF-B21F-4D67-B7DE-B02938C78D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ACF962-E7C7-4191-84C3-7B4DDF1BF6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26E9FA-9DD4-452F-B42F-725B2EA753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7BE286-261F-4727-AE12-83CF2DD220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E8BCBA-E62C-45AE-94A8-DDE4DAA0A8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00C20F-19DD-460A-A1BC-89C0F2CB1B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B88D05B-FCDA-4A46-A0EC-7DD8DB1CAFE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55440-FB85-4AEE-91FB-1F5882295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58D706-AFCA-4FCA-B8BE-E6649B801C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D1351F1-296E-4A1F-8EA2-FF8D2CAC72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51579D-20DA-4D09-875B-AFDD6297E2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5AF77E-5918-40A2-B2D7-B86DB80555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391A6C-7CCE-49E1-82B6-0F8D748400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F4AAD8-BB1E-4021-9E91-C533E981B8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C3F4B6-8BCB-4F0F-BD68-41C7DB9EF8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A17749-FC4D-47E0-85B4-BAD908AA87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6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607D30-7475-47F3-BFE9-2BCA068D32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6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6A051F-4353-4804-95B1-BA309BB158C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9E00E-535B-4F66-AD43-B3285FF3D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EF914BB-3872-4583-B3B5-C13DCB2DA53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08FA326-BBAC-49BB-9DB2-6203B0FC76A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051718-C057-47F6-BB56-299511D987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E2C7B2-AFFC-43E2-9914-31992E5107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FB4851-04A8-42CB-BE61-6B829D49AB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54DCA8-4A46-49AE-83D8-FF5E05DD90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478BCF-FF4C-4443-A563-B14479C26C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E2BA68-E1F5-4DEB-BF9A-8616B91AD6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756C1E-0AE0-4DC9-8F1B-8C29226599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52BB6E-F623-4364-9252-12E6767C5A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3EDF71-7A02-4B64-A923-C53F593FB3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1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1B0ABC-6FE2-483C-AEE8-6902E28FA6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1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1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1EA1AD0-3646-4237-8206-6EC02C166A6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C597910-4B72-422D-B79F-1A67105CE45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1225773-9939-4765-BA90-4139B9C6025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3D4169-AADA-4C15-A160-95B7A085BAC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D66A60-49AD-4F1E-B156-DE5AC58303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74A6F0-FF20-4B0B-ABED-63FF34899D3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D74D0F-4370-409A-8E7F-ED65199503D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57F4280-FCA9-4EFD-BA67-F93566EABD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AED04C-6AB4-4B35-B773-35A794B35D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01EEF-03D3-43A8-98EA-28D813436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5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DD857A-C894-43A5-B858-5A927868CA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5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F9BD0E-321E-4875-BE26-5054EDF15C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6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54E3C7-8517-4A13-A264-921A2C411D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6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F3214CB-4768-40AD-A5B9-B63898E096F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6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DC8C57C-14AD-4216-9779-E8303DE8DFE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62B33-2DF6-4918-9AA7-267534FEB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7B5DB-6B1A-4EF7-819C-7C598B4C3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B9266-99C9-4209-84DF-72FD942A4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08F6E-9D9B-4AEA-B376-F3BC9E0CF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DA7A4-55D4-46EF-836F-B1C559816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DE35B-9452-43BA-A34C-669B038AB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4EBD4-2186-470A-B7B4-70E35ADF9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50FC6-7913-4B58-B78E-D63793133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868DE-23C9-4B78-8BDE-F180C0372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4461CA-95B0-46AD-975B-21ACC6182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FEC444-89E5-491F-8EE2-A8BFAADC66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6F0A92-6C41-4655-AF85-D34268B98D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1844EA-E016-4C69-877B-FFB47AB3D8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16A733-3577-4081-97CC-37888C2B2F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AC34FA-1695-434A-8504-8C462A3700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D92427-7D6C-4BF3-AC8E-6E191B5E3A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C27D2-FF13-41E7-84C8-BF787F365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9F8929-F4F9-4198-8E0F-90A4528CCA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0079BD-D5B0-464D-8C31-A71EB6C874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9761BE-260D-4298-A7FA-CE65313DB7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8FE089-0B85-4E43-B99F-2036335C75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EF7242-3B1D-4C49-9EF8-0C1398747C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2132D2-EC1C-4AC4-9A27-FE21A6C873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83AAF5-EF7C-4FE3-A7BD-73B71DB0E8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11453B-190E-45BD-AA3A-90CA8B3D6B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1A3704-45F9-4D40-A2CF-5A02A10336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D45DAA-41D0-4929-BB8E-0162B1794F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F7E62-86F3-48E3-B811-0AF21BBE6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646759-092F-4CCE-B20A-4D663D7169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BFAC84-A25B-4FEA-9A7A-5D4F3DAF76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40FA21-A2D5-4A6A-BA47-7E53C887D8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384DF1-A5D1-458E-B097-51950EE07B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8E18DC-6309-4F33-BA1F-3DA6F4E6BF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DB4C48-6B34-4D38-87E5-50A727DF7A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162F5E-AE64-4E8E-950D-FD5C59A636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EA0D0D-4CFC-4D13-BF25-07D9514F57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863765-0C42-4539-A32A-6307A05066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D087B9-4D9F-4BFF-A077-E8F4B98927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9C8F2-EB9D-40F1-9E40-47C53EFCE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E84A9C-CD53-4C9F-9B4A-16A4B6BBB7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B844D8-30DE-4AB6-B73F-F1A2B6BE9F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268431-405A-4177-A032-1265B2B67F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10D1AF-BF80-4876-BA2B-C4421643BF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E23601-A924-4C26-877E-4306094A7F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4DACCB-8E31-4218-A2E2-FF10C9299E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794FD0-6950-4FA5-B69B-D64B035E8F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07E3E0-B635-43CA-952A-5878F2036B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D3BB71-9D5C-46E1-A340-95EA97EFAF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566222-0858-41DE-8BC5-59A164FEDE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E4C2B-7FD8-4C69-9C22-3C0F7860B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17EDCF-1E29-405E-A9B1-2A6D0C6FBD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DB30CA-1EC8-4169-BD4B-519E1C5390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A7EE5B-43F2-4154-A94C-0F437B020D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4DB511-EFC4-4627-9B84-D12C65471E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9C38D0-DD41-413C-9E54-C632D59532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82A2BD-62DE-415F-83FE-18FD8DEBA1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6D0FEB-F382-40DE-B006-805DAD1F20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8BC286-94FE-4233-8B02-30A7668FA0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8744D5-4740-4FB4-B23D-AAA80EDA89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8B8760-1B5C-4B5D-871B-E34B0DCCA9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057D6-188A-4F7C-A459-A167E6443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11AB25-AF25-45BE-BD4B-7D7C0664B0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5870C7-6662-497D-AFB9-BC8616D042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6C1E9F-AD95-468E-A049-BC81A29ED8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09324E-05E9-48B3-89C4-CF649F7A52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750940-FA90-4A7F-8A97-BB4EA02BC5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0CB6A2-FF2F-41C9-AD76-DBFC8D4E1E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FDC580-472C-45C1-A725-46AB079211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874970-A6FF-41D5-83E7-2355C785E2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67A8F1-336B-4EE6-B571-7F33AE6C16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700C29-AF79-44BC-9445-B5BC5A2670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E886E-1EEF-4F5F-9EE7-6100DCC0D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316F66-64EA-4229-819F-BF4FAD18A4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A0782F-8DB2-4FCF-8192-5B9660B3C1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8FF4F1-81C2-411C-B422-84A7AE01D3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C8A491-13E2-4656-827A-AF67D20B3E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8A7269-BFA8-4805-9219-29D8FE25C5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C1B0EA-6D89-4F2A-9A7A-0D23A763A2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A1D546-172C-4A53-98C1-5E3F0B7BD6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334EEB-E31B-4984-9255-8E6FC08B92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8D1D4D-6F5D-4CE4-A40C-A60A8ACF27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353B76-9E03-4B9C-84F4-A1773C6C1C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6D90F-5CE3-451F-9FB7-4FBDED347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CCEF42-D473-4EB6-950C-5A4B30880B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F7FDC3-9702-419F-B399-6B848782CF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CD01DF-7D10-4E19-9FDD-42FD4043AC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8FCDB1-ECDB-4816-888C-F3E2A67044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01670B-4911-416F-BC1E-14919DA0A4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1FF4E2-FC6A-4348-857C-6EF93FEE53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DE1F37-3600-440B-8DC1-59E0AC1469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8956BF-895F-4CD0-8632-9299A66CCA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7A0A5A-4924-40E8-B65B-7FE1124208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443403-5908-4321-BC0E-ED41A2DF190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Group 15"/>
          <p:cNvGrpSpPr/>
          <p:nvPr/>
        </p:nvGrpSpPr>
        <p:grpSpPr>
          <a:xfrm>
            <a:off x="210960" y="5354640"/>
            <a:ext cx="8723520" cy="1330200"/>
            <a:chOff x="210960" y="5354640"/>
            <a:chExt cx="8723520" cy="1330200"/>
          </a:xfrm>
        </p:grpSpPr>
        <p:sp>
          <p:nvSpPr>
            <p:cNvPr id="433"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4"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5"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6"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7"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3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40" name="PlaceHolder 3"/>
          <p:cNvSpPr>
            <a:spLocks noGrp="1"/>
          </p:cNvSpPr>
          <p:nvPr>
            <p:ph type="dt" idx="28"/>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4"/>
          <p:cNvSpPr>
            <a:spLocks noGrp="1"/>
          </p:cNvSpPr>
          <p:nvPr>
            <p:ph type="ftr" idx="29"/>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5"/>
          <p:cNvSpPr>
            <a:spLocks noGrp="1"/>
          </p:cNvSpPr>
          <p:nvPr>
            <p:ph type="sldNum" idx="30"/>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8FDE-48BC-4E65-8EBB-F8E5DFFBC9F2}"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Group 15"/>
          <p:cNvGrpSpPr/>
          <p:nvPr/>
        </p:nvGrpSpPr>
        <p:grpSpPr>
          <a:xfrm>
            <a:off x="210960" y="1679400"/>
            <a:ext cx="8723520" cy="1330560"/>
            <a:chOff x="210960" y="1679400"/>
            <a:chExt cx="8723520" cy="1330560"/>
          </a:xfrm>
        </p:grpSpPr>
        <p:sp>
          <p:nvSpPr>
            <p:cNvPr id="481"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2"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3"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4"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5"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8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88" name="PlaceHolder 3"/>
          <p:cNvSpPr>
            <a:spLocks noGrp="1"/>
          </p:cNvSpPr>
          <p:nvPr>
            <p:ph type="dt" idx="3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PlaceHolder 4"/>
          <p:cNvSpPr>
            <a:spLocks noGrp="1"/>
          </p:cNvSpPr>
          <p:nvPr>
            <p:ph type="ftr" idx="3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E503-50B9-49D3-9D77-95C604E6ED9E}"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8" name="Group 15"/>
          <p:cNvGrpSpPr/>
          <p:nvPr/>
        </p:nvGrpSpPr>
        <p:grpSpPr>
          <a:xfrm>
            <a:off x="210960" y="714240"/>
            <a:ext cx="8723520" cy="1332000"/>
            <a:chOff x="210960" y="714240"/>
            <a:chExt cx="8723520" cy="1332000"/>
          </a:xfrm>
        </p:grpSpPr>
        <p:sp>
          <p:nvSpPr>
            <p:cNvPr id="52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3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36" name="PlaceHolder 3"/>
          <p:cNvSpPr>
            <a:spLocks noGrp="1"/>
          </p:cNvSpPr>
          <p:nvPr>
            <p:ph type="dt" idx="3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4"/>
          <p:cNvSpPr>
            <a:spLocks noGrp="1"/>
          </p:cNvSpPr>
          <p:nvPr>
            <p:ph type="ftr" idx="3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5"/>
          <p:cNvSpPr>
            <a:spLocks noGrp="1"/>
          </p:cNvSpPr>
          <p:nvPr>
            <p:ph type="sldNum" idx="3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731B-5C99-4C8E-83B6-832EDAEA8A1B}"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15"/>
          <p:cNvGrpSpPr/>
          <p:nvPr/>
        </p:nvGrpSpPr>
        <p:grpSpPr>
          <a:xfrm>
            <a:off x="210960" y="1679400"/>
            <a:ext cx="8723520" cy="1330560"/>
            <a:chOff x="210960" y="1679400"/>
            <a:chExt cx="8723520" cy="1330560"/>
          </a:xfrm>
        </p:grpSpPr>
        <p:sp>
          <p:nvSpPr>
            <p:cNvPr id="98"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9"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4"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5"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7772400" y="624852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9F4AC-06DB-480E-A590-D7222282FB45}"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7"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8"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7773840" y="6248520"/>
            <a:ext cx="11606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7738-D58A-4BA3-8D45-8FFA5AE2476B}"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15"/>
          <p:cNvGrpSpPr/>
          <p:nvPr/>
        </p:nvGrpSpPr>
        <p:grpSpPr>
          <a:xfrm>
            <a:off x="210960" y="1679400"/>
            <a:ext cx="8723520" cy="1330560"/>
            <a:chOff x="210960" y="1679400"/>
            <a:chExt cx="8723520" cy="1330560"/>
          </a:xfrm>
        </p:grpSpPr>
        <p:sp>
          <p:nvSpPr>
            <p:cNvPr id="193"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4"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7772400" y="624852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32C3-B0AA-45D6-912E-3B848D60BD8B}"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5"/>
          <p:cNvGrpSpPr/>
          <p:nvPr/>
        </p:nvGrpSpPr>
        <p:grpSpPr>
          <a:xfrm>
            <a:off x="210960" y="1679400"/>
            <a:ext cx="8723520" cy="1330560"/>
            <a:chOff x="210960" y="1679400"/>
            <a:chExt cx="8723520" cy="1330560"/>
          </a:xfrm>
        </p:grpSpPr>
        <p:sp>
          <p:nvSpPr>
            <p:cNvPr id="241"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2"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3"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4"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5"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7772400" y="624852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1C96-9207-4A41-91DC-5E5F20DF2B38}"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5"/>
          <p:cNvGrpSpPr/>
          <p:nvPr/>
        </p:nvGrpSpPr>
        <p:grpSpPr>
          <a:xfrm>
            <a:off x="210960" y="1679400"/>
            <a:ext cx="8723520" cy="1330560"/>
            <a:chOff x="210960" y="1679400"/>
            <a:chExt cx="8723520" cy="1330560"/>
          </a:xfrm>
        </p:grpSpPr>
        <p:sp>
          <p:nvSpPr>
            <p:cNvPr id="289"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1"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3"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7772400" y="624852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C576-2B14-4ED2-B86C-0B046EA56EA4}"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Group 15"/>
          <p:cNvGrpSpPr/>
          <p:nvPr/>
        </p:nvGrpSpPr>
        <p:grpSpPr>
          <a:xfrm>
            <a:off x="210960" y="714240"/>
            <a:ext cx="8723520" cy="1330560"/>
            <a:chOff x="210960" y="714240"/>
            <a:chExt cx="8723520" cy="1330560"/>
          </a:xfrm>
        </p:grpSpPr>
        <p:sp>
          <p:nvSpPr>
            <p:cNvPr id="337"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8"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9"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0"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1"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3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4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44"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4"/>
          </p:nvPr>
        </p:nvSpPr>
        <p:spPr>
          <a:xfrm>
            <a:off x="7796160" y="624852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0BD6-A3A3-4C7F-8A82-FE2A49057376}"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Group 23"/>
          <p:cNvGrpSpPr/>
          <p:nvPr/>
        </p:nvGrpSpPr>
        <p:grpSpPr>
          <a:xfrm>
            <a:off x="210960" y="714240"/>
            <a:ext cx="8723520" cy="1332000"/>
            <a:chOff x="210960" y="714240"/>
            <a:chExt cx="8723520" cy="1332000"/>
          </a:xfrm>
        </p:grpSpPr>
        <p:sp>
          <p:nvSpPr>
            <p:cNvPr id="385"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6"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7"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8"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89"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3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9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92" name="PlaceHolder 3"/>
          <p:cNvSpPr>
            <a:spLocks noGrp="1"/>
          </p:cNvSpPr>
          <p:nvPr>
            <p:ph type="dt" idx="25"/>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4"/>
          <p:cNvSpPr>
            <a:spLocks noGrp="1"/>
          </p:cNvSpPr>
          <p:nvPr>
            <p:ph type="ftr" idx="26"/>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5"/>
          <p:cNvSpPr>
            <a:spLocks noGrp="1"/>
          </p:cNvSpPr>
          <p:nvPr>
            <p:ph type="sldNum" idx="27"/>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48A2-43B1-48EE-8A1E-08A5128EEF12}"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olesale Market Subcommittee Update </a:t>
            </a:r>
            <a:endParaRPr b="0" lang="en-US" sz="4400" spc="-1" strike="noStrike">
              <a:solidFill>
                <a:srgbClr val="ffffff"/>
              </a:solidFill>
              <a:latin typeface="Candara"/>
            </a:endParaRPr>
          </a:p>
        </p:txBody>
      </p:sp>
      <p:sp>
        <p:nvSpPr>
          <p:cNvPr id="583"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echnical Advisory Committee Meeting</a:t>
            </a:r>
            <a:endParaRPr b="0" lang="en-US" sz="2000" spc="-1" strike="noStrike">
              <a:solidFill>
                <a:srgbClr val="073e87"/>
              </a:solidFill>
              <a:latin typeface="Candar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January 2013</a:t>
            </a:r>
            <a:endParaRPr b="0" lang="en-US" sz="2000" spc="-1" strike="noStrike">
              <a:solidFill>
                <a:srgbClr val="073e87"/>
              </a:solidFill>
              <a:latin typeface="Candara"/>
            </a:endParaRPr>
          </a:p>
        </p:txBody>
      </p:sp>
      <p:sp>
        <p:nvSpPr>
          <p:cNvPr id="584" name="Slide Number Placeholder 5"/>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31B37-4402-41FD-AD46-8A834088B2B9}"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14400" y="2209320"/>
            <a:ext cx="7408800" cy="43434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otocols state that …</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t>
            </a:r>
            <a:r>
              <a:rPr b="0" lang="en-US" sz="2400" spc="-1" strike="noStrike">
                <a:solidFill>
                  <a:srgbClr val="073e87"/>
                </a:solidFill>
                <a:latin typeface="Candara"/>
              </a:rPr>
              <a:t>The Technical Advisory Committee (TAC) and the ERCOT Board shall review the current Minimum PTP Option Bid Price at least every January and may recommend to the ERCOT Board changes to these values by submitting a Nodal Protocol Revision Request (NPRR).”</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MS recommend making NO changes to Protocols at this time.</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oking for a motion from TAC to also recommend making no changes.</a:t>
            </a:r>
            <a:endParaRPr b="0" lang="en-US" sz="2400" spc="-1" strike="noStrike">
              <a:solidFill>
                <a:srgbClr val="073e87"/>
              </a:solidFill>
              <a:latin typeface="Candara"/>
            </a:endParaRPr>
          </a:p>
        </p:txBody>
      </p:sp>
      <p:sp>
        <p:nvSpPr>
          <p:cNvPr id="586" name="Slide Number Placeholder 5"/>
          <p:cNvSpPr/>
          <p:nvPr/>
        </p:nvSpPr>
        <p:spPr>
          <a:xfrm>
            <a:off x="7772400" y="6248520"/>
            <a:ext cx="1162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5E3F7-AD16-4719-A789-C0CC2E01BE9A}"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
        <p:nvSpPr>
          <p:cNvPr id="58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Minimum PTP Option Bid Price Per Protocol Section 7.7.1, Charging of PTP Option Award Fee (Vot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9T15:57:50Z</dcterms:created>
  <dc:creator>David Canter</dc:creator>
  <dc:description/>
  <dc:language>en-US</dc:language>
  <cp:lastModifiedBy>JBevill</cp:lastModifiedBy>
  <dcterms:modified xsi:type="dcterms:W3CDTF">2013-01-01T20:22:35Z</dcterms:modified>
  <cp:revision>17</cp:revision>
  <dc:subject/>
  <dc:title>FERC Order 1000 Compliance </dc:title>
</cp:coreProperties>
</file>