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9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0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1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A81B-0F9A-4DD7-B11F-8691872AB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4A5D-58A9-4416-AA71-76C072A0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9611-2C28-4BBF-AAD5-742C2541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F0A1-D091-4757-959C-AE5DB8C7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377D-599C-49AE-8844-3853131D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9A47-1480-43D4-8967-DD15CD11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B78F-5A0B-4FD6-8770-062D6506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73D0-069F-4887-BA76-09FDBB1C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52C5-3C8C-47E8-90FC-A8B4ED2B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B7AD-2A8B-46BF-80CD-50AD8E1F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B555-E401-447D-99FD-F3F5648F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3F50-E854-4E7C-904C-1B93D9CF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A8B0-6B54-4AA2-9F09-0874DDC9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28DB-2647-40A0-AA72-EB9085A0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4AAB-40F0-4675-9061-B8D6A22D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72F4-3E84-4F70-AC21-95AFB47B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AD6A-57D7-48CE-ABA0-7829F75D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A549-7F29-49ED-B2E2-E07E6AA0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8841-DD91-4C76-A1B3-532B5E09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1670-9BEF-4000-9129-919A1AA5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D862-6DF3-4A1C-9001-BC6EF9F1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E1C9-7545-4738-9850-886E11D2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D78B-D5AD-498E-AC7D-F06747AA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E287-6811-4ECD-BEC3-FC0C6D60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D1C7-C595-4691-A6FB-2211B89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88E3-7EA1-49E9-8375-CC396BE9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178D-DD88-42A0-8820-11932F7A1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30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2706-8E1A-4D99-A99D-89623875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30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61D8-5EE9-4CEB-940D-EF08694F1F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30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1904760"/>
            <a:ext cx="7162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TAC Procedures - Revis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286000" y="3838680"/>
            <a:ext cx="556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anuary 3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visions since last presented at 11/29/2012 TAC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fer to WG/TF by Chair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air may refer an issue to a WG/TF as long as there is no objection by any voting member (unanimous consent).  If there is an objection, the issue may only be directed to a WG/TF by a successful “Motion to Refer”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ierarchy of Motio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hierarchy of all motions remains as identified in Robert’s Ru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“Friendly Amendment” has the same class and rank order as a formal “Motion to Amend”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tion to Reconsider”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ver must have been on the prevailing side of the motion to be reconsidered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moved 2/3 vote requirement.  Passes by simple major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o requirement that mover/second of motion to be reconsidered appro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tion to Table”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moved 2/3 vote requirement.  Passes by simple majority.  Further research of this rule identified that Robert’s Rules recommends a 2/3 vote requirement, but only where there is substantial abuse of the rul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 3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landry@ercot.com</dc:creator>
  <dc:description/>
  <dc:language>en-US</dc:language>
  <cp:lastModifiedBy>ERCOT 12/19/2012</cp:lastModifiedBy>
  <dcterms:modified xsi:type="dcterms:W3CDTF">2012-12-21T15:36:11Z</dcterms:modified>
  <cp:revision>576</cp:revision>
  <dc:subject/>
  <dc:title>Instructions</dc:title>
</cp:coreProperties>
</file>