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3D24-76DA-4C85-BFD6-45AE787F9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C3DC-C9EB-4128-AA33-194D46EC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 LMP = System lambda &amp; BP&gt; LDL =&gt; Resource is moved up for capacity since there is no co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 LMP &gt; System lambda &amp; BP&gt; LDL =&gt; Resource can contribute to reducing congestion and hence could be moved up for trans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40AD-0707-4D9C-B169-CC549B27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 floor could increase the system lambda for all intervals with Capacity Headroom &lt;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F04-4D83-47BE-B6FA-CBCB55574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0745-5230-4A55-9CC3-B226BED6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6120-1C15-46C4-BF7D-FE28B84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6B20-3FEC-4F46-8CE2-2A656EB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A6CB-8591-45D9-8DBB-4F377A6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8B8A-4363-4698-AA31-177BF44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434D-83FF-46BA-ADE5-CD8F9A8B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54BB-04C0-4944-96EA-A8CABF6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1600-C1DA-456D-B700-2989A4BA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E293-436E-4D78-9404-1356FC3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1850-6DC6-4A96-88DE-A708763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BE74-E0D6-436F-ABAA-C1EA4E4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E445-F5C0-4249-93DA-CDDCDA8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CC2B-4187-4447-974F-D97C65D1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20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583-14B6-422D-858F-5E8A18FF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mber 20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6343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smi Surend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864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nual TAC Review of the Market Impacts of Dollar Value for Energy for Reliability Unit Commitm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1523880" y="4648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ubtitle 1"/>
          <p:cNvSpPr/>
          <p:nvPr/>
        </p:nvSpPr>
        <p:spPr>
          <a:xfrm>
            <a:off x="1371600" y="3124080"/>
            <a:ext cx="634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nalysis of 1/1/12 through 11/30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 Relationship to Real-time Pric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896760" y="736560"/>
            <a:ext cx="742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 Relationship to Real-time Pric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14400" y="738360"/>
            <a:ext cx="73785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 Relationship to Real-time Pric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3915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imated PNM Impact of RUC Committed Resour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8377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nthly incremental Peaker Net Margin (PNM) was analyzed by removing the RUC committed Resources and simulating the SC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indicate that, not considering market behavior changes, PNM would have increas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7376.5/MW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4922.3/MW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addition came from continuo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p constrained  interv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high prices which might not realize under a different marke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Chart 8" descr=""/>
          <p:cNvPicPr/>
          <p:nvPr/>
        </p:nvPicPr>
        <p:blipFill>
          <a:blip r:embed="rId1"/>
          <a:stretch/>
        </p:blipFill>
        <p:spPr>
          <a:xfrm>
            <a:off x="4241880" y="1244520"/>
            <a:ext cx="5207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6.4.3.1 Energy Offer Curve for RUC-Committed Resour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0666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the end of the Adjustment Period for an Operating Hour during which a Generation Resource has been committed by ERCOT as part of a Reliability Unit Commitment (RUC) process, the QSE shall ensure that an Energy Offer Curve that prices all energy from LSL to HSL at or above the System-Wide Offer Cap (SWCAP) for the Operating Hours in the RUC commitment period, has been submitted and accepted by ERCOT.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chnical Advisory Committee (TAC) shall review the market impacts of the dollar value for energy for Generation Resources committed by the RUC process for RUC-Committed Intervals every Janu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Effective MWh by Month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254160" y="939960"/>
            <a:ext cx="86356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ments and Offe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404640" y="83808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ed Effective RUC Unit Hours in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4 hrs (65.17%) for Voltage/Reactiv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hrs (32.21%) for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hrs (2.62%) for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ructed Effective RUC Unit Hours were required to have an Energy Offer Curve priced at SWCAP for MW above LSL (required since March 1,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fer Curv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hrs (25.50%) properly priced at SWCAP above 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 hrs (10.76%) not priced at SWCAP above LSL with less than an hours notice to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 hrs (63.75%) not priced at SWCAP above LSL with more than an hours notice to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Dispatched for Capac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63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.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 RUC Unit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this number and the 267 is a result of Resources starting up, shutting down, or still being Off-Line for some portion of the RUC committed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MP&lt;=System Lambda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&gt;=LDL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termine dispatch fo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rs (31.54%) were dispatched above LD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ring which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8 hrs (31.51%) had prices below $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hrs (0%) had prices between $100 &amp; $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8 hrs (0.03%) had prices between $500 and $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hrs (0%) had prices greater than or equal to $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0 to LSL Energy from ONRUC Resour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60.1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RUC Unit Hou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NRUC LDL is 142MW,LSL is 130 MW,BP is 172 MW, HSL is 28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.59 h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5.57%) are at or below LD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P-LDL&lt;2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NRUC LDL is 103 MW, LSL is 96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.59 h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4.43%) are above LD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ransmission or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ONRUC LDL is 192 MW, LSL is 17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2.3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RUC Hours with at least one resource on ONRUC statu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system total ONRUC capacity for only these hou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 is 159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L is 146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L is 316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 is 19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ective RUC Unit Hours’ is SCED duration, summed up to hour level,  for each RUC committed Resource when it was On-Line. ‘Effective RUC Unit Hours’ considers multiple Resources committed for the same hour as different unit hours while ‘Effective RUC Hours’ considers it as single hour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Histogram of RUC LS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27000" y="738360"/>
            <a:ext cx="73692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Histogram of RUC B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990720" y="74304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C Committed Resources -  Relationship to Real-time Prices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914400" y="747720"/>
            <a:ext cx="73818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Lao Shu</dc:creator>
  <dc:description/>
  <dc:language>en-US</dc:language>
  <cp:lastModifiedBy>Resmi Surendran</cp:lastModifiedBy>
  <dcterms:modified xsi:type="dcterms:W3CDTF">2013-01-03T18:05:30Z</dcterms:modified>
  <cp:revision>657</cp:revision>
  <dc:subject/>
  <dc:title>Instructions</dc:title>
</cp:coreProperties>
</file>