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CF9C-70C8-4F08-8373-FCBE21534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B493-15FB-477A-AEF8-1B215F9CD86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A00F-FB33-4B25-8C98-48EF2F5A81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C9F2-5646-43FF-ABDB-40364F7950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244B-F7EC-4120-A090-6F962C7FC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31EF-326B-4C30-B88D-667612952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828F-033C-4033-A178-BE53714874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DF09-E177-4423-8B5B-21B83C0E96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6F2B-2521-446F-8A0B-0B64B1D79B4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CF77-BC1A-4957-8E00-FB7D413DE95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CADF-A3CB-47E3-AF52-2FB871D5A2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8FD14B4-F3F7-4CDE-9B55-8EF3F2141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E6A348-DD22-482A-A606-1D031B48A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FCDFE5-34BA-47F3-8D60-9B3330E652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1B30EB6-CBFD-496D-ADBA-C2AE261E4B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BACB7A-40F8-46B1-BB4F-FC71BD081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1C27F1F-CFD6-467B-867A-A516E0704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F948397-EB5B-48F4-B8E7-F65E86B0D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F39F55-DE2D-4D77-9BE7-959416F97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A73143-8878-466D-AD93-7DAF2C530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9EBAA6-55F7-4D97-A30B-85F2A0370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BFEB27-9773-49FF-B010-10D13D944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8E96CB-BDF5-4B13-BA48-4115D97A6C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4CB2-6AEA-4F21-9EE0-3B654B38C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16F9-54ED-4695-AE71-3C35A7C57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m Burk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ember 29, 201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PRR489, </a:t>
            </a:r>
            <a:r>
              <a:rPr b="0" lang="en-US" sz="2000" spc="-1" strike="noStrike">
                <a:solidFill>
                  <a:srgbClr val="000000"/>
                </a:solidFill>
                <a:latin typeface="Arial Black"/>
              </a:rPr>
              <a:t>Planning Reserve Margin</a:t>
            </a:r>
            <a:r>
              <a:rPr b="1" lang="en-US" sz="2000" spc="-1" strike="noStrike">
                <a:solidFill>
                  <a:srgbClr val="000000"/>
                </a:solidFill>
                <a:latin typeface="Arial Black"/>
              </a:rPr>
              <a:t> </a:t>
            </a:r>
            <a:br>
              <a:rPr sz="2000"/>
            </a:br>
            <a:endParaRPr b="0" lang="en-US" sz="2000" spc="-1" strike="noStrike">
              <a:solidFill>
                <a:srgbClr val="000000"/>
              </a:solidFill>
              <a:latin typeface="Arial Black"/>
            </a:endParaRPr>
          </a:p>
        </p:txBody>
      </p:sp>
      <p:graphicFrame>
        <p:nvGraphicFramePr>
          <p:cNvPr id="114" name=""/>
          <p:cNvGraphicFramePr/>
          <p:nvPr/>
        </p:nvGraphicFramePr>
        <p:xfrm>
          <a:off x="228600" y="971640"/>
          <a:ext cx="8763120" cy="5048280"/>
        </p:xfrm>
        <a:graphic>
          <a:graphicData uri="http://schemas.openxmlformats.org/drawingml/2006/table">
            <a:tbl>
              <a:tblPr/>
              <a:tblGrid>
                <a:gridCol w="2397240"/>
                <a:gridCol w="6365880"/>
              </a:tblGrid>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the Planning Reserve Margin methodology, currently in the Planning Guide, to the Protoco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6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8/12, PRS voted to recommend approval of NPRR489 as amended by the 10/17/12 ERCOT comments and as revised by PRS.  There were two abstentions from the Municipal and IPM Market Segments.  On 11/15/12, PRS endorsed and forwarded the 10/18/12 PRS Report and Impact Analysis for NPRR489 to TAC.  There was one abstention from the IPM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7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the transparency and approval process for the Planning Reserve Methodology calculations performed by ERCOT for the semi-annual Capacity, Demand and Reserve re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PRR497, </a:t>
            </a:r>
            <a:r>
              <a:rPr b="0" lang="en-US" sz="2000" spc="-1" strike="noStrike">
                <a:solidFill>
                  <a:srgbClr val="000000"/>
                </a:solidFill>
                <a:latin typeface="Arial Black"/>
              </a:rPr>
              <a:t>Corrections to NPRR400 – URGENT</a:t>
            </a:r>
            <a:r>
              <a:rPr b="1" lang="en-US" sz="2000" spc="-1" strike="noStrike">
                <a:solidFill>
                  <a:srgbClr val="000000"/>
                </a:solidFill>
                <a:latin typeface="Arial Black"/>
              </a:rPr>
              <a:t> </a:t>
            </a:r>
            <a:br>
              <a:rPr sz="2000"/>
            </a:br>
            <a:endParaRPr b="0" lang="en-US" sz="2000" spc="-1" strike="noStrike">
              <a:solidFill>
                <a:srgbClr val="000000"/>
              </a:solidFill>
              <a:latin typeface="Arial Black"/>
            </a:endParaRPr>
          </a:p>
        </p:txBody>
      </p:sp>
      <p:graphicFrame>
        <p:nvGraphicFramePr>
          <p:cNvPr id="116" name=""/>
          <p:cNvGraphicFramePr/>
          <p:nvPr/>
        </p:nvGraphicFramePr>
        <p:xfrm>
          <a:off x="228600" y="990720"/>
          <a:ext cx="8763120" cy="5105160"/>
        </p:xfrm>
        <a:graphic>
          <a:graphicData uri="http://schemas.openxmlformats.org/drawingml/2006/table">
            <a:tbl>
              <a:tblPr/>
              <a:tblGrid>
                <a:gridCol w="2397240"/>
                <a:gridCol w="6365880"/>
              </a:tblGrid>
              <a:tr h="1211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orrects language within NPRR400, Eliminate Unsecured Credit for CRR Auctions and for Future Credit Exposure and Eliminate Netting of FCE with CCE, which was approved by the ERCOT Board on October 18, 20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5/12, PRS voted to grant NPRR497 Urgent status.  There was one abstention from the Independent Generator Market Segment.  PRS then unanimously voted to recommend approval of NPRR497 as submitted and to forward NPRR497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2,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6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 the Protocols with the system implementation of calculating a Counter-Party’s Available Credit Lim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PRR501, </a:t>
            </a:r>
            <a:r>
              <a:rPr b="0" lang="en-US" sz="2000" spc="-1" strike="noStrike">
                <a:solidFill>
                  <a:srgbClr val="000000"/>
                </a:solidFill>
                <a:latin typeface="Arial Black"/>
              </a:rPr>
              <a:t>Correct ERS Self-Provision Settlement Calculation – URGENT</a:t>
            </a:r>
            <a:r>
              <a:rPr b="1" lang="en-US" sz="2000" spc="-1" strike="noStrike">
                <a:solidFill>
                  <a:srgbClr val="000000"/>
                </a:solidFill>
                <a:latin typeface="Arial Black"/>
              </a:rPr>
              <a:t> </a:t>
            </a:r>
            <a:br>
              <a:rPr sz="2000"/>
            </a:br>
            <a:endParaRPr b="0" lang="en-US" sz="2000" spc="-1" strike="noStrike">
              <a:solidFill>
                <a:srgbClr val="000000"/>
              </a:solidFill>
              <a:latin typeface="Arial Black"/>
            </a:endParaRPr>
          </a:p>
        </p:txBody>
      </p:sp>
      <p:graphicFrame>
        <p:nvGraphicFramePr>
          <p:cNvPr id="118" name=""/>
          <p:cNvGraphicFramePr/>
          <p:nvPr/>
        </p:nvGraphicFramePr>
        <p:xfrm>
          <a:off x="228600" y="838080"/>
          <a:ext cx="8763120" cy="5181840"/>
        </p:xfrm>
        <a:graphic>
          <a:graphicData uri="http://schemas.openxmlformats.org/drawingml/2006/table">
            <a:tbl>
              <a:tblPr/>
              <a:tblGrid>
                <a:gridCol w="2397240"/>
                <a:gridCol w="6365880"/>
              </a:tblGrid>
              <a:tr h="1492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orrects the formula for the Self-Procured Amount per QSE per Emergency Response Service (ERS) Contract Period per ERS Time Period (</a:t>
                      </a:r>
                      <a:r>
                        <a:rPr b="0" lang="pt-BR" sz="1600" spc="-1" strike="noStrike">
                          <a:solidFill>
                            <a:srgbClr val="000000"/>
                          </a:solidFill>
                          <a:latin typeface="Arial"/>
                        </a:rPr>
                        <a:t>SPAMT</a:t>
                      </a:r>
                      <a:r>
                        <a:rPr b="0" i="1" lang="en-US" sz="1600" spc="-1" strike="noStrike" baseline="-25000">
                          <a:solidFill>
                            <a:srgbClr val="000000"/>
                          </a:solidFill>
                          <a:latin typeface="Arial"/>
                        </a:rPr>
                        <a:t>qc(tp)</a:t>
                      </a:r>
                      <a:r>
                        <a:rPr b="0" lang="en-US" sz="1600" spc="-1" strike="noStrike">
                          <a:solidFill>
                            <a:srgbClr val="000000"/>
                          </a:solidFill>
                          <a:latin typeface="Arial"/>
                        </a:rPr>
                        <a:t>), which affects Settlement payment amounts for ERS Self-Provis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0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5/12, PRS unanimously voted to grant NPRR501 Urgent status.  PRS then unanimously voted to recommend approval of NPRR501 as submitted and to forward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2,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to budget or systems.  ERCOT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9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consistency between Protocol language and as-built systems and proces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3000"/>
          </a:bodyPr>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opposed Recommendation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73, Process for Submission of Generation Resource Weatherization Information*</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3, REC Program Renewable Resource Self-Reporting MWH Production Data and Metering Requirement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8, Resource Entity and LSE QSE Designation or Change*</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9, Planning Reserve Margin*</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97, Corrections to NPRR400 – URGENT*</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01, Correct ERS Self-Provision Settlement Calculation – URGENT*</a:t>
            </a:r>
            <a:endParaRPr b="1" lang="en-US" sz="1800" spc="-1" strike="noStrike">
              <a:solidFill>
                <a:srgbClr val="000000"/>
              </a:solidFill>
              <a:latin typeface="Arial"/>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ommendations with Opposing Vote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385, Security Violation Analysis and Reporting and Negative Price Floor</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61, Energy Storage Settlements Consistent With PUCT Project 39917 – URGENT</a:t>
            </a:r>
            <a:endParaRPr b="1" lang="en-US" sz="1800" spc="-1" strike="noStrike">
              <a:solidFill>
                <a:srgbClr val="000000"/>
              </a:solidFill>
              <a:latin typeface="Arial"/>
            </a:endParaRPr>
          </a:p>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denotes no impacts)</a:t>
            </a:r>
            <a:endParaRPr b="1" lang="en-US" sz="1800" spc="-1" strike="noStrike">
              <a:solidFill>
                <a:srgbClr val="000000"/>
              </a:solidFill>
              <a:latin typeface="Arial"/>
            </a:endParaRPr>
          </a:p>
          <a:p>
            <a:pPr lvl="1"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PRR385, Negative Price Floor </a:t>
            </a:r>
            <a:endParaRPr b="0" lang="en-US" sz="2000" spc="-1" strike="noStrike">
              <a:solidFill>
                <a:srgbClr val="000000"/>
              </a:solidFill>
              <a:latin typeface="Arial Black"/>
            </a:endParaRPr>
          </a:p>
        </p:txBody>
      </p:sp>
      <p:graphicFrame>
        <p:nvGraphicFramePr>
          <p:cNvPr id="103" name=""/>
          <p:cNvGraphicFramePr/>
          <p:nvPr/>
        </p:nvGraphicFramePr>
        <p:xfrm>
          <a:off x="228600" y="762120"/>
          <a:ext cx="8763120" cy="5578200"/>
        </p:xfrm>
        <a:graphic>
          <a:graphicData uri="http://schemas.openxmlformats.org/drawingml/2006/table">
            <a:tbl>
              <a:tblPr/>
              <a:tblGrid>
                <a:gridCol w="2397240"/>
                <a:gridCol w="6365880"/>
              </a:tblGrid>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an administrative Real-Time Settlement Point Price floor of negative $251/MWh for Resource Nodes, Hubs and Load Z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7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7/21/11, PRS unanimously voted to recommend approval of NPRR385 as amended by the 6/21/11 Luminant Energy comments.  On 10/18/12, PRS voted via roll call vote to endorse the 7/21/11 PRS Report for NPRR385 as amended by the 10/16/12 Luminant Energy comments and to request that NPRR385 return to the 11/15/12 PRS meeting with an Impact Analysis.  There were six opposing votes from the Consumer (3) and Municipal (3) Market Segments.  On 11/15/12, PRS endorsed and forwarded the 10/18/12 PRS Report as amended by the 11/14/12 ERCOT comments and Impact Analysis for NPRR385 to TAC with a recommended priority of 2013 and rank of 367.  There was one opposing vote from the Consumer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3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70k - $90k; impacts to MMS, PVT, and EM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of costs of congestion for ERCOT and Market Participants use in effective planning and investment decisions; and Improvement in market efficiency results in accurate pricing signals and improved consumer conf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NPRR461, </a:t>
            </a:r>
            <a:r>
              <a:rPr b="0" lang="en-US" sz="1800" spc="-1" strike="noStrike">
                <a:solidFill>
                  <a:srgbClr val="000000"/>
                </a:solidFill>
                <a:latin typeface="Arial Black"/>
              </a:rPr>
              <a:t>Energy Storage Settlements Consistent With PUCT Project 39917 – URGENT</a:t>
            </a:r>
            <a:r>
              <a:rPr b="1" lang="en-US" sz="1800" spc="-1" strike="noStrike">
                <a:solidFill>
                  <a:srgbClr val="000000"/>
                </a:solidFill>
                <a:latin typeface="Arial Black"/>
              </a:rPr>
              <a:t> </a:t>
            </a:r>
            <a:endParaRPr b="0" lang="en-US" sz="1800" spc="-1" strike="noStrike">
              <a:solidFill>
                <a:srgbClr val="000000"/>
              </a:solidFill>
              <a:latin typeface="Arial Black"/>
            </a:endParaRPr>
          </a:p>
        </p:txBody>
      </p:sp>
      <p:graphicFrame>
        <p:nvGraphicFramePr>
          <p:cNvPr id="106" name=""/>
          <p:cNvGraphicFramePr/>
          <p:nvPr/>
        </p:nvGraphicFramePr>
        <p:xfrm>
          <a:off x="228600" y="838080"/>
          <a:ext cx="8763120" cy="5632560"/>
        </p:xfrm>
        <a:graphic>
          <a:graphicData uri="http://schemas.openxmlformats.org/drawingml/2006/table">
            <a:tbl>
              <a:tblPr/>
              <a:tblGrid>
                <a:gridCol w="2397240"/>
                <a:gridCol w="6365880"/>
              </a:tblGrid>
              <a:tr h="1341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modifies the Protocols to implement the process for Settlement of energy storage consistent with PUCT Project No. 39917, Rulemaking on Energy Storage Issues, as adopted in P.U.C. Subst. R. 25.192, Transmission Service Rates and P.U.C. Subst. R. 25.501, Wholesale Market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5/12, PRS voted to grant NPRR461 Urgent status.  There was one opposing vote from the Consumer Market Segment and one abstention from the Independent Generator Market Segment.  PRS then voted to recommend approval of NPRR461 as amended by the 11/12/12 ERCOT comments and as revised by PRS with a recommended priority of 2013 and rank of 60 and to forward to TAC.  There was one opposing vote from the Consumer Market Segment and two abstentions from the Consumer and Independent Generator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 (prelimina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k - $300k; impacts to MMS, EMS, S&amp;B, CSI, NMMS, and EIS.  ERCOT will update its business functions.  Impacts to Grid Operations and Practices are currently being asses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s ERCOT business practices with PUCT Project No. 39917; and clearly defines process for energy storage Settle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PRR473, </a:t>
            </a:r>
            <a:r>
              <a:rPr b="0" lang="en-US" sz="2000" spc="-1" strike="noStrike">
                <a:solidFill>
                  <a:srgbClr val="000000"/>
                </a:solidFill>
                <a:latin typeface="Arial Black"/>
              </a:rPr>
              <a:t>Process for Submission of Generation Resource Weatherization Information</a:t>
            </a:r>
            <a:br>
              <a:rPr sz="2000"/>
            </a:br>
            <a:endParaRPr b="0" lang="en-US" sz="2000" spc="-1" strike="noStrike">
              <a:solidFill>
                <a:srgbClr val="000000"/>
              </a:solidFill>
              <a:latin typeface="Arial Black"/>
            </a:endParaRPr>
          </a:p>
        </p:txBody>
      </p:sp>
      <p:graphicFrame>
        <p:nvGraphicFramePr>
          <p:cNvPr id="108" name=""/>
          <p:cNvGraphicFramePr/>
          <p:nvPr/>
        </p:nvGraphicFramePr>
        <p:xfrm>
          <a:off x="152280" y="752400"/>
          <a:ext cx="8763120" cy="5496120"/>
        </p:xfrm>
        <a:graphic>
          <a:graphicData uri="http://schemas.openxmlformats.org/drawingml/2006/table">
            <a:tbl>
              <a:tblPr/>
              <a:tblGrid>
                <a:gridCol w="2397240"/>
                <a:gridCol w="6365880"/>
              </a:tblGrid>
              <a:tr h="2057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reates a process to accommodate the legislatively mandated submission of generator emergency operations plans; requires separate submission of weatherization plans for each Generation Resource; proposes a semi-annual weatherization declaration to determine ERCOT System preparedness; and clarifies that all information designated as Protected Information is considered Protected Information, unless it is expressly deemed otherwise by by Protoco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8/12, PRS voted to recommend approval of NPRR473 as amended by the 10/9/12 ERCOT comments and as revised by PRS.  There was one abstention from the Independent Generator Market Segment.   On 11/15/12, PRS voted to endorse and forward the 10/18/12 PRS Report as revised by PRS and Impact Analysis for NPRR473 to TAC.  There was one abstention from the Consumer Market Seg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to budget or systems.  ERCOT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s collection of Generation Resource weatherization information is required by statute and P.U.C. Subst. R. 25.362</a:t>
                      </a:r>
                      <a:r>
                        <a:rPr b="0" i="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PRR483, </a:t>
            </a:r>
            <a:r>
              <a:rPr b="0" lang="en-US" sz="2000" spc="-1" strike="noStrike">
                <a:solidFill>
                  <a:srgbClr val="000000"/>
                </a:solidFill>
                <a:latin typeface="Arial Black"/>
              </a:rPr>
              <a:t>REC Program Renewable Resource Self-Reporting MWH Production Data and Metering Requirements</a:t>
            </a:r>
            <a:r>
              <a:rPr b="1" lang="en-US" sz="2000" spc="-1" strike="noStrike">
                <a:solidFill>
                  <a:srgbClr val="000000"/>
                </a:solidFill>
                <a:latin typeface="Arial Black"/>
              </a:rPr>
              <a:t> </a:t>
            </a:r>
            <a:br>
              <a:rPr sz="2000"/>
            </a:br>
            <a:endParaRPr b="0" lang="en-US" sz="2000" spc="-1" strike="noStrike">
              <a:solidFill>
                <a:srgbClr val="000000"/>
              </a:solidFill>
              <a:latin typeface="Arial Black"/>
            </a:endParaRPr>
          </a:p>
        </p:txBody>
      </p:sp>
      <p:graphicFrame>
        <p:nvGraphicFramePr>
          <p:cNvPr id="110" name=""/>
          <p:cNvGraphicFramePr/>
          <p:nvPr/>
        </p:nvGraphicFramePr>
        <p:xfrm>
          <a:off x="228600" y="762120"/>
          <a:ext cx="8763120" cy="5476680"/>
        </p:xfrm>
        <a:graphic>
          <a:graphicData uri="http://schemas.openxmlformats.org/drawingml/2006/table">
            <a:tbl>
              <a:tblPr/>
              <a:tblGrid>
                <a:gridCol w="2397240"/>
                <a:gridCol w="6365880"/>
              </a:tblGrid>
              <a:tr h="155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vides an option for a renewable All-Inclusive Generation Resource to self-report quarterly MWh production data to ERCOT for use in the REC Trading Program; and establishes metering requirements for any renewable All-Inclusive Generation Resource choosing to self-report MWh production data for use in the REC Trading Progra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8/12, PRS voted to recommend approval of NPRR483 as amended by the 9/20/12 CenterPoint Energy comments.  There was one abstention from the Independent Generator Market Segment.  On 11/15/12, PRS unanimously voted to endorse and forward the 10/18/12 PRS Report and Impact Analysis for NPRR483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82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ment of ERCOT Protocols with P.U.C. SUBST. R. 25.173; provides option for self-reporting generation data; provides option for Renewable All-Inclusive Generation Resource Facilities to self-report their Settlement quality MWh production data; defines metering requirements for Renewable All-Inclusive Generation Resource Facilities that elect to self-report their Settlement quality MWh production data to 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PRR488, </a:t>
            </a:r>
            <a:r>
              <a:rPr b="0" lang="en-US" sz="2000" spc="-1" strike="noStrike">
                <a:solidFill>
                  <a:srgbClr val="000000"/>
                </a:solidFill>
                <a:latin typeface="Arial Black"/>
              </a:rPr>
              <a:t>Resource Entity and LSE QSE Designation or Change</a:t>
            </a:r>
            <a:r>
              <a:rPr b="1" lang="en-US" sz="2000" spc="-1" strike="noStrike">
                <a:solidFill>
                  <a:srgbClr val="000000"/>
                </a:solidFill>
                <a:latin typeface="Arial Black"/>
              </a:rPr>
              <a:t> </a:t>
            </a:r>
            <a:br>
              <a:rPr sz="2000"/>
            </a:br>
            <a:endParaRPr b="0" lang="en-US" sz="2000" spc="-1" strike="noStrike">
              <a:solidFill>
                <a:srgbClr val="000000"/>
              </a:solidFill>
              <a:latin typeface="Arial Black"/>
            </a:endParaRPr>
          </a:p>
        </p:txBody>
      </p:sp>
      <p:graphicFrame>
        <p:nvGraphicFramePr>
          <p:cNvPr id="112" name=""/>
          <p:cNvGraphicFramePr/>
          <p:nvPr/>
        </p:nvGraphicFramePr>
        <p:xfrm>
          <a:off x="228600" y="838080"/>
          <a:ext cx="8763120" cy="5334120"/>
        </p:xfrm>
        <a:graphic>
          <a:graphicData uri="http://schemas.openxmlformats.org/drawingml/2006/table">
            <a:tbl>
              <a:tblPr/>
              <a:tblGrid>
                <a:gridCol w="2397240"/>
                <a:gridCol w="6365880"/>
              </a:tblGrid>
              <a:tr h="1143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timing for when a Resource Entity or LSE is required to designate or change a QSE and secure ERCOT approval of the QSE acknowledgment prior to commencing with operation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8/12, PRS voted to recommend approval of NPRR488 as amended by the 10/17/12 ERCOT comments.  There was one abstention from the Independent Power Marketer (IPM) Market Segment.  On 11/15/12, PRS unanimously voted to endorse and forward the 10/18/12 PRS Report and Impact Analysis for NPRR488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6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revisions acknowledges that the Market Participant may need a period of time to prepare for market entry as a new LSE or Resource Entity with new Resource prior to the start of business and operational transactions in the ERCOT Market or during periods the LSE or Resource Entity have no market activity; and provides clarification when the QSE must be design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ERCOT</cp:lastModifiedBy>
  <dcterms:modified xsi:type="dcterms:W3CDTF">2012-11-28T16:17:51Z</dcterms:modified>
  <cp:revision>661</cp:revision>
  <dc:subject/>
  <dc:title>Instructions</dc:title>
</cp:coreProperties>
</file>