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1423-9F3C-4AFA-BD7D-F57379953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+6 impacts become moderate due to Holiday concerns, suggestion was introduced to handle holidays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84A7-EBC9-4F68-9EE3-B460EB748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BFC2-FC81-4755-959F-FC3F3D5E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0384-37FF-497D-8B75-8BA28748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A1DD-1B1C-4679-A4A7-D1336262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C5B6-DDC4-4E96-A7C3-69C5508D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8FEB-167C-4BAA-8E6F-C2277C6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BA93-2A22-4488-8931-34EFE75E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EB3D-1112-45E8-B649-C21D2C60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1D44-EA18-4530-A1A2-8CA7824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D159-A833-4015-9C4C-634D041E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069A-1C89-4E42-9D4D-0F3BF14D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0254-3B42-4813-B46E-961FA093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247C-BF95-48A3-8E17-C06153C2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B2C8-9812-4C69-8D0D-C1211E407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F312-9FE1-4B9C-979D-D90F4A97C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828440"/>
            <a:ext cx="6477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l Time Settlement Timeline Workshop Debrief To TAC 11/29/201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76160" y="3504960"/>
            <a:ext cx="63435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valuation and consideration of reducing the RT Settlement Time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im Galvin- CSWG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860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sponse to PUCT comments on the Open Meeting of 9/28/2012 under Project No. 40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ng a settlement timeline that meets the requirements of FERC order 741 and recommendations from CF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tion of existing changes to Protocols (NPRR 34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directed by COPS, CSWG and COPS held a joint workshop to discuss and evaluate further reducing the Real Time Settlement time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shop focused on evaluating the history of the RT Settlement process and the challenges experienced in the p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s learned from the evolution of T+3 to T+17, reduced back to T+10 and subsequently T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and issues evaluated potential impacts to systems, processes, data accuracy and integrity and data validation measured against the benefits to credit exposur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shop Synopsi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as support for reducing the timeline to the 6-8 day peri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Quo was requested as an option for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ith this support, stakeholders and ERCOT staff indicated there would be imp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to systems, processes, staffing and data availability and accuracy were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6-8 day reduction, impacts were considered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as consensus that reducing the timeline to 5-days or fewer would create a significant impact to stakeholders and ERCOT sta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as consensus that a transitional approach should be consid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f the goal was to target T+7, begin with a reduction to T+8 and evaluate for a period of time until a determination to move to the T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ints of Consensu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10663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+ (6-8) impacts would be minimal, T+&lt;5, impacts would be significant across all stakeholders and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focused on data availability and accuracy, concerns increase as the timeline decre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 may need to change to accommodate reduction, for example ERCOT running Data Aggregation and Settlements on the same 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xceptions and validation such as LSE files from TDSPs, VEE responsibilities, remote meter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rrors in settlements and the dispute process, how soon could errors be resett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noted that the transition to NPRR 347 primarily drives this concern regardless of how short the timeline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ing concerns, further timeline crunch around holidays for ERCOT staff and stakehol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mpacts-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10663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is cleared more tim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exposure and default risk are reduced especially during times of  volatile settlement activ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tions in the amount of collateral posted by stakehol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orm with FERC Order 741 as with other ISO/RTO entities for “best in class” consid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ERCOT complies 90+% with FERC 7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enefits to Reduc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920" y="10663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/COPs attendees agreed to bring back to TAC the following recommend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review of concerns from all stakeholders and ERCOT staff,  consensus was reached on reducing the settlement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up agreed that targeting a desired reduction to T+7 would be a near term goal to keep impacts in the minimal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up also agreed on a transition approach by starting at T+8 for a period of time and evaluating the impacts as we transition to the near term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,CSWG and COPS would continue to work on determining the success criteria of meeting the goal and other items for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timeline reduces, the group would weigh opportunities for reducing the timeline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shop Determin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shop Other Items for Consider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duction of the settlement timeline may bring instances of data errors or inaccura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wise, NPRR 347 now places RT Statements on a daily invo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to NPRR 347, ERCOT could conduct a resettlement in the event of an identified error and potentially resettle prior to the issuance of the RT in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 347 eliminates that opport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up determined that the dispute process and resettlement trigger (“2% Error) should be evaluated to ensure that potential data anomalies and/or errors can be resettled as soon as 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Statement: Reducing the Real Time Settlement timeline 1-day provides benefits with minimal impacts; however, as we reduce the timeline further those impacts become moderate to significant.  Stakeholders appear to favor a transitional approach to evaluate impacts of a 1-day decrease in the timeline, evaluate impacts of the 1-day decrease and consider opportunities to decrease further based on analysis of impacts and benefits to a 1-day decr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and CSWG suggested next step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ERCOT Staff on an implementation approach and time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necessary NPRRs for tran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of exit criteria to reduce the timeline from starting 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metrics and/or methodologies for measuring impacts and benefits to evaluate further reductions in the time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MCj04344110000[1]"/>
          <p:cNvPicPr/>
          <p:nvPr/>
        </p:nvPicPr>
        <p:blipFill>
          <a:blip r:embed="rId1"/>
          <a:stretch/>
        </p:blipFill>
        <p:spPr>
          <a:xfrm>
            <a:off x="2666880" y="251460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Registered User</cp:lastModifiedBy>
  <dcterms:modified xsi:type="dcterms:W3CDTF">2012-11-28T21:07:31Z</dcterms:modified>
  <cp:revision>562</cp:revision>
  <dc:subject/>
  <dc:title>Instructions</dc:title>
</cp:coreProperties>
</file>