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5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0"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1"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EEFD-98A9-4AA1-BFFD-EB94512EA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EF34-311E-4999-9504-52A93F4A9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A010D-9C6F-4D5A-866E-38CC5EECF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19D89-7EE1-47DC-8E8C-0856E93A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ECAD43-DE91-43F5-A9E8-6194987320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47020-E9E1-4E7D-B045-26C3641555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655C2-839C-4157-BB8E-309C4595F6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DDC440-73A3-49B4-B5A8-FEC5F573C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914F0-16E3-4F77-8FAC-69946168A5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1747F3-D593-4A2C-A2A4-056C5ADD7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C7B6B-A666-4CCC-AD59-4EF099A672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19A192-F13C-4B67-9355-FB2E6F46AE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3826CC-D3E8-4F63-A57E-5739648A41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947153-20AC-461B-9272-14EA0FC840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16A1B-F057-4451-933C-37E4E586A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D6CD5F-970C-4733-9576-2F53DCF7AA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B8E00F-E176-4EEB-8C51-4334398616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7004AB-4DB2-47F1-B10B-CD7FA8C19F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309E43-26CE-43A6-B2AD-55D549F97E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210B98-412C-4D16-9949-919D417525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2868B7-1065-4E72-AE14-87CC5F72AF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81D58A-45DB-4DAE-9D35-FEEEDB06F1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2F54F5-D088-4B37-AED2-A0D2283500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D55DAD-0F61-4EE5-83DF-F459FB9C47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F2B4A2-804B-4A55-91C8-780A707A20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29C74-ED12-4F66-9ACE-7583D5893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DB8462-948E-49E6-945D-4DFDC474FA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BE9CB9-777B-4760-86E5-93716C91F8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F69B80-E0D0-4BF3-AB29-A013B6666B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427C5A-91D6-49A1-92DF-6D1359A728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2BE82A-57FE-4974-8C0F-E018C5BA7B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3A8D9D-64C1-4DD6-BD65-D66301079E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F0A533-5F14-4B45-9745-5E30777D14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22C5DE-BA26-45CC-8830-005ACCE556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40C9D3-0786-4C87-A955-1E7E834AD0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D342C0-1F94-4FF1-AABD-9FE08CD03C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7ABA7-010F-4BCB-882E-C58880E47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630BDA-C3E7-47B6-A2EC-1244E6AFB3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543AE8-DBC0-4764-BE1E-B65585CEBA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DB0A7D-35A1-43C9-B087-312B7A098F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140800-E7B6-4262-B2DC-85E439AB1C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AFEE28-6D9B-4D33-BF8D-B13D864683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47289E-6838-4FD7-8D78-184B0C99A0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140D6B-C642-41DB-92F2-54E33A2878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3AB5AA-5E60-4734-9280-3D35F3832E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5BCA0E-8C0D-4465-B0FD-F76254B9A5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FF8F59-7E4F-4389-AAF1-7F33B0B011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0C1D9-D52C-489A-BAE7-E24C3CE4B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A6AA58-40D8-4B09-9E21-AB9B8952C7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E1BEB9-B4B2-43A7-A162-11FEDD2841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E08A99-6975-4EA1-8CF9-022A2A949D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8666A6-A7BF-4FB3-996D-BC8529BD23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267BE8-F3AD-46B5-98DE-7EEC737686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B3216-B094-485E-95BB-49502E588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11692-44C0-45D6-97CC-AF207ECB3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72F62-4B6A-4340-8816-95143340E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3165B-5FD4-4464-957E-6E926BB13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75C18-9519-4E6F-8894-D47E7EC28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3D292-B7FC-4429-A858-26C0276FE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962A6-F5BA-48D3-8DF8-E308883CB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059A1-0AEA-4C78-834E-175DC1590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D68C9-9B70-4FD8-870B-3C2021075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8170B-EE70-459F-9FF4-DD165B8A5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29C9A-8D88-4A02-B77E-ABD16EA2B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713CBA-DF4C-49C7-8776-E4C95354B0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7A352-B952-4162-A78F-74E41DED4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7640D-3FCC-4E31-8553-A1D7261AB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C4B68-0A17-40DD-A95B-4AC67F6CF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EE4E4-9C42-4B94-8670-772E24EBC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972C7-FBC9-40C8-B8DE-908621FA0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E74BA-5847-43CC-93A4-3E14FFE04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E5C24-4C67-4C0E-A1A3-981CE3D3F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0708F-053E-49E7-9CD3-A9375D9BF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70013-8E51-45B5-982C-CF3FE77B2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07BA84-18AC-4529-BCD1-105808B66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0CAF37-B274-45D3-A831-76B58165FD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C35747-7F3F-421D-920C-00C3C31E86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021B98-9BD7-4ACC-836B-366931B31A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9761E-2AE6-44C9-9AD4-4064FFC88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7E9C6-E087-4F23-8806-DEA97EB894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9C985-708B-4ADC-B7C9-A61CA6B3C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F9F1B-308A-4EB4-98C8-AA585CAC7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74A45-2948-4387-9162-8DA7EE99D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E234B-9DE7-4F2E-A522-019B4438F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4C1DD-F065-4123-AE92-709812C67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DF39C-432C-4258-A221-023F04240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5BAD7-92A7-4CED-B160-50FA76F22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79062-C7CA-491E-B98A-55541E234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BEA8EC-DE23-4CC0-BCB2-B4C19D78A5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407AC3-357C-40A3-BF8A-C5C7042583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6B5AC2-6798-4BB6-8EFD-844C5481DF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F7729-800F-4DCB-8941-70A6B3FBA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E97F21-A340-43F9-BDE7-7EEDD97F58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50AE6B-0B13-435D-B7DB-DD63A5F584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A7414F-B34B-4224-9279-E49AAA042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2B530-601E-4000-9292-E2C9DBA34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BF47C-8264-4596-AAF9-1F83B574D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C935C-E0BC-4F16-95A2-4EE5C089E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15B22-EA82-4CEB-AA68-B99EF760F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BCF82-4DA0-4725-8B49-9D93A73F7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6178AD-BCFA-4B52-BA79-CE4AD4DC93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AEF6E4-5395-4457-8B3C-BA2FBB8CBD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9EF99-9F1A-4726-8A91-250EBFF10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F9E329-5456-4898-8C5A-8620A4E3EE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434301-D38A-4274-AD50-58F03E8B13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6C7DD-3330-415B-A05C-F44428C7B3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CF3D68-D24E-4874-A7C3-F3F64726A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B4301B-CD3A-454C-824F-D96CE3A63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9D649-16EF-4632-BB2F-D35E1856E6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F9D2D-0BDF-44E4-A6A8-451CCCE8ED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7BCBA-C16C-42FC-A5F3-4B9715800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E5D909-FD2D-4E15-8820-88C81911A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9A22A-506A-4A49-9DAD-A09D06270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18F8C-E1DF-4064-8497-37514EC7E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22FBA-EC82-420B-A83A-1FA99025F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144559-CD51-4119-9664-385C6AFA79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4E5F1C-1212-41D2-BABC-3C7FFB9F30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D261B-DC5A-424B-B16F-04F96F1E97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91064E-76C3-44DA-A11A-4B049B7C84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F1B808-DBF9-4305-B2D8-F57D39D77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A984B-0439-4720-9404-F3E2D59A8F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C19C2-2B28-4256-8D0B-CF3018A2C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6D3B4C-0833-4149-902B-731A1348C1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4A17E-29CE-4CC9-81A3-AA7549679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2A95B-320E-43CA-B7C2-6BB45869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9C7BF-4CDD-4424-A681-5B2D7FD2A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39086-4BFB-45D2-99B5-80E3D9CD7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21B8A6-DB0A-411F-A5EE-C211616FB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1B4ABD-B191-41F0-8DC9-24A5FD36BC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835614-5188-4124-9D0E-7E91B9823B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7809F5-134E-44E3-8E61-E175C2B7A6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BD438-E9AF-46E4-9DC5-765375DF07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90965F-250A-47B1-9484-9CA1337E5E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15A842-D18D-423E-B09F-2C93A5FF79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DAEEAB-D0C8-4368-A218-BA132FBD2A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E29D6-0565-4C22-B1CF-3269AEAA5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227C2F-A0F6-4A87-B837-6E0874FCE9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0DE60B-032D-41E4-8D8E-253307C6F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64E03-58A4-4D5C-B7B9-88A252958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284DB-F376-4BFE-A062-21AA4C8EA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F51F2E-5A3F-475E-83F7-7638EA03D9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2DF036-7E1A-495F-9D07-97998A4E0C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82592B-458F-4261-B0D2-ED772EFCEF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6F0DBA-06CA-4A25-ADA3-9C1D9DB830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5B6DBA-573E-40CA-A6C7-D3E15C3425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A2BA74-860A-40BF-8B6F-C4A3684E7B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5"/>
          <p:cNvGrpSpPr/>
          <p:nvPr/>
        </p:nvGrpSpPr>
        <p:grpSpPr>
          <a:xfrm>
            <a:off x="210960" y="5354640"/>
            <a:ext cx="8723520" cy="1330200"/>
            <a:chOff x="210960" y="5354640"/>
            <a:chExt cx="8723520" cy="1330200"/>
          </a:xfrm>
        </p:grpSpPr>
        <p:sp>
          <p:nvSpPr>
            <p:cNvPr id="433"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4"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5"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6"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7"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3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40"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7CF7-FE11-429D-8066-32FA6CC468B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15"/>
          <p:cNvGrpSpPr/>
          <p:nvPr/>
        </p:nvGrpSpPr>
        <p:grpSpPr>
          <a:xfrm>
            <a:off x="210960" y="1679400"/>
            <a:ext cx="8723520" cy="1330560"/>
            <a:chOff x="210960" y="1679400"/>
            <a:chExt cx="8723520" cy="1330560"/>
          </a:xfrm>
        </p:grpSpPr>
        <p:sp>
          <p:nvSpPr>
            <p:cNvPr id="48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8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88"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C199-B06B-41BF-BCF3-52AD4B54A37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15"/>
          <p:cNvGrpSpPr/>
          <p:nvPr/>
        </p:nvGrpSpPr>
        <p:grpSpPr>
          <a:xfrm>
            <a:off x="210960" y="714240"/>
            <a:ext cx="8723520" cy="1332000"/>
            <a:chOff x="210960" y="714240"/>
            <a:chExt cx="8723520" cy="1332000"/>
          </a:xfrm>
        </p:grpSpPr>
        <p:sp>
          <p:nvSpPr>
            <p:cNvPr id="52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3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36"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B357-555E-42F1-92E3-3534A833B8B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15"/>
          <p:cNvGrpSpPr/>
          <p:nvPr/>
        </p:nvGrpSpPr>
        <p:grpSpPr>
          <a:xfrm>
            <a:off x="210960" y="1679400"/>
            <a:ext cx="8723520" cy="1330560"/>
            <a:chOff x="210960" y="1679400"/>
            <a:chExt cx="8723520" cy="1330560"/>
          </a:xfrm>
        </p:grpSpPr>
        <p:sp>
          <p:nvSpPr>
            <p:cNvPr id="9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5"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777240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FC00-B058-4286-A437-D3AFB550C71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7773840" y="6248520"/>
            <a:ext cx="1160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4228-2BEB-42A0-9C6D-437098C3EBC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15"/>
          <p:cNvGrpSpPr/>
          <p:nvPr/>
        </p:nvGrpSpPr>
        <p:grpSpPr>
          <a:xfrm>
            <a:off x="210960" y="1679400"/>
            <a:ext cx="8723520" cy="1330560"/>
            <a:chOff x="210960" y="1679400"/>
            <a:chExt cx="8723520" cy="1330560"/>
          </a:xfrm>
        </p:grpSpPr>
        <p:sp>
          <p:nvSpPr>
            <p:cNvPr id="19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777240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8E71-CE7D-4105-B78A-2CBD4E9616D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1679400"/>
            <a:ext cx="8723520" cy="1330560"/>
            <a:chOff x="210960" y="1679400"/>
            <a:chExt cx="8723520" cy="1330560"/>
          </a:xfrm>
        </p:grpSpPr>
        <p:sp>
          <p:nvSpPr>
            <p:cNvPr id="24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777240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38D4-CB16-4862-A804-A7070F616CA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1679400"/>
            <a:ext cx="8723520" cy="1330560"/>
            <a:chOff x="210960" y="1679400"/>
            <a:chExt cx="8723520" cy="1330560"/>
          </a:xfrm>
        </p:grpSpPr>
        <p:sp>
          <p:nvSpPr>
            <p:cNvPr id="28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777240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06B0-6A8D-46C7-BCAA-99562BA3A4B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5"/>
          <p:cNvGrpSpPr/>
          <p:nvPr/>
        </p:nvGrpSpPr>
        <p:grpSpPr>
          <a:xfrm>
            <a:off x="210960" y="714240"/>
            <a:ext cx="8723520" cy="1330560"/>
            <a:chOff x="210960" y="714240"/>
            <a:chExt cx="8723520" cy="1330560"/>
          </a:xfrm>
        </p:grpSpPr>
        <p:sp>
          <p:nvSpPr>
            <p:cNvPr id="337"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8"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0"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779616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681B-6A14-4EA1-8933-FCD9CC28C05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23"/>
          <p:cNvGrpSpPr/>
          <p:nvPr/>
        </p:nvGrpSpPr>
        <p:grpSpPr>
          <a:xfrm>
            <a:off x="210960" y="714240"/>
            <a:ext cx="8723520" cy="1332000"/>
            <a:chOff x="210960" y="714240"/>
            <a:chExt cx="8723520" cy="1332000"/>
          </a:xfrm>
        </p:grpSpPr>
        <p:sp>
          <p:nvSpPr>
            <p:cNvPr id="38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9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9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CB98-3ABC-40FE-97AD-E86033BE80C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olesale Market Subcommittee Update </a:t>
            </a:r>
            <a:endParaRPr b="0" lang="en-US" sz="4400" spc="-1" strike="noStrike">
              <a:solidFill>
                <a:srgbClr val="ffffff"/>
              </a:solidFill>
              <a:latin typeface="Candara"/>
            </a:endParaRPr>
          </a:p>
        </p:txBody>
      </p:sp>
      <p:sp>
        <p:nvSpPr>
          <p:cNvPr id="58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echnical Advisory Committee Meeting</a:t>
            </a:r>
            <a:endParaRPr b="0" lang="en-US" sz="20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November 29, 2012</a:t>
            </a:r>
            <a:endParaRPr b="0" lang="en-US" sz="2000" spc="-1" strike="noStrike">
              <a:solidFill>
                <a:srgbClr val="073e87"/>
              </a:solidFill>
              <a:latin typeface="Candara"/>
            </a:endParaRPr>
          </a:p>
        </p:txBody>
      </p:sp>
      <p:sp>
        <p:nvSpPr>
          <p:cNvPr id="584" name="Slide Number Placehold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62E3-76AE-45AE-B24C-5DAFF1C95712}"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871560" y="2437920"/>
            <a:ext cx="7408800" cy="3886200"/>
          </a:xfrm>
          <a:prstGeom prst="rect">
            <a:avLst/>
          </a:prstGeom>
          <a:noFill/>
          <a:ln w="0">
            <a:noFill/>
          </a:ln>
        </p:spPr>
        <p:txBody>
          <a:bodyPr anchor="t">
            <a:normAutofit fontScale="98000"/>
          </a:bodyPr>
          <a:p>
            <a:pPr marL="267120" indent="-2671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ligns the SMOG NPRR454, Removal of Unfunded Project List Language, which removed language regarding the Unfunded Project List.</a:t>
            </a:r>
            <a:endParaRPr b="0" lang="en-US" sz="2000" spc="-1" strike="noStrike">
              <a:solidFill>
                <a:srgbClr val="073e87"/>
              </a:solidFill>
              <a:latin typeface="Candara"/>
            </a:endParaRPr>
          </a:p>
          <a:p>
            <a:pPr marL="267120" indent="-2671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lso aligns the SMOG with the Protocols by requiring ERCOT’s opinion in the TAC Report for any SMOGRR requiring an ERCOT project for implementation.</a:t>
            </a:r>
            <a:endParaRPr b="0" lang="en-US" sz="2000" spc="-1" strike="noStrike">
              <a:solidFill>
                <a:srgbClr val="073e87"/>
              </a:solidFill>
              <a:latin typeface="Candara"/>
            </a:endParaRPr>
          </a:p>
          <a:p>
            <a:pPr marL="267120" indent="-2671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odifies the scope of the Administrative SMOGRR definition to include revisions for the purpose of maintaining consistency between Section 10, Process for Settlement Metering Operating Guide Revisions, and Protocol Section 21, Revision Request Process.</a:t>
            </a:r>
            <a:endParaRPr b="0" lang="en-US" sz="2000" spc="-1" strike="noStrike">
              <a:solidFill>
                <a:srgbClr val="073e87"/>
              </a:solidFill>
              <a:latin typeface="Candara"/>
            </a:endParaRPr>
          </a:p>
          <a:p>
            <a:pPr marL="267120" indent="-2671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Looking for a motion from TACto APPROVE SMOGRR013</a:t>
            </a:r>
            <a:endParaRPr b="0" lang="en-US" sz="2000" spc="-1" strike="noStrike">
              <a:solidFill>
                <a:srgbClr val="073e87"/>
              </a:solidFill>
              <a:latin typeface="Candara"/>
            </a:endParaRPr>
          </a:p>
        </p:txBody>
      </p:sp>
      <p:sp>
        <p:nvSpPr>
          <p:cNvPr id="586" name="Slide Number Placeholder 5"/>
          <p:cNvSpPr/>
          <p:nvPr/>
        </p:nvSpPr>
        <p:spPr>
          <a:xfrm>
            <a:off x="7772400" y="624852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23D2-D6B1-4651-82C5-7184619CD9F4}"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5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SMOGRR013,</a:t>
            </a:r>
            <a:r>
              <a:rPr b="0" lang="en-US" sz="4000" spc="-1" strike="noStrike">
                <a:solidFill>
                  <a:srgbClr val="ffffff"/>
                </a:solidFill>
                <a:latin typeface="Candara"/>
              </a:rPr>
              <a:t> </a:t>
            </a:r>
            <a:r>
              <a:rPr b="0" lang="en-US" sz="2800" spc="-1" strike="noStrike">
                <a:solidFill>
                  <a:srgbClr val="ffffff"/>
                </a:solidFill>
                <a:latin typeface="Candara"/>
              </a:rPr>
              <a:t>Synchronization with NPRR454, Modification of Administrative SMOGRR Definition</a:t>
            </a:r>
            <a:r>
              <a:rPr b="0" lang="en-US" sz="4400" spc="-1" strike="noStrike">
                <a:solidFill>
                  <a:srgbClr val="ffffff"/>
                </a:solidFill>
                <a:latin typeface="Candara"/>
              </a:rPr>
              <a:t>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5:57:50Z</dcterms:created>
  <dc:creator>David Canter</dc:creator>
  <dc:description/>
  <dc:language>en-US</dc:language>
  <cp:lastModifiedBy>JBevill</cp:lastModifiedBy>
  <dcterms:modified xsi:type="dcterms:W3CDTF">2012-11-27T16:41:30Z</dcterms:modified>
  <cp:revision>16</cp:revision>
  <dc:subject/>
  <dc:title>FERC Order 1000 Compliance </dc:title>
</cp:coreProperties>
</file>