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7A11-2EE4-41F8-B006-0257E034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19091-83F8-4913-ADA0-0A37B2EF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01239-E95F-467B-B8AA-AA686612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DABD-0B39-4840-88C4-BEC3B00C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816C-AA08-4CF6-A7AD-A58EF5F5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E5FA-2B67-4C3F-B7B2-31415F50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2A0E-FF43-4822-AC74-9BC86E65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4D876-0AEC-44C1-8CAD-86D0A450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2106-2E1E-450D-97C2-C6CE63DA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C40A-3987-4545-8D4B-8625B842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ABDF-3434-4B13-9D32-F2AE663B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1A3B-A299-48C8-B83A-EBD9CEEF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64F5-3204-48BC-B089-D85085579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2506-60A3-42E6-8F25-3A278CC77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 29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361960" y="29714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ob Bevi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Market Subcommitte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838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Voting Items this Mon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e Future Voting I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MGRR1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rocess Updates for the Request of Historical Usage Data via Smart Meter Texas Web Por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237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s new process for third parties to obtain 15-min historical usage via the S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237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s that 15-min historical usage data is not provided by TDUs in current LOA process for historical 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23724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nding design decisions by A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2372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MGRR1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Updates to Standard Historical Usage Requ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237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rifies that an applicant at a new residence may authorize the TDU to release 12-mos of historical usage, despite not having lived in the premise during the past 12 m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23724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nding direction from PUCT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Market Subcommitte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’s Proposed Digital Certificate F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ong opposition voiced by RMS member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RCOT processes force MPs to maintain high volumes of D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ther ISOs processes require fewer DCs at lower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 assessment has been done by ERCOT to seek to lower DC related costs i.e. review practices of other IS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cent changes were made with TX SET 4.0 that require additional DCs be maintained by certain MPs.  If MPs were aware of a potential fee, alternative designs would have been conside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a fee is approved, MPs should be given time to attempt to reduce their DC volumes prior to the fee becoming effectiv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Market Subcommitte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yland Transition to Competi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yland Transition Task Fo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procedures to transition Sharyland's Stanton, Colorado City, Brady, and Celeste divisions into ERCOT on May 1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s that do not select a competitive REP will be allocated to default service R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41,000 ESI IDs and ~18,000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rst Meeting on Tuesday, Dec. 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at MET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Market Subcommitte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Meter Deployment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.2 million meter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ERCOT load settled with 15-mi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evill, Rob</dc:creator>
  <dc:description/>
  <dc:language>en-US</dc:language>
  <cp:lastModifiedBy>Bevill, Rob</cp:lastModifiedBy>
  <dcterms:modified xsi:type="dcterms:W3CDTF">2012-11-27T17:16:08Z</dcterms:modified>
  <cp:revision>175</cp:revision>
  <dc:subject/>
  <dc:title>Instructions</dc:title>
</cp:coreProperties>
</file>