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A0A4-FF53-408F-B2BF-D151D5A6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FBBC-5A52-41C9-8F65-C16EF245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A9D7-AACB-421C-AD03-67970F34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F3D1-4350-456F-AA13-2E36763D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A98F-69D4-4781-B224-F145C9ED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C1B7-069F-4C0E-967D-BEA0AC7D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DB36-EF1F-4D47-A396-6CE43768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F349-E564-4601-8BCE-1F1272EE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33B7-FF09-4F93-952F-7476B3A3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6A66-B7D2-4B1A-A2EE-D58D161F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3C73-7F2E-409E-837E-FFFEFDE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B190-063F-4A1E-9FDA-90314A5D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C43F-24AB-4DCF-A8A5-A2BF7D648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5478-8DBF-467F-8201-573FA2236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Market Guide &amp; COPS Handbook – Upcoming Chang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E539-FDDF-4223-B14D-498A705CD0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1295280"/>
          <a:ext cx="8153280" cy="5029200"/>
        </p:xfrm>
        <a:graphic>
          <a:graphicData uri="http://schemas.openxmlformats.org/drawingml/2006/table">
            <a:tbl>
              <a:tblPr/>
              <a:tblGrid>
                <a:gridCol w="744480"/>
                <a:gridCol w="3238560"/>
                <a:gridCol w="187200"/>
                <a:gridCol w="743040"/>
                <a:gridCol w="3240000"/>
              </a:tblGrid>
              <a:tr h="193680"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S Market Gu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Operations Hand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 &amp; Disclaimer Stat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24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for Commercial Operations Market Guide Rev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for Commercial Operations Market Guide Revision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Notice Communication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Communication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System Model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System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to Settlement Process and Data Aggregation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nvoice and Settlement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nvoice and Settlement Proces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to Settlement Algorithms (SEWG owns – ETA Q2 20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regation (Overview 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reg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24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s and Re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s and Repor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utes and Data Extract Variance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utes and Data Extract Vari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ewable Energy Credi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ewable Energy 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55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 (CR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Pay and Market Participant Default Process (Overview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Pay and Market Participant Default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 A (do not need in Handbook – remov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CWG</cp:lastModifiedBy>
  <dcterms:modified xsi:type="dcterms:W3CDTF">2011-10-27T16:40:01Z</dcterms:modified>
  <cp:revision>159</cp:revision>
  <dc:subject/>
  <dc:title>Instructions</dc:title>
</cp:coreProperties>
</file>