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A24D-F29E-4444-B828-5C00F97B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9499-F04B-4559-AB17-20625BA9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5088-1537-4BC8-8422-05C82670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C482-0D6C-44F3-BA47-D4ECB7C1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8F2F-E208-437E-83DF-4F30389E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A6CF-DAAC-4DD0-9B06-4A861596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0C56-5075-4C61-BBA6-CAA6DA50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EC14-0ADC-41ED-AABE-E41183D5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8BED-0535-447B-B337-D01BE538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AD90-EF9A-49DE-AADB-13A3A04B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FD19-C833-40AD-9AB2-74286405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1146-A7A2-400F-9C91-0C2BC0AB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5777-7A40-4DD2-9DF4-318F6FC6F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82A9-09DC-4D10-83EB-0C54214F28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BBE1-F2D9-478D-B17A-620FD6B9B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6EB2-4A86-49CC-8A49-CF3E98B2899E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92468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Pilot Project for Fast Responding Regulation Service (FRRS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2640" y="350496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une 13, 2012 WMS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une 14, 2012 R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FRRS-Up and FRRS-Down Deployment Logic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adband for FRRS trigger (±0.03 H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ployment peri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ployment period when frequency degrades fur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ca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ximum continuous deployment dur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ly similar logic for Down-Regulation for high frequ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RCOT may make additional parameter changes during pilot as nee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RRS deployment signal logic will be shared with the pilot Resourc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6"/>
          <p:cNvSpPr/>
          <p:nvPr/>
        </p:nvSpPr>
        <p:spPr>
          <a:xfrm>
            <a:off x="5334120" y="6400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5"/>
          <p:cNvSpPr/>
          <p:nvPr/>
        </p:nvSpPr>
        <p:spPr>
          <a:xfrm>
            <a:off x="5486400" y="645804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763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requency Decay Slop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5333760"/>
          </a:xfrm>
          <a:prstGeom prst="rect">
            <a:avLst/>
          </a:prstGeom>
          <a:ln w="0">
            <a:noFill/>
          </a:ln>
        </p:spPr>
      </p:pic>
      <p:cxnSp>
        <p:nvCxnSpPr>
          <p:cNvPr id="133" name="Straight Arrow Connector 8"/>
          <p:cNvCxnSpPr/>
          <p:nvPr/>
        </p:nvCxnSpPr>
        <p:spPr>
          <a:xfrm flipV="1">
            <a:off x="3428640" y="2666520"/>
            <a:ext cx="1080" cy="99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V="1">
            <a:off x="3580920" y="3047400"/>
            <a:ext cx="1080" cy="99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Straight Arrow Connector 11"/>
          <p:cNvCxnSpPr/>
          <p:nvPr/>
        </p:nvCxnSpPr>
        <p:spPr>
          <a:xfrm flipV="1">
            <a:off x="3733560" y="3276000"/>
            <a:ext cx="1080" cy="99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Straight Arrow Connector 12"/>
          <p:cNvCxnSpPr/>
          <p:nvPr/>
        </p:nvCxnSpPr>
        <p:spPr>
          <a:xfrm flipV="1">
            <a:off x="3885840" y="3809520"/>
            <a:ext cx="1080" cy="99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Potential benefits of FR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3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ptly arrest frequency decay during unit tr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inishing use of traditional reg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in Regulation capacity procu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frequency control at a lower overall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6"/>
          <p:cNvSpPr/>
          <p:nvPr/>
        </p:nvSpPr>
        <p:spPr>
          <a:xfrm>
            <a:off x="5334120" y="645804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How is FRRS Procured during the Pilot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RS-up and FRRS-down amounts are specified in advance for each hour.  For the pilot, ERCOT will procure up to 65 MW per hour for FRRS-up and will procure up to 35 MW per hour for FRRS-down. No changes are made to the existing REGUP and REGDN requirem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has a list of “Qualified” FRRS Pilot Resources.  Each Wednesday QSEs inform ERCOT of the amounts available for Saturday through Frida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rorates amounts to Pilot Resources as necessary.  Final quantities sent to QSEs (for the upcoming week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 for Pilot Resources shall reflect the final schedule as REGUP and REGD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5334120" y="645804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How is FRRS is Priced and Paid for during the Pilot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ettlements performs settlement by creating appropriate SASM data cuts. Current REGUP and REGDN bill determinants are used. A SASM is NOT executed by the operato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 clearing prices shall be used to price the FRRS awar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st for pilot MWs procured are paid for similar to other 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ments can be made depending on actual availability and perform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6"/>
          <p:cNvSpPr/>
          <p:nvPr/>
        </p:nvSpPr>
        <p:spPr>
          <a:xfrm>
            <a:off x="5334120" y="645804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Pilot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point presentations at WMS, ROS  and ETWG in June and Ju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ions and comments due to ERCOT 6-27-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lans to present updates at July WMS and ROS meetings (7/11 and 7/12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Governing Document to be posted by 7-26-12.  (7 days before TA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lans to present at 8/2/12 TAC meet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approval for Pilot at the 9/18/12 BOD meet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y Pilot Resources 9/18/12 through 4/30/13 (end of pilot).  [6 month Pilot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procurements with Operating Day 11-1-12.  Continue for 6 months unless stopped early by ERCOT. Extensions of pilot may be considered during first 6 month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5334120" y="645804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Other Inf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updates to be provided to TAC during Pilot Projec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expected that ERCOT will need to engage a contractor equivalent to .5 to 1 FTE for the duration of the Pilot Projec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 cost for REGUP over the last 6 months has been about $9/MW and for REGDN has been about $6/MW.  The estimated cost for 6 months of FRRS procurement from pilot resources is estimated to be about $3.4 Mill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6"/>
          <p:cNvSpPr/>
          <p:nvPr/>
        </p:nvSpPr>
        <p:spPr>
          <a:xfrm>
            <a:off x="5334120" y="645804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16256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br>
              <a:rPr sz="5400"/>
            </a:br>
            <a:br>
              <a:rPr sz="54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lease send suggestions and comments to WMS or ROS exploder or ssharma@ercot.com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kragsdale@ercot.com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before COB 6-27-12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Footer Placeholder 6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ining Grid Inertia of ERCOT Interconne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Frequency Profile Jan 2011 through Feb-20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Frequency Profile – 4 seco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CPS1 S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fications and Performance Crite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pose of FRRS Pilot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FR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do we need 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 Regulation Deployment Log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regulation to complement the traditional regul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ed benefits of Fast Responding Reg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will FRRS be procured (priced and paid for) in the Pilot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Schedule for the Pilo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6"/>
          <p:cNvSpPr/>
          <p:nvPr/>
        </p:nvSpPr>
        <p:spPr>
          <a:xfrm>
            <a:off x="5791320" y="64580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Declining Inertial Frequency Response in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380880" y="5638680"/>
            <a:ext cx="7925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ookman Old Style"/>
              </a:rPr>
              <a:t>http://www.ercot.com/content/gridinfo/etts/keydocs/System_Inertial_Frequency_Response_Estimation_and_Impact_of_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91360" cy="4647960"/>
          </a:xfrm>
          <a:prstGeom prst="rect">
            <a:avLst/>
          </a:prstGeom>
          <a:ln w="0">
            <a:noFill/>
          </a:ln>
        </p:spPr>
      </p:pic>
      <p:sp>
        <p:nvSpPr>
          <p:cNvPr id="99" name="Straight Connector 8"/>
          <p:cNvSpPr/>
          <p:nvPr/>
        </p:nvSpPr>
        <p:spPr>
          <a:xfrm>
            <a:off x="1371600" y="3200400"/>
            <a:ext cx="281952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0"/>
          <p:cNvSpPr/>
          <p:nvPr/>
        </p:nvSpPr>
        <p:spPr>
          <a:xfrm flipH="1">
            <a:off x="1218960" y="3809880"/>
            <a:ext cx="289548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>
            <a:off x="4114440" y="3200040"/>
            <a:ext cx="1080" cy="610200"/>
          </a:xfrm>
          <a:prstGeom prst="straightConnector1">
            <a:avLst/>
          </a:prstGeom>
          <a:ln w="25560">
            <a:solidFill>
              <a:srgbClr val="ff99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cxnSp>
        <p:nvCxnSpPr>
          <p:cNvPr id="104" name="Straight Arrow Connector 5"/>
          <p:cNvCxnSpPr/>
          <p:nvPr/>
        </p:nvCxnSpPr>
        <p:spPr>
          <a:xfrm>
            <a:off x="1904760" y="4419360"/>
            <a:ext cx="1143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Straight Arrow Connector 6"/>
          <p:cNvCxnSpPr/>
          <p:nvPr/>
        </p:nvCxnSpPr>
        <p:spPr>
          <a:xfrm>
            <a:off x="1523520" y="5409720"/>
            <a:ext cx="1143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Straight Arrow Connector 7"/>
          <p:cNvCxnSpPr/>
          <p:nvPr/>
        </p:nvCxnSpPr>
        <p:spPr>
          <a:xfrm flipH="1">
            <a:off x="6095160" y="4876560"/>
            <a:ext cx="12200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9"/>
          <p:cNvCxnSpPr/>
          <p:nvPr/>
        </p:nvCxnSpPr>
        <p:spPr>
          <a:xfrm flipH="1">
            <a:off x="6476760" y="5486040"/>
            <a:ext cx="12196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Footer Placeholder 10"/>
          <p:cNvSpPr/>
          <p:nvPr/>
        </p:nvSpPr>
        <p:spPr>
          <a:xfrm>
            <a:off x="5334120" y="645804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ERCOT Frequency Profile Jan 2011 through Feb-2012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315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79132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7"/>
          <p:cNvSpPr/>
          <p:nvPr/>
        </p:nvSpPr>
        <p:spPr>
          <a:xfrm>
            <a:off x="5334120" y="64008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Pilot FRRS Qualification Criteria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providing FRRS must be able to follow FRRS signal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requesting FRRS-up qualific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 algn="just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able to respond to large frequency decay triggered by loss of 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 algn="just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providing FRRS must provide full MW response within 60 cycles after frequency hits 59.91 Hz trigg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 algn="just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pability must be demonstrated by the Resource Entity using high speed Frequency and MW data with resolution no less than 32 samples per seco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 algn="just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demonstration, the Resource Entity may use off-set of -0.2 Hz to demonstrate the MW respon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6"/>
          <p:cNvSpPr/>
          <p:nvPr/>
        </p:nvSpPr>
        <p:spPr>
          <a:xfrm>
            <a:off x="5334120" y="645804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Pilot FRRS Qualification Criteria (continue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requesting FRRS-down qualific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respond to high frequ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providing FRRS must provide full MW response within 60 cycles after frequency hits 60.09 Hz trigg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pability must be demonstrated by the Resource Entity using high speed Frequency and MW data with resolution no less than 32 samples per seco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purpose of demonstration, the Resource Entity may use off-set of +0.2 Hz to demonstrate the MW respo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providing FRRS (Up and Down) must be able to continuously remain deployed for up to 8 minutes with 95% or more of the requested MW for successful qualificat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that successfully demonstrate the requirement above will be qualified as FRRS capable Resources for the capacity that was requested for qualificat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6"/>
          <p:cNvSpPr/>
          <p:nvPr/>
        </p:nvSpPr>
        <p:spPr>
          <a:xfrm>
            <a:off x="5334120" y="645804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FRRS Performance Criteria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providing Fast Responding Regulation Service shall meet the following performance crite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 response provided by Resources carrying FRRS in response to ERCOT FRRS signal shall be at least 95% and less than 110 % of the ERCOT deployment instruction for that Resourc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must meet the requirement stated in (1) for 95% of all deployments within a month.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FRRS-up is not fully deployed, for sudden frequency decay where frequency declines lower than 59.91 Hz, Resources providing FRRS-up shall immediately and appropriately respond to the declining frequency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FRRS-down is not fully deployed, for sudden frequency deviation that may cause frequency to exceed 60.09 Hz, Resources providing FRRS-down shall immediately and appropriately respond to frequency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to meet the requirement (2) will lead to reduction in capacity pay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6"/>
          <p:cNvSpPr/>
          <p:nvPr/>
        </p:nvSpPr>
        <p:spPr>
          <a:xfrm>
            <a:off x="5334120" y="645804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Purpose of the FRRS pilot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er and analyze data to assist in determining the potential improvements in ERCOTs ability to arrest frequency decay during unit trips due to the presence of FR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er and analyze data to assist in determining the potential reductions of current regulation that would be appropriate due to the presence of FR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operational benefit and challenges of procuring and deploying FR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er and analyze data to assist ERCOT in developing settlement methodologies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rrent reg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use a pay for performance approach similar to what is specified in FERC Order 755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sandip sharma</dc:creator>
  <dc:description/>
  <dc:language>en-US</dc:language>
  <cp:lastModifiedBy>TAC</cp:lastModifiedBy>
  <dcterms:modified xsi:type="dcterms:W3CDTF">2012-06-11T20:49:05Z</dcterms:modified>
  <cp:revision>210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rmation Classification">
    <vt:lpwstr>ERCOT Limited</vt:lpwstr>
  </property>
</Properties>
</file>