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05566-AC5D-4877-9FAE-52C22E8A0C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A060-DABA-4A97-AC6B-50817C02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4B03-87F1-46BB-8E03-0C45EA67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FA87E-D83A-44B6-B743-6F04D5C512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23D80-7E84-4E3E-A6AA-375C129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9F17-5599-4081-95A0-D5C28C04C2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3171-0573-4F23-B8BC-D57E1AD0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EDF1-65AD-4E03-8558-2F3B2147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DA6B-E857-455E-8172-9FED12C7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7353-C6DF-4B92-ACDA-3EA45E68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BB3E-C7E0-4017-93BB-9478E41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DAEA-098A-4077-9404-45CCD793E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8D5C-332F-450A-9378-C9B42C02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1B52-7DE4-4EA5-88A4-B0427725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0F80-9C81-4E7B-9C8C-9A990E0F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3EC2-B4B3-4CBE-BB78-C4F78F6C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4262-8DB3-460F-80E4-63BC06EB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0247-E578-4E69-AAFC-47DCB8F30B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0B087-8829-41F0-A0A7-55B8E324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A095-D225-4019-B769-C43E6DA6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67B1-AD07-450B-8A97-6A1520EB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43B4-3F63-425A-BC77-77676C136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A242-621D-4022-B551-C0EB15CB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8530-FCB5-4451-8497-DA41213E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7506-D291-483E-94E8-BBF74A4D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A445-5B54-47AD-B4CB-69570D7F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9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82C5-0404-4868-81A0-B3FE1E20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13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4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1BEB-96A1-4258-A897-DF41321F2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14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8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46B6-5375-4914-B239-69A01102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15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E7DB-782F-4339-A678-558A6322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3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86F-A36F-47FA-A3E0-3DD492D83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17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08A1-1927-446B-9EC8-428B6C236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8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22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0D86-39DD-40BE-8525-8BDB44BD6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9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26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BEFE-A440-473C-BE3B-F417869C4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0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1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BD3D-0FF0-46FC-A56A-E92AACCF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1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63360" y="6235560"/>
            <a:ext cx="908064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354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3"/>
          <p:cNvSpPr/>
          <p:nvPr/>
        </p:nvSpPr>
        <p:spPr>
          <a:xfrm>
            <a:off x="4114800" y="634356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79BA-7315-4784-A4A8-3535DAEE3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12"/>
          </p:nvPr>
        </p:nvSpPr>
        <p:spPr>
          <a:xfrm>
            <a:off x="1143000" y="6333840"/>
            <a:ext cx="2819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 X   ERCOT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917280" y="2923920"/>
            <a:ext cx="7311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enneth Ragsda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incipal, Market Design &amp;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912960" y="1456920"/>
            <a:ext cx="731664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b 9: ERCOT Pilot Project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ast Responding Regulation Service (FRR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Rectangle 20"/>
          <p:cNvSpPr/>
          <p:nvPr/>
        </p:nvSpPr>
        <p:spPr>
          <a:xfrm>
            <a:off x="914400" y="4343400"/>
            <a:ext cx="63435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ard of Director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ERCOT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ptember 18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posed Pilot Schedul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poses the following timeline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 14, 2012: Qualification of FRRS Resources ope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5, 2013: ERCOT begins accepting offers for first week of pilo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7, 2013: ERCOT notifies Resources of first week’s commit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19, 2013: ERCOT begins deployment of FRR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1, 2013: ERCOT provides preliminary report to Board on FRRS (monthly updates will be provided to ETWG and PDCWG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9, 2013: Pilot terminates (unless extended by Board or terminated earlier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gust/September 2013: ERCOT provides final report on pilot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ummary of Stakeholder Review Proces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discussed FRRS proposal 15 times at various stakeholder group meetings beginning in June 2012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ing Technologies Working Group, QSE Managers Working Group, Performance Disturbance Compliance Working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 Market Subcommittee, Reliability Operations Sub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and comments from Market Participants and the various subcommittees have been addressed at stakeholder meetings and through formal written responses. ERCOT has revised the pilot based on this feedback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itial draft Governing Document was posted on 8/23/12 and revised based on written comments and discussions at 9/7/12 TAC meeting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7200" y="10663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Fast Responding Regulation Service (FRRS)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 Benefits of FR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the FRRS Pilo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Qualification and Performance Criter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and Settlement of FR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Implementation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ed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Stakeholder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8077320" y="63244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What is Fast Responding Regulation Service (FRRS)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is an Ancillary Service requiring participating Resources to ramp to full output within 60 cycles of an instruction or triggering ev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is intended to complement current Regulation Servic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is intended to respond first and help slow down the frequency decay while other Resources start to resp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is intended to respond to large frequency drops to promptly help arrest the frequency dec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ISO, New York ISO, PJM, ISO New England and MISO will have or already have fast responding regulation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otential Benefits of FR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ptly arrest frequency decay during unit tri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use of traditional regula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quantity of Regulation capacity required to be procur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better frequency control at a lower overall co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urpose of the FRRS Pilot Progra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and analyze data to determine potential improvements in ERCOT’s ability to arrest frequency decay during unit trips due to FR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and analyze data to determine potential reductions in procurement of current Regulation due to FR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operational benefit and challenges of procuring and deploying FR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and analyze data to assist ERCOT in developing settlement methodologies for FRRS and current Regulation that use a pay-for-performance approach like that specified in FERC Order 755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RRS Performance Criteria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providing Fast Responding Regulation Service (FRRS-Up, FRRS-Down, or both) must meet the following performance criteri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ust be able to detect and respond to ERCOT’s FRRS signal within 60 cycles of receiving the sign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ust be able to automatically detect frequency deviations of .09Hz from 60Hz and provide full capacity response within 60 cyc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Resources must provide at least 95% and no more than 110% of the obligated MW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provide the obligated MW within the required time for 30% or more of the deployments during any hour shall be deemed a failure to provide and will result in clawback for that hou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curement of FR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conduct a weekly procurement of FRRS in which it will procure up to 65 MW per hour for FRRS-Up and up to 35 MW per hour for FRRS-Down. No changes are made to the existing REGUP and REGDN require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uesday, QSEs representing qualified FRRS Resources inform ERCOT of the amounts available for the following Saturday through Friday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prorate awards as necessary and send weekly awards to QSEs each Thursda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Resources shall update COPs to reflect the final schedule as REGUP or REGD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of FRR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RS Resources are paid the DAM clearing price for Regulation Service multiplied by the quantity of awarded FRRS MW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creates SASM data cuts to reflect FRRS awards using REGUP and REGDN bill determinants.  The operators do not actually execute a SAS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s for FRRS will be assessed against QSEs according to Load Ratio Shar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claw back payments for all hours in which FRRS Resources failed their performance oblig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jected Cos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sonnel 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t is expected that ERCOT will need to engage a contractor equivalent to .5 to 1 FTE for the duration of the pilot proje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urement Cos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verage cost for REGUP over the last 6 months has been about $9/MW and for REGDN has been about $6/MW.  Based on these costs, the cost for 6 months of FRRS procurement is estimated to be about $3.4 Mill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Date Placeholder 5"/>
          <p:cNvSpPr/>
          <p:nvPr/>
        </p:nvSpPr>
        <p:spPr>
          <a:xfrm>
            <a:off x="1143000" y="6334200"/>
            <a:ext cx="7543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 9                                                                                                                                           ERCOT 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Wilkins, Tisa</dc:creator>
  <dc:description/>
  <dc:language>en-US</dc:language>
  <cp:lastModifiedBy>ERCOT Legal</cp:lastModifiedBy>
  <dcterms:modified xsi:type="dcterms:W3CDTF">2012-09-11T20:24:11Z</dcterms:modified>
  <cp:revision>62</cp:revision>
  <dc:subject/>
  <dc:title>Instructions</dc:title>
</cp:coreProperties>
</file>