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8F15-24B0-4DF9-BC9E-F1F2E0865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3EB4-403E-45DC-ABF8-8030710BFC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310C-1CBE-44B0-9046-1A4363945C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086E-18BB-4D2E-A24C-3E4AF68764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61E35-759D-40B7-9010-69F6C8568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00C40-80E3-408D-B4F9-399F79EF0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57D7B-457F-44A3-8D98-4405BB4D0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BC476-BE45-4A24-A52B-79AB63440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5EEA5-04C6-40D3-9B97-DE5EB5071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4A854-E008-42AD-BE83-961EBB0F7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F2BAB-2668-4769-9005-1FD5DCBED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E35A0-11D3-4F7C-9EBD-707552CB6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75E01-D634-4748-BB7B-EA25A7A7B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0903E-0224-4F67-B426-1F8959820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FF56D-B2C4-42EE-BAA8-350AE3650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64194-59C9-4B4B-86C0-11F5690C3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3E7D3-7B9A-40D9-93F9-6E9ABCA72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C81DF-B071-4A91-8A9A-C60BB9A7E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27598-AD3E-4FFB-B249-F9AD3A413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43A9D-383F-430A-B81C-369B6A374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75A67-6BC0-4518-83DF-CF272EE9C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1625D-8BB4-4312-8E72-377BF647F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0B87F-0ED4-4B58-8B6C-264B72F41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B6C67-E149-4441-BF1B-9E44238F5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CC723-6798-43BC-BD07-15067F2C8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B05FA-3D62-498F-A624-6C3596E13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12FED-3C5C-420F-BCB6-1AF2DE031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C4D4-4479-425F-9AB6-1100B3B39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C90B-8126-4A72-A060-710581AFC40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B4A8-9C70-44F1-949B-8E43C182FA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351080" y="4032000"/>
            <a:ext cx="6858000" cy="1600200"/>
          </a:xfrm>
          <a:prstGeom prst="rect">
            <a:avLst/>
          </a:prstGeom>
          <a:noFill/>
          <a:ln w="0">
            <a:noFill/>
          </a:ln>
        </p:spPr>
        <p:txBody>
          <a:bodyPr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Arial"/>
              </a:rPr>
              <a:t>ROS Meeting</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Arial"/>
              </a:rPr>
              <a:t>November 8</a:t>
            </a:r>
            <a:r>
              <a:rPr b="1" lang="en-US" sz="2800" spc="-1" strike="noStrike" baseline="30000">
                <a:solidFill>
                  <a:srgbClr val="330033"/>
                </a:solidFill>
                <a:latin typeface="Arial"/>
              </a:rPr>
              <a:t>th</a:t>
            </a:r>
            <a:r>
              <a:rPr b="1" lang="en-US" sz="2800" spc="-1" strike="noStrike">
                <a:solidFill>
                  <a:srgbClr val="330033"/>
                </a:solidFill>
                <a:latin typeface="Arial"/>
              </a:rPr>
              <a:t>, 2012</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type="title"/>
          </p:nvPr>
        </p:nvSpPr>
        <p:spPr>
          <a:xfrm>
            <a:off x="322200" y="736200"/>
            <a:ext cx="856944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Arial"/>
              </a:rPr>
              <a:t>SSWG 13DSB Case Preparation</a:t>
            </a:r>
            <a:br>
              <a:rPr sz="4400"/>
            </a:br>
            <a:r>
              <a:rPr b="0" lang="en-US" sz="4400" spc="-1" strike="noStrike">
                <a:solidFill>
                  <a:srgbClr val="330033"/>
                </a:solidFill>
                <a:latin typeface="Arial"/>
              </a:rPr>
              <a:t>Extraordinary Dispatch</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62C2-C82C-4F3F-B1A3-CCE796FDCD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630000" y="137880"/>
            <a:ext cx="8453160" cy="128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Arial"/>
              </a:rPr>
              <a:t>SSWG Procedure Manual Excerpt</a:t>
            </a:r>
            <a:endParaRPr b="0" lang="en-US" sz="4400" spc="-1" strike="noStrike">
              <a:solidFill>
                <a:srgbClr val="330033"/>
              </a:solidFill>
              <a:latin typeface="Times New Roman"/>
            </a:endParaRPr>
          </a:p>
        </p:txBody>
      </p:sp>
      <p:sp>
        <p:nvSpPr>
          <p:cNvPr id="108" name="Rectangle 1"/>
          <p:cNvSpPr/>
          <p:nvPr/>
        </p:nvSpPr>
        <p:spPr>
          <a:xfrm>
            <a:off x="630360" y="1539720"/>
            <a:ext cx="84531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3.1 </a:t>
            </a:r>
            <a:r>
              <a:rPr b="1" lang="en-US" sz="1800" spc="-1" strike="noStrike">
                <a:solidFill>
                  <a:srgbClr val="000000"/>
                </a:solidFill>
                <a:latin typeface="Arial"/>
              </a:rPr>
              <a:t>	</a:t>
            </a:r>
            <a:r>
              <a:rPr b="1" lang="en-US" sz="1800" spc="-1" strike="noStrike">
                <a:solidFill>
                  <a:srgbClr val="000000"/>
                </a:solidFill>
                <a:latin typeface="Arial"/>
              </a:rPr>
              <a:t>Extraordinary Dispatch Condi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occasion, the total load plus the spinning reserve indicated above in later year cases can exceed the amount of available generation due to load forecasts in later year cases.  SSWG base cases typically model load at individual coincident TSP peaks instead of at the ERCOT coincident system peak.  When such a condition is encountered in future cases, ERCOT may increase generation resources by taking the indicated action, or adding generation, in the following or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 ties dispatched to increase transfers into ERCOT to the full capacity of the DC ti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NOIE generation with prior NOIE consent</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hballed units that have not announced their return to service.  The methodology for this procedure is detailed below.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spinning reserv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publicly announced plants without interconnect agreement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start Unit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generation resources at the sites of retired un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Arial"/>
              </a:rPr>
              <a:t>13DSB Case Implementation</a:t>
            </a:r>
            <a:endParaRPr b="0" lang="en-US" sz="4400" spc="-1" strike="noStrike">
              <a:solidFill>
                <a:srgbClr val="330033"/>
              </a:solidFill>
              <a:latin typeface="Times New Roman"/>
            </a:endParaRPr>
          </a:p>
        </p:txBody>
      </p:sp>
      <p:sp>
        <p:nvSpPr>
          <p:cNvPr id="110"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E444-5B60-4C05-974E-1E07961F68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Rectangle 1"/>
          <p:cNvSpPr/>
          <p:nvPr/>
        </p:nvSpPr>
        <p:spPr>
          <a:xfrm>
            <a:off x="641520" y="2290680"/>
            <a:ext cx="8423280" cy="433116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13DSB’s 14SUM1, 15SUM1 and 16SUM1 Case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1 through 4 were employed.</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ying need for mothballed uni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13DSB 16MIN Cas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xtraordinary dispatch was require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13DSB 17SUM1 Cas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1 through 4 were employed.</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hballed units were fully dispatched.</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unit with rolling service date amendments was fully dispatche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13DSB 18SUM1 Case:</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1 through 4 were employe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units with rolling service date amendments were dispatched. </a:t>
            </a:r>
            <a:endParaRPr b="0" lang="en-US" sz="1800" spc="-1" strike="noStrike">
              <a:solidFill>
                <a:srgbClr val="000000"/>
              </a:solidFill>
              <a:latin typeface="Arial"/>
            </a:endParaRPr>
          </a:p>
        </p:txBody>
      </p:sp>
      <p:sp>
        <p:nvSpPr>
          <p:cNvPr id="112" name="TextBox 6"/>
          <p:cNvSpPr/>
          <p:nvPr/>
        </p:nvSpPr>
        <p:spPr>
          <a:xfrm>
            <a:off x="422280" y="1492200"/>
            <a:ext cx="8721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Summarized Implementation from ‘Extraordinary Dispatch’ Docu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Filed on POI Web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38280" y="112680"/>
            <a:ext cx="8385120" cy="130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Arial"/>
              </a:rPr>
              <a:t>Pending PGRRs</a:t>
            </a:r>
            <a:br>
              <a:rPr sz="4400"/>
            </a:br>
            <a:r>
              <a:rPr b="0" lang="en-US" sz="4400" spc="-1" strike="noStrike">
                <a:solidFill>
                  <a:srgbClr val="330033"/>
                </a:solidFill>
                <a:latin typeface="Arial"/>
              </a:rPr>
              <a:t>(2013 Case-Building)</a:t>
            </a:r>
            <a:endParaRPr b="0" lang="en-US" sz="4400" spc="-1" strike="noStrike">
              <a:solidFill>
                <a:srgbClr val="330033"/>
              </a:solidFill>
              <a:latin typeface="Times New Roman"/>
            </a:endParaRPr>
          </a:p>
        </p:txBody>
      </p:sp>
      <p:sp>
        <p:nvSpPr>
          <p:cNvPr id="114"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F31C-EFD0-4431-B251-654E04A824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TextBox 6"/>
          <p:cNvSpPr/>
          <p:nvPr/>
        </p:nvSpPr>
        <p:spPr>
          <a:xfrm>
            <a:off x="606600" y="1778040"/>
            <a:ext cx="8537400" cy="152676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mbria"/>
              </a:rPr>
              <a:t>PGRR018: Additional Prerequisites for Modeling New Gene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t>
            </a:r>
            <a:endParaRPr b="0" lang="en-US" sz="20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ommitment and Notice to Proceed; </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Notification of Requisite Air Permits; and</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ed Rights to Sufficient Water</a:t>
            </a:r>
            <a:endParaRPr b="0" lang="en-US" sz="1800" spc="-1" strike="noStrike">
              <a:solidFill>
                <a:srgbClr val="000000"/>
              </a:solidFill>
              <a:latin typeface="Arial"/>
            </a:endParaRPr>
          </a:p>
        </p:txBody>
      </p:sp>
      <p:sp>
        <p:nvSpPr>
          <p:cNvPr id="116" name="TextBox 6"/>
          <p:cNvSpPr/>
          <p:nvPr/>
        </p:nvSpPr>
        <p:spPr>
          <a:xfrm>
            <a:off x="606600" y="3654360"/>
            <a:ext cx="8537400" cy="122184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mbria"/>
              </a:rPr>
              <a:t>PGRRxxx: SSWG 6-Year Case</a:t>
            </a:r>
            <a:endParaRPr b="0" lang="en-US" sz="20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 and Planning Guide language is under PLWG review for inclusion of a 6</a:t>
            </a:r>
            <a:r>
              <a:rPr b="0" lang="en-US" sz="1800" spc="-1" strike="noStrike" baseline="30000">
                <a:solidFill>
                  <a:srgbClr val="000000"/>
                </a:solidFill>
                <a:latin typeface="Arial"/>
              </a:rPr>
              <a:t>th</a:t>
            </a:r>
            <a:r>
              <a:rPr b="0" lang="en-US" sz="1800" spc="-1" strike="noStrike">
                <a:solidFill>
                  <a:srgbClr val="000000"/>
                </a:solidFill>
                <a:latin typeface="Arial"/>
              </a:rPr>
              <a:t> Year-Out case into SSWG’s DSB cases</a:t>
            </a:r>
            <a:endParaRPr b="0" lang="en-US" sz="1800" spc="-1" strike="noStrike">
              <a:solidFill>
                <a:srgbClr val="000000"/>
              </a:solidFill>
              <a:latin typeface="Arial"/>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DSB Cases: Will include 2020 Case and Load Forecast</a:t>
            </a:r>
            <a:endParaRPr b="0" lang="en-US" sz="1800" spc="-1" strike="noStrike">
              <a:solidFill>
                <a:srgbClr val="000000"/>
              </a:solidFill>
              <a:latin typeface="Arial"/>
            </a:endParaRPr>
          </a:p>
        </p:txBody>
      </p:sp>
      <p:sp>
        <p:nvSpPr>
          <p:cNvPr id="117" name="TextBox 6"/>
          <p:cNvSpPr/>
          <p:nvPr/>
        </p:nvSpPr>
        <p:spPr>
          <a:xfrm>
            <a:off x="0" y="51451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mbria"/>
              </a:rPr>
              <a:t>*Both of these PGRRs are anticipated to exacerbate the issue of limited generation availabil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8:16:24Z</dcterms:created>
  <dc:creator>American Electric Power®</dc:creator>
  <dc:description/>
  <dc:language>en-US</dc:language>
  <cp:lastModifiedBy>Bradley L Myers</cp:lastModifiedBy>
  <dcterms:modified xsi:type="dcterms:W3CDTF">2012-11-01T23:25:26Z</dcterms:modified>
  <cp:revision>412</cp:revision>
  <dc:subject/>
  <dc:title>PowerPoint Presentation</dc:title>
</cp:coreProperties>
</file>