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B49-64C7-448A-B0F2-ADD25374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EBD-2286-45D6-877A-987203E0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170-0662-4BC1-9B58-1D7EC946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536-0787-4E60-B98A-E2339EE5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7A0-1B45-4101-88C2-F9C7974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B446-28F3-461D-82AC-1D94C40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EC7-AC90-4E4F-A9EA-4B2CAFB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80F-FC8B-4602-B512-432077D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8D8-5E14-4875-965A-2D4E8DF9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4F6-6233-4447-B7EF-DB76BC1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787-B448-4C65-BFD0-CB98D1C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951-E9CF-4A77-A373-6B20D390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815-BF99-49BE-92DE-A9967079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77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Ke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S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dney Niemeyer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G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ber 3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 was moved to Nov. 2 and combined with QM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RR486 &amp; the regulation bias that is the main driver of the NP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NOGRR &amp; NPRR draft for RRS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y for ROS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focus on developing language to address concerns of PDC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RR4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ed at November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ulation offset phenomena was illustrated and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ibuting elements were identified a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ion dev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SL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Forecast Err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or Offse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cy dev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d 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RCOT analysis focused on Generator issu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nalysis is needed to identify all dri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RR 4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ment for metrics and reports to evaluate effectiveness of tuning eff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on item to define metrics and develop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TBD options were discus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sensus from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BD2 was favored with modifications to add a dynamic factor based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COT will draft SCR to recommend GTBD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oup did reach consensus to recommend Tabling NPRR 486 until the SCR is drafted and submitt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GRR 1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 Resource Frequency Response Test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Governor test form for Controllable Loa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s typographical errors in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G to consider language at November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RRS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295280" y="2895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51:50Z</dcterms:created>
  <dc:creator>PDCWG</dc:creator>
  <dc:description/>
  <dc:language>en-US</dc:language>
  <cp:lastModifiedBy>David Kee</cp:lastModifiedBy>
  <dcterms:modified xsi:type="dcterms:W3CDTF">2012-11-06T23:06:04Z</dcterms:modified>
  <cp:revision>97</cp:revision>
  <dc:subject/>
  <dc:title>Slide 1</dc:title>
</cp:coreProperties>
</file>