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653E47-E7D3-47B0-8A57-51C2AC3DFFD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2A0988-B805-4AEB-9F76-2BFA38E7A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BA0B2F-7B2D-444C-A09D-29C325841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2D378C-1E45-4294-9611-7D0475776FD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146775-8507-4682-9C24-D6D7C258A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640522-F1D6-44CD-9C20-98EB473B5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CE30A1-05D0-4E26-AFDF-03F05E7B1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AFC71E-4863-46A8-8B0E-2D514C92F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F53D53-44FA-41B7-8206-BD6444B87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5ECD77-5BBC-41C9-89AE-CBCADE695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05F126-7F68-451D-8DD1-5629D7427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E93F8C-A512-46C2-98D2-8DC0782A7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6C14A-58A9-4A6A-83F1-005E493F51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8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3"/>
          <p:cNvSpPr/>
          <p:nvPr/>
        </p:nvSpPr>
        <p:spPr>
          <a:xfrm>
            <a:off x="6181560" y="634356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C8415-B8E9-4689-812B-0676E0F83B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dt" idx="2"/>
          </p:nvPr>
        </p:nvSpPr>
        <p:spPr>
          <a:xfrm>
            <a:off x="1143000" y="6333840"/>
            <a:ext cx="2819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 X ERCOT Public/Confidential/Restric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6" name="Picture 8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397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13"/>
          <p:cNvSpPr/>
          <p:nvPr/>
        </p:nvSpPr>
        <p:spPr>
          <a:xfrm>
            <a:off x="6181560" y="634356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D6912-F598-43E9-8045-0A1ED82DB9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dt" idx="12"/>
          </p:nvPr>
        </p:nvSpPr>
        <p:spPr>
          <a:xfrm>
            <a:off x="1143000" y="6333840"/>
            <a:ext cx="2819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COT Public/Confidential/Restric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Picture 8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41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13"/>
          <p:cNvSpPr/>
          <p:nvPr/>
        </p:nvSpPr>
        <p:spPr>
          <a:xfrm>
            <a:off x="6181560" y="634356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B5C07-02D7-4B6B-96FB-5506AA6293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 type="dt" idx="13"/>
          </p:nvPr>
        </p:nvSpPr>
        <p:spPr>
          <a:xfrm>
            <a:off x="1143000" y="6333840"/>
            <a:ext cx="2819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COT Public/Confidential/Restric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4" name="Picture 8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85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Rectangle 13"/>
          <p:cNvSpPr/>
          <p:nvPr/>
        </p:nvSpPr>
        <p:spPr>
          <a:xfrm>
            <a:off x="6181560" y="634356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2CB48-7031-4E12-A3E4-7D9E6DE8A2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 type="dt" idx="14"/>
          </p:nvPr>
        </p:nvSpPr>
        <p:spPr>
          <a:xfrm>
            <a:off x="1143000" y="6333840"/>
            <a:ext cx="2819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COT Public/Confidential/Restric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2" descr="logo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6" name="Line 14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3"/>
          </p:nvPr>
        </p:nvSpPr>
        <p:spPr>
          <a:xfrm>
            <a:off x="2333520" y="5466960"/>
            <a:ext cx="62769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 X ERCOT Public/Confidential/Restric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4"/>
          </p:nvPr>
        </p:nvSpPr>
        <p:spPr>
          <a:xfrm>
            <a:off x="2333520" y="5067360"/>
            <a:ext cx="627696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8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89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3"/>
          <p:cNvSpPr/>
          <p:nvPr/>
        </p:nvSpPr>
        <p:spPr>
          <a:xfrm>
            <a:off x="6181560" y="634356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E527A-CC7B-4868-AD06-F54CD8E97D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5"/>
          </p:nvPr>
        </p:nvSpPr>
        <p:spPr>
          <a:xfrm>
            <a:off x="1143000" y="6333840"/>
            <a:ext cx="2819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COT Public/Confidential/Restric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8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133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13"/>
          <p:cNvSpPr/>
          <p:nvPr/>
        </p:nvSpPr>
        <p:spPr>
          <a:xfrm>
            <a:off x="6181560" y="634356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2C33F-8CDE-4FC4-8347-59C1B449B4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6"/>
          </p:nvPr>
        </p:nvSpPr>
        <p:spPr>
          <a:xfrm>
            <a:off x="1143000" y="6333840"/>
            <a:ext cx="2819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COT Public/Confidential/Restric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8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177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13"/>
          <p:cNvSpPr/>
          <p:nvPr/>
        </p:nvSpPr>
        <p:spPr>
          <a:xfrm>
            <a:off x="6181560" y="634356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0C3AD-27C9-4719-858D-F5BF2985E1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dt" idx="7"/>
          </p:nvPr>
        </p:nvSpPr>
        <p:spPr>
          <a:xfrm>
            <a:off x="1143000" y="6333840"/>
            <a:ext cx="2819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COT Public/Confidential/Restric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8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221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13"/>
          <p:cNvSpPr/>
          <p:nvPr/>
        </p:nvSpPr>
        <p:spPr>
          <a:xfrm>
            <a:off x="6181560" y="634356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1ABAD-F52A-4450-97D5-321981536F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dt" idx="8"/>
          </p:nvPr>
        </p:nvSpPr>
        <p:spPr>
          <a:xfrm>
            <a:off x="1143000" y="6333840"/>
            <a:ext cx="2819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COT Public/Confidential/Restric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8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265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13"/>
          <p:cNvSpPr/>
          <p:nvPr/>
        </p:nvSpPr>
        <p:spPr>
          <a:xfrm>
            <a:off x="6181560" y="634356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991AB-5B4E-402A-9421-8AB1098A8D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 type="dt" idx="9"/>
          </p:nvPr>
        </p:nvSpPr>
        <p:spPr>
          <a:xfrm>
            <a:off x="1143000" y="6333840"/>
            <a:ext cx="2819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COT Public/Confidential/Restric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Picture 8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309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13"/>
          <p:cNvSpPr/>
          <p:nvPr/>
        </p:nvSpPr>
        <p:spPr>
          <a:xfrm>
            <a:off x="6181560" y="634356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D57F1-4413-4F99-9462-66AB8C21AA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10"/>
          </p:nvPr>
        </p:nvSpPr>
        <p:spPr>
          <a:xfrm>
            <a:off x="1143000" y="6333840"/>
            <a:ext cx="2819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COT Public/Confidential/Restric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Picture 8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353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13"/>
          <p:cNvSpPr/>
          <p:nvPr/>
        </p:nvSpPr>
        <p:spPr>
          <a:xfrm>
            <a:off x="6181560" y="634356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EF5BA-5E75-4643-9614-B3D2128F9C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 type="dt" idx="11"/>
          </p:nvPr>
        </p:nvSpPr>
        <p:spPr>
          <a:xfrm>
            <a:off x="1143000" y="6333840"/>
            <a:ext cx="2819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COT Public/Confidential/Restric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ubTitle"/>
          </p:nvPr>
        </p:nvSpPr>
        <p:spPr>
          <a:xfrm>
            <a:off x="917280" y="2923920"/>
            <a:ext cx="7311960" cy="85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H.B. “Trip” Dogget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President and Chief Executive Offic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title"/>
          </p:nvPr>
        </p:nvSpPr>
        <p:spPr>
          <a:xfrm>
            <a:off x="912960" y="1456920"/>
            <a:ext cx="7316640" cy="124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ab 5: Financial Summar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9" name="Rectangle 20"/>
          <p:cNvSpPr/>
          <p:nvPr/>
        </p:nvSpPr>
        <p:spPr>
          <a:xfrm>
            <a:off x="914400" y="4343400"/>
            <a:ext cx="634356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Board of Directors Mee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ERCOT Publ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November 13, 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Date Placeholder 5"/>
          <p:cNvSpPr/>
          <p:nvPr/>
        </p:nvSpPr>
        <p:spPr>
          <a:xfrm>
            <a:off x="1143000" y="6334200"/>
            <a:ext cx="28195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b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COT Pub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Financial Performance - As of October 31, 2012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($ in Millions)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304560" y="761760"/>
            <a:ext cx="883908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TD BUDGET VS. ACTUAL PERFORMANCE: $5.2 MILLION FAVOR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Rounded Rectangle 5"/>
          <p:cNvSpPr/>
          <p:nvPr/>
        </p:nvSpPr>
        <p:spPr>
          <a:xfrm>
            <a:off x="457200" y="1143000"/>
            <a:ext cx="8381880" cy="2438280"/>
          </a:xfrm>
          <a:prstGeom prst="roundRect">
            <a:avLst>
              <a:gd name="adj" fmla="val 4403"/>
            </a:avLst>
          </a:prstGeom>
          <a:solidFill>
            <a:srgbClr val="eeeeee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Rounded Rectangle 6"/>
          <p:cNvSpPr/>
          <p:nvPr/>
        </p:nvSpPr>
        <p:spPr>
          <a:xfrm>
            <a:off x="609480" y="1295280"/>
            <a:ext cx="7969320" cy="7621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c8c93"/>
                </a:solidFill>
                <a:latin typeface="Arial"/>
              </a:rPr>
              <a:t>REVENU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Rounded Rectangle 8"/>
          <p:cNvSpPr/>
          <p:nvPr/>
        </p:nvSpPr>
        <p:spPr>
          <a:xfrm>
            <a:off x="609480" y="2209680"/>
            <a:ext cx="7971120" cy="1219320"/>
          </a:xfrm>
          <a:prstGeom prst="roundRect">
            <a:avLst>
              <a:gd name="adj" fmla="val 761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c8c93"/>
                </a:solidFill>
                <a:latin typeface="Arial"/>
              </a:rPr>
              <a:t>EXPEN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Content Placeholder 2"/>
          <p:cNvSpPr/>
          <p:nvPr/>
        </p:nvSpPr>
        <p:spPr>
          <a:xfrm>
            <a:off x="380880" y="1143000"/>
            <a:ext cx="8001000" cy="17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2104920" indent="-28548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104920" indent="-28548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$5.1 Million favorable 2011 carry forw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104920" indent="-28548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$0.7 Million favorable other revenu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104920" indent="-28548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$0.6 Million unfavorable system administration fe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104920" indent="-28548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104920" indent="-28548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104920" indent="-28548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$4.1 Million unfavorable outside servi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104920" indent="-28548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$2.1 Million favorable salary &amp; related benef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104920" indent="-28548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$1.4 Million favorable hardware &amp; software maintenance or licens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104920" indent="-28548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$0.8 Million favorable facility &amp; equipment co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104920" indent="-28548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104920" indent="-28548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104920" indent="-2854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Content Placeholder 2"/>
          <p:cNvSpPr/>
          <p:nvPr/>
        </p:nvSpPr>
        <p:spPr>
          <a:xfrm>
            <a:off x="304920" y="3657600"/>
            <a:ext cx="8991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EAR-END PERFORMANCE FORECAST: $3.8 MILLION FAVOR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Rounded Rectangle 11"/>
          <p:cNvSpPr/>
          <p:nvPr/>
        </p:nvSpPr>
        <p:spPr>
          <a:xfrm>
            <a:off x="457200" y="4038480"/>
            <a:ext cx="8381880" cy="2133720"/>
          </a:xfrm>
          <a:prstGeom prst="roundRect">
            <a:avLst>
              <a:gd name="adj" fmla="val 4403"/>
            </a:avLst>
          </a:prstGeom>
          <a:solidFill>
            <a:srgbClr val="eeeeee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Rounded Rectangle 12"/>
          <p:cNvSpPr/>
          <p:nvPr/>
        </p:nvSpPr>
        <p:spPr>
          <a:xfrm>
            <a:off x="609480" y="4114800"/>
            <a:ext cx="7925040" cy="7621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c8c93"/>
                </a:solidFill>
                <a:latin typeface="Arial"/>
              </a:rPr>
              <a:t>REVENU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Rounded Rectangle 13"/>
          <p:cNvSpPr/>
          <p:nvPr/>
        </p:nvSpPr>
        <p:spPr>
          <a:xfrm>
            <a:off x="608040" y="5029200"/>
            <a:ext cx="7966080" cy="990720"/>
          </a:xfrm>
          <a:prstGeom prst="roundRect">
            <a:avLst>
              <a:gd name="adj" fmla="val 761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c8c93"/>
                </a:solidFill>
                <a:latin typeface="Arial"/>
              </a:rPr>
              <a:t>EXPEN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Content Placeholder 2"/>
          <p:cNvSpPr/>
          <p:nvPr/>
        </p:nvSpPr>
        <p:spPr>
          <a:xfrm>
            <a:off x="609480" y="4038480"/>
            <a:ext cx="79171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1881360" indent="-28584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81360" indent="-28584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$5.1 Million favorable 2011 carry forw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81360" indent="-28584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$0.5 Million unfavorable system administration fe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81360" indent="-28584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1881360" indent="-28584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1881360" indent="-28584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$4.8 Million unfavorable outside servi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81360" indent="-28584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$2.3 Million favorable salary &amp; related benef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81360" indent="-28584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$1.8 Million favorable hardware &amp; software maintenance or licens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81360" indent="-28584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$0.8 Million favorable facility &amp; equipment co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8136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88136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Financial Summary - As of October 31, 2012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($ in Millions)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43" name="Date Placeholder 5"/>
          <p:cNvSpPr/>
          <p:nvPr/>
        </p:nvSpPr>
        <p:spPr>
          <a:xfrm>
            <a:off x="1143000" y="6334200"/>
            <a:ext cx="28195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b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COT Pub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4" name="Picture 2" descr=""/>
          <p:cNvPicPr/>
          <p:nvPr/>
        </p:nvPicPr>
        <p:blipFill>
          <a:blip r:embed="rId1"/>
          <a:srcRect l="2312" t="1805" r="0" b="0"/>
          <a:stretch/>
        </p:blipFill>
        <p:spPr>
          <a:xfrm>
            <a:off x="228600" y="762120"/>
            <a:ext cx="8515440" cy="547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Project Expenditures - As of October 31, 2012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($ in Millions)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46" name="Date Placeholder 3"/>
          <p:cNvSpPr/>
          <p:nvPr/>
        </p:nvSpPr>
        <p:spPr>
          <a:xfrm>
            <a:off x="1143000" y="6334200"/>
            <a:ext cx="28195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b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COT Pub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7" name="Picture 2" descr=""/>
          <p:cNvPicPr/>
          <p:nvPr/>
        </p:nvPicPr>
        <p:blipFill>
          <a:blip r:embed="rId1"/>
          <a:srcRect l="2550" t="2913" r="0" b="0"/>
          <a:stretch/>
        </p:blipFill>
        <p:spPr>
          <a:xfrm>
            <a:off x="228600" y="762120"/>
            <a:ext cx="8229600" cy="538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Financial Statements - Statements of Financial Positio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As of October 31, 2012 and 2011 ($ in Thousands)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49" name="Date Placeholder 3"/>
          <p:cNvSpPr/>
          <p:nvPr/>
        </p:nvSpPr>
        <p:spPr>
          <a:xfrm>
            <a:off x="1143000" y="6334200"/>
            <a:ext cx="28195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b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COT Pub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0" name="Picture 2" descr=""/>
          <p:cNvPicPr/>
          <p:nvPr/>
        </p:nvPicPr>
        <p:blipFill>
          <a:blip r:embed="rId1"/>
          <a:stretch/>
        </p:blipFill>
        <p:spPr>
          <a:xfrm>
            <a:off x="380880" y="762120"/>
            <a:ext cx="5577120" cy="547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Financial Statements - Statements of Activitie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As of October 31, 2012 and 2011 ($ in Thousands)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2" name="Date Placeholder 3"/>
          <p:cNvSpPr/>
          <p:nvPr/>
        </p:nvSpPr>
        <p:spPr>
          <a:xfrm>
            <a:off x="1143000" y="6334200"/>
            <a:ext cx="28195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b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COT Pub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3" name="Picture 2" descr=""/>
          <p:cNvPicPr/>
          <p:nvPr/>
        </p:nvPicPr>
        <p:blipFill>
          <a:blip r:embed="rId1"/>
          <a:stretch/>
        </p:blipFill>
        <p:spPr>
          <a:xfrm>
            <a:off x="304920" y="838080"/>
            <a:ext cx="6851520" cy="537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Financial Statements - Statements of Cash Flow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As of October 31, 2012 and 2011 ($ in Thousands)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5" name="Date Placeholder 3"/>
          <p:cNvSpPr/>
          <p:nvPr/>
        </p:nvSpPr>
        <p:spPr>
          <a:xfrm>
            <a:off x="1143000" y="6334200"/>
            <a:ext cx="28195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b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COT Pub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6" name="Picture 2" descr=""/>
          <p:cNvPicPr/>
          <p:nvPr/>
        </p:nvPicPr>
        <p:blipFill>
          <a:blip r:embed="rId1"/>
          <a:stretch/>
        </p:blipFill>
        <p:spPr>
          <a:xfrm>
            <a:off x="304920" y="762120"/>
            <a:ext cx="5121000" cy="54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>Wilkins, Tisa</dc:creator>
  <dc:description/>
  <dc:language>en-US</dc:language>
  <cp:lastModifiedBy>ERCOT Legal</cp:lastModifiedBy>
  <dcterms:modified xsi:type="dcterms:W3CDTF">2012-11-06T18:13:14Z</dcterms:modified>
  <cp:revision>68</cp:revision>
  <dc:subject/>
  <dc:title>Instructions</dc:title>
</cp:coreProperties>
</file>