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BFAD-0D62-4CBC-A16A-102B3D62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D75D-FEA9-4541-9653-B4DA0A8B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FE54-AC20-451E-8A7C-0852D882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2191-C3C4-49B6-B23F-8833221A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D010-2116-4297-9945-D3B60938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8902-458E-4839-A25D-B58F5CCD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6E0B-E6A5-4F71-B989-56289BB9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BA8A-969F-4E36-BFF6-6884FAF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E7FB-212F-4825-8773-76CA6CDA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3F0F-4256-4D6B-A9FE-BE3C512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1DDC-2613-422A-82D1-6A7D1286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392B-94D6-45B8-9CAE-FD8364E8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F4D4-72A2-4CC7-8CF8-70CC307CD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E63B-8BC0-410E-B57D-F4C9247E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0" descr="ERCOT WMS1.eps"/>
          <p:cNvPicPr/>
          <p:nvPr/>
        </p:nvPicPr>
        <p:blipFill>
          <a:blip r:embed="rId2"/>
          <a:stretch/>
        </p:blipFill>
        <p:spPr>
          <a:xfrm>
            <a:off x="0" y="0"/>
            <a:ext cx="228600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ERCOT WMS1.eps"/>
          <p:cNvPicPr/>
          <p:nvPr/>
        </p:nvPicPr>
        <p:blipFill>
          <a:blip r:embed="rId2"/>
          <a:stretch/>
        </p:blipFill>
        <p:spPr>
          <a:xfrm>
            <a:off x="0" y="0"/>
            <a:ext cx="3809880" cy="111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5"/>
          <p:cNvSpPr/>
          <p:nvPr/>
        </p:nvSpPr>
        <p:spPr>
          <a:xfrm>
            <a:off x="2362320" y="502920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904760"/>
            <a:ext cx="746748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olesale Market Subcommitte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3580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ort to Technical Advisory Committ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-36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on TAC Assign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eria for Load Provided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S has assigned to RC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ncy Response Service (ERS) Qualified Scheduling Entity (QSE) Performance Measurement and Compl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S assigned to DSWG and QM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MWG waiting for an actual deployment before moving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 Updates on Future Credit Desig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Mitigation Issu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leadership asked WMS to consolidate all efforts to resolve th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S assigned to CM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WG holding workshop on Novem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rbara Clemenhagen</dc:creator>
  <dc:description/>
  <dc:language>en-US</dc:language>
  <cp:lastModifiedBy>JBevill</cp:lastModifiedBy>
  <dcterms:modified xsi:type="dcterms:W3CDTF">2012-10-30T18:48:14Z</dcterms:modified>
  <cp:revision>156</cp:revision>
  <dc:subject/>
  <dc:title>Instructions</dc:title>
</cp:coreProperties>
</file>