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38E4-FC58-4C77-9545-DBD966AE3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CCD6-D1A6-41D4-AA93-B8269DA51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B623-CDFA-4BB9-A005-43BBF4FB3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7A43-3A0B-4E4C-BC9F-472E2629C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0A1AD-F390-4B93-9600-620A01D8F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536D-CDE9-45BC-B6B5-8409FE701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050FD-F852-446F-9469-22C61DD40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CD703-DEFC-45F0-9FD5-071A6D93D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B6DCE-DCF0-4A27-8320-7DDE2DF15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E21A-1F7A-453E-92C1-1328029E2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9BEF-BF2F-4FFF-808C-14A10DBB9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C82BBD9-8CD2-4E78-9F52-6E95E0D7B3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8BA26C3-E9A9-4785-B600-548555C49F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C3F0104-6486-469F-B6AB-E922B6F868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23D6814-9DB4-48BD-86A9-4943003D69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1078C3C-0174-4E8F-AC18-C4A3B523E7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8BAA01A-D218-490A-9642-20FA84E135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C473735-098B-44AB-95D6-F69371C432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B264C15-CABB-40D2-9CE2-BA831FB9B1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160CAF1-D860-49C6-A907-5482404565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B411A9E-F55E-42BD-A031-2D236086CD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0C2453A-3180-41BD-A40D-F2F3C4DAC0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8D3B9BD-9068-4AFC-BFBC-6B7B142F76F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1E475-BE9D-40F4-860D-158C73C9FA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5, 2010</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CBD5-39EF-4642-96A2-7BBDB8378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5, 2010</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tocol Revision Subcommittee</a:t>
            </a:r>
            <a:endParaRPr b="0" lang="en-US" sz="2800" spc="-1" strike="noStrike">
              <a:solidFill>
                <a:srgbClr val="000000"/>
              </a:solidFill>
              <a:latin typeface="Arial Black"/>
            </a:endParaRPr>
          </a:p>
        </p:txBody>
      </p:sp>
      <p:sp>
        <p:nvSpPr>
          <p:cNvPr id="94"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om Burke</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vember 1, 2012</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481, Report of Hourly Actual System Load by Weather Zone </a:t>
            </a:r>
            <a:endParaRPr b="0" lang="en-US" sz="1800" spc="-1" strike="noStrike">
              <a:solidFill>
                <a:srgbClr val="000000"/>
              </a:solidFill>
              <a:latin typeface="Arial Black"/>
            </a:endParaRPr>
          </a:p>
        </p:txBody>
      </p:sp>
      <p:graphicFrame>
        <p:nvGraphicFramePr>
          <p:cNvPr id="113" name=""/>
          <p:cNvGraphicFramePr/>
          <p:nvPr/>
        </p:nvGraphicFramePr>
        <p:xfrm>
          <a:off x="152280" y="914400"/>
          <a:ext cx="8763120" cy="4694400"/>
        </p:xfrm>
        <a:graphic>
          <a:graphicData uri="http://schemas.openxmlformats.org/drawingml/2006/table">
            <a:tbl>
              <a:tblPr/>
              <a:tblGrid>
                <a:gridCol w="2397240"/>
                <a:gridCol w="6365880"/>
              </a:tblGrid>
              <a:tr h="629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U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provides for a report of the hourly actual system Load for each Weather Zone for the previous Operating Day.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2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9/20/12, PRS unanimously voted to recommend approval of NPRR481 as submitted.  On 10/18/12, PRS unanimously voted to endorse and forward the 9/20/12 PRS Report and Impact Analysis for NPRR481 to TAC with a recommended priority of 2013 and rank of 8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2013; Rank 8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k - $35k; impacts to CDR and MI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2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ing transparency; providing in a report format that allows for consistency with other dashboard data elements and aligns with current reporting processes; allows comparisons of actual Load data to forecasted Load data by Weather Zone for system planning purposes; eliminates scraping of data from ERCOT systems; provides consistency in report retrieval for Market Participants; provides Market Participants with the ability to download current data to create a historical databas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482, Removal of Duplicative Statement of Opportunity Requirements </a:t>
            </a:r>
            <a:endParaRPr b="0" lang="en-US" sz="1800" spc="-1" strike="noStrike">
              <a:solidFill>
                <a:srgbClr val="000000"/>
              </a:solidFill>
              <a:latin typeface="Arial Black"/>
            </a:endParaRPr>
          </a:p>
        </p:txBody>
      </p:sp>
      <p:graphicFrame>
        <p:nvGraphicFramePr>
          <p:cNvPr id="115" name=""/>
          <p:cNvGraphicFramePr/>
          <p:nvPr/>
        </p:nvGraphicFramePr>
        <p:xfrm>
          <a:off x="152280" y="914400"/>
          <a:ext cx="8763120" cy="4491000"/>
        </p:xfrm>
        <a:graphic>
          <a:graphicData uri="http://schemas.openxmlformats.org/drawingml/2006/table">
            <a:tbl>
              <a:tblPr/>
              <a:tblGrid>
                <a:gridCol w="2397240"/>
                <a:gridCol w="6365880"/>
              </a:tblGrid>
              <a:tr h="131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removes statement of opportunity language in the Protocols that is duplicative of requirements in P.U.C. SUBST. R. 25.505, Resource Adequacy in the Electric Reliability Council of Texas Power Region.  ERCOT will continue to comply with the PUCT rule by retaining the posting requirement in the Protoco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44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9/20/12, PRS voted to recommend approval of NPRR482 as submitted. There was one abstention from the Independent Generator Market Segment.  On 10/18/12, PRS voted to endorse and forward the 9/20/12 PRS Report and Impact Analysis for NPRR482 to TAC.  There was one abstention from the Independent Generator Market Seg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550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duplicative requirements which could lead to inconsistencies and result in a violation of the PUCT ru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485, Clarification for Fuel Adder Provisions </a:t>
            </a:r>
            <a:endParaRPr b="0" lang="en-US" sz="1800" spc="-1" strike="noStrike">
              <a:solidFill>
                <a:srgbClr val="000000"/>
              </a:solidFill>
              <a:latin typeface="Arial Black"/>
            </a:endParaRPr>
          </a:p>
        </p:txBody>
      </p:sp>
      <p:graphicFrame>
        <p:nvGraphicFramePr>
          <p:cNvPr id="117" name=""/>
          <p:cNvGraphicFramePr/>
          <p:nvPr/>
        </p:nvGraphicFramePr>
        <p:xfrm>
          <a:off x="152280" y="762120"/>
          <a:ext cx="8763120" cy="5578200"/>
        </p:xfrm>
        <a:graphic>
          <a:graphicData uri="http://schemas.openxmlformats.org/drawingml/2006/table">
            <a:tbl>
              <a:tblPr/>
              <a:tblGrid>
                <a:gridCol w="2397240"/>
                <a:gridCol w="6365880"/>
              </a:tblGrid>
              <a:tr h="131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ina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will provide for consistent application of the fuel adder that is meant to compensate Resources for the actual cost of transporting and purchasing fuel on the spot market across Mitigated Offer Caps and RUC instructions, as well as, allow for Resource-specific verifiable costs to be submitted and verified by ERCO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0/18/12, PRS voted to recommend approval of NPRR485 as submitted and to forward NPRR485 to TAC.  There was one opposing vote from the Consumer Market Segment and one abstention from the Municipal Market Seg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determin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k - $30k (system implementation cost); $120k - $130k (ERCOT staffing impacts); 0.6 FTEs in Settlements and Billing department; impacts to S&amp;B system; ERCOT business processes will be upda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rifiable Cost Manual will provide the details with regard to the documentation of fuel adder costs required for determining an appropriate all-in fuel cost for use in calculating the appropriate daily mitigated offer curve.  The changes proposed in this NPRR are intended to align both the Protocols and the Verifiable Cost Manual, while leaving the more detailed calculations in the Verifiable Cost Manu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304920" y="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mmary of Revision Requests</a:t>
            </a:r>
            <a:endParaRPr b="0" lang="en-US" sz="2000" spc="-1" strike="noStrike">
              <a:solidFill>
                <a:srgbClr val="000000"/>
              </a:solidFill>
              <a:latin typeface="Arial"/>
            </a:endParaRPr>
          </a:p>
        </p:txBody>
      </p:sp>
      <p:sp>
        <p:nvSpPr>
          <p:cNvPr id="96" name="Rectangle 3"/>
          <p:cNvSpPr/>
          <p:nvPr/>
        </p:nvSpPr>
        <p:spPr>
          <a:xfrm>
            <a:off x="304920" y="990720"/>
            <a:ext cx="8153280" cy="56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NPRRs Recommended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98" name="PlaceHolder 2"/>
          <p:cNvSpPr>
            <a:spLocks noGrp="1"/>
          </p:cNvSpPr>
          <p:nvPr>
            <p:ph/>
          </p:nvPr>
        </p:nvSpPr>
        <p:spPr>
          <a:xfrm>
            <a:off x="228600" y="838080"/>
            <a:ext cx="8153280" cy="5639040"/>
          </a:xfrm>
          <a:prstGeom prst="rect">
            <a:avLst/>
          </a:prstGeom>
          <a:noFill/>
          <a:ln w="0">
            <a:noFill/>
          </a:ln>
        </p:spPr>
        <p:txBody>
          <a:bodyPr anchor="t">
            <a:normAutofit fontScale="73000"/>
          </a:bodyPr>
          <a:p>
            <a:pPr marL="250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opposed Recommendations</a:t>
            </a:r>
            <a:endParaRPr b="1" lang="en-US" sz="1800" spc="-1" strike="noStrike">
              <a:solidFill>
                <a:srgbClr val="000000"/>
              </a:solidFill>
              <a:latin typeface="Arial"/>
            </a:endParaRPr>
          </a:p>
          <a:p>
            <a:pPr marL="250200" indent="-25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475, EPS Metering Exception for ERS Generation*</a:t>
            </a:r>
            <a:endParaRPr b="1" lang="en-US" sz="1800" spc="-1" strike="noStrike">
              <a:solidFill>
                <a:srgbClr val="000000"/>
              </a:solidFill>
              <a:latin typeface="Arial"/>
            </a:endParaRPr>
          </a:p>
          <a:p>
            <a:pPr marL="250200" indent="-25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476, Market Submitted Energy Offer Curves Disclosures</a:t>
            </a:r>
            <a:endParaRPr b="1" lang="en-US" sz="1800" spc="-1" strike="noStrike">
              <a:solidFill>
                <a:srgbClr val="000000"/>
              </a:solidFill>
              <a:latin typeface="Arial"/>
            </a:endParaRPr>
          </a:p>
          <a:p>
            <a:pPr marL="250200" indent="-25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478, Extension of DAM QSE Offer and Bid Submission Deadline Due to ERCOT Systems Delays*</a:t>
            </a:r>
            <a:endParaRPr b="1" lang="en-US" sz="1800" spc="-1" strike="noStrike">
              <a:solidFill>
                <a:srgbClr val="000000"/>
              </a:solidFill>
              <a:latin typeface="Arial"/>
            </a:endParaRPr>
          </a:p>
          <a:p>
            <a:pPr marL="250200" indent="-25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480, Removal of Language for Relaxing Transmission Constraints*</a:t>
            </a:r>
            <a:endParaRPr b="1" lang="en-US" sz="1800" spc="-1" strike="noStrike">
              <a:solidFill>
                <a:srgbClr val="000000"/>
              </a:solidFill>
              <a:latin typeface="Arial"/>
            </a:endParaRPr>
          </a:p>
          <a:p>
            <a:pPr marL="250200" indent="-25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481, Report of Hourly Actual System Load by Weather Zone</a:t>
            </a:r>
            <a:endParaRPr b="1" lang="en-US" sz="1800" spc="-1" strike="noStrike">
              <a:solidFill>
                <a:srgbClr val="000000"/>
              </a:solidFill>
              <a:latin typeface="Arial"/>
            </a:endParaRPr>
          </a:p>
          <a:p>
            <a:pPr marL="250200" indent="-25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482, Removal of Duplicative Statement of Opportunity Requirements*</a:t>
            </a:r>
            <a:endParaRPr b="1" lang="en-US" sz="1800" spc="-1" strike="noStrike">
              <a:solidFill>
                <a:srgbClr val="000000"/>
              </a:solidFill>
              <a:latin typeface="Arial"/>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50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commendations with Opposing Votes</a:t>
            </a:r>
            <a:endParaRPr b="1" lang="en-US" sz="1800" spc="-1" strike="noStrike">
              <a:solidFill>
                <a:srgbClr val="000000"/>
              </a:solidFill>
              <a:latin typeface="Arial"/>
            </a:endParaRPr>
          </a:p>
          <a:p>
            <a:pPr marL="250200" indent="-25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479, Daily Net Outage MW</a:t>
            </a:r>
            <a:endParaRPr b="1" lang="en-US" sz="1800" spc="-1" strike="noStrike">
              <a:solidFill>
                <a:srgbClr val="000000"/>
              </a:solidFill>
              <a:latin typeface="Arial"/>
            </a:endParaRPr>
          </a:p>
          <a:p>
            <a:pPr marL="250200" indent="-250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485, Clarification for Fuel Adder Provisions - URGENT </a:t>
            </a:r>
            <a:endParaRPr b="1" lang="en-US" sz="1800" spc="-1" strike="noStrike">
              <a:solidFill>
                <a:srgbClr val="000000"/>
              </a:solidFill>
              <a:latin typeface="Arial"/>
            </a:endParaRPr>
          </a:p>
          <a:p>
            <a:pPr lvl="1" marL="542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0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denotes no impacts)</a:t>
            </a:r>
            <a:endParaRPr b="1" lang="en-US" sz="1800" spc="-1" strike="noStrike">
              <a:solidFill>
                <a:srgbClr val="000000"/>
              </a:solidFill>
              <a:latin typeface="Arial"/>
            </a:endParaRPr>
          </a:p>
          <a:p>
            <a:pPr lvl="1" marL="542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0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70c0"/>
                </a:solidFill>
                <a:latin typeface="Arial"/>
              </a:rPr>
              <a:t>	</a:t>
            </a:r>
            <a:endParaRPr b="1" lang="en-US" sz="1600" spc="-1" strike="noStrike">
              <a:solidFill>
                <a:srgbClr val="000000"/>
              </a:solidFill>
              <a:latin typeface="Arial"/>
            </a:endParaRPr>
          </a:p>
          <a:p>
            <a:pPr marL="250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50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949a"/>
                </a:solidFill>
                <a:latin typeface="Arial"/>
              </a:rPr>
              <a:t>	</a:t>
            </a:r>
            <a:endParaRPr b="1" lang="en-US" sz="1600" spc="-1" strike="noStrike">
              <a:solidFill>
                <a:srgbClr val="000000"/>
              </a:solidFill>
              <a:latin typeface="Arial"/>
            </a:endParaRPr>
          </a:p>
          <a:p>
            <a:pPr marL="250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endParaRPr b="1" lang="en-US" sz="1600" spc="-1" strike="noStrike">
              <a:solidFill>
                <a:srgbClr val="000000"/>
              </a:solidFill>
              <a:latin typeface="Arial"/>
            </a:endParaRPr>
          </a:p>
          <a:p>
            <a:pPr marL="250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50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PRR Descriptions</a:t>
            </a:r>
            <a:endParaRPr b="0" lang="en-US" sz="2000" spc="-1" strike="noStrike">
              <a:solidFill>
                <a:srgbClr val="000000"/>
              </a:solidFill>
              <a:latin typeface="Arial Black"/>
            </a:endParaRPr>
          </a:p>
        </p:txBody>
      </p:sp>
      <p:sp>
        <p:nvSpPr>
          <p:cNvPr id="101"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PRRs Recommended for Approval</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PRR475, EPS Metering Exception for ERS Generation</a:t>
            </a:r>
            <a:endParaRPr b="0" lang="en-US" sz="1800" spc="-1" strike="noStrike">
              <a:solidFill>
                <a:srgbClr val="000000"/>
              </a:solidFill>
              <a:latin typeface="Arial Black"/>
            </a:endParaRPr>
          </a:p>
        </p:txBody>
      </p:sp>
      <p:graphicFrame>
        <p:nvGraphicFramePr>
          <p:cNvPr id="103" name=""/>
          <p:cNvGraphicFramePr/>
          <p:nvPr/>
        </p:nvGraphicFramePr>
        <p:xfrm>
          <a:off x="228600" y="838080"/>
          <a:ext cx="8763120" cy="5237280"/>
        </p:xfrm>
        <a:graphic>
          <a:graphicData uri="http://schemas.openxmlformats.org/drawingml/2006/table">
            <a:tbl>
              <a:tblPr/>
              <a:tblGrid>
                <a:gridCol w="2397240"/>
                <a:gridCol w="6365880"/>
              </a:tblGrid>
              <a:tr h="18288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allows transmission-connected generators providing ERS to be exempt from the requirements for EPS Metering if their energy exports to the ERCOT System occur only during ERS deployments or tests; and requires that TSP and DSP metering be installed to measure any energy exported to the ERCOT Transmission Grid, and that the TDSP submit data to ERCOT for Settlemen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41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9/20/12, PRS voted to recommend approval of NPRR475 as submitted.  There were three abstentions from the IPM and Independent Generator (2) Market Segments.  On 10/18/12, PRS voted to endorse and forward the 9/20/12 PRS Report and Impact Analysis for NPRR475 to TAC.  There was one abstention from the Independent Generator Market Seg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43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market cost for metering generation that will only export energy to the ERCOT Transmission Grid during an ERS deploy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Black"/>
              </a:rPr>
              <a:t>NPRR476, Market Submitted Energy Offer Curves Disclosures</a:t>
            </a:r>
            <a:endParaRPr b="0" lang="en-US" sz="2000" spc="-1" strike="noStrike">
              <a:solidFill>
                <a:srgbClr val="000000"/>
              </a:solidFill>
              <a:latin typeface="Arial Black"/>
            </a:endParaRPr>
          </a:p>
        </p:txBody>
      </p:sp>
      <p:graphicFrame>
        <p:nvGraphicFramePr>
          <p:cNvPr id="105" name=""/>
          <p:cNvGraphicFramePr/>
          <p:nvPr/>
        </p:nvGraphicFramePr>
        <p:xfrm>
          <a:off x="304920" y="762120"/>
          <a:ext cx="8762760" cy="5578200"/>
        </p:xfrm>
        <a:graphic>
          <a:graphicData uri="http://schemas.openxmlformats.org/drawingml/2006/table">
            <a:tbl>
              <a:tblPr/>
              <a:tblGrid>
                <a:gridCol w="2396880"/>
                <a:gridCol w="6365880"/>
              </a:tblGrid>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U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provides for the addition of as submitted and extended Energy Offer Curves to the existing 60-Day SCED Disclosure Report; and extended Energy Offer Curves to the 7-Day Event Trigger Posting when the LMP exceeds 50 times the FIP Repor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15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9/20/12, PRS voted to recommend approval of NPRR476 as amended by the 8/22/12 ERCOT comments and as revised by PRS.  There was one abstention from the Cooperative Market Segment.  On 10/18/12, PRS voted to endorse and forward the 9/20/12 PRS Report as amended by the 10/16/12 ERCOT comments and Impact Analysis for NPRR476 to TAC with a recommended priority of 2013 and rank of 800.  There was one abstention from the Cooperative Market Seg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2013; Rank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k - $60k; impacts to ISM and MI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ation of the mitigated and extended Energy Offer Curves provides clarification to the market for analysis of price formation; provides information as to when prices are being mitigated which can be used in evaluation of over-mitigation issues; enhances market analysis and provides transparency; and provides more accurate information that allows improved and more complete market analysi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478, Extension of DAM QSE Offer and Bid Submission Deadline Due to ERCOT Systems Delays </a:t>
            </a:r>
            <a:endParaRPr b="0" lang="en-US" sz="1800" spc="-1" strike="noStrike">
              <a:solidFill>
                <a:srgbClr val="000000"/>
              </a:solidFill>
              <a:latin typeface="Arial Black"/>
            </a:endParaRPr>
          </a:p>
        </p:txBody>
      </p:sp>
      <p:graphicFrame>
        <p:nvGraphicFramePr>
          <p:cNvPr id="107" name=""/>
          <p:cNvGraphicFramePr/>
          <p:nvPr/>
        </p:nvGraphicFramePr>
        <p:xfrm>
          <a:off x="152280" y="914400"/>
          <a:ext cx="8763120" cy="5181480"/>
        </p:xfrm>
        <a:graphic>
          <a:graphicData uri="http://schemas.openxmlformats.org/drawingml/2006/table">
            <a:tbl>
              <a:tblPr/>
              <a:tblGrid>
                <a:gridCol w="2397240"/>
                <a:gridCol w="6365880"/>
              </a:tblGrid>
              <a:tr h="11034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pi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extends the submission deadline for QSEs’ bids and offers in the DAM subsequent to a system-wide delay caused by a failure of ERCOT’s market application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954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9/20/12, PRS unanimously voted to recommend approval of NPRR478 as amended by the 9/10/12 ERCOT comments.  On 10/18/12, PRS voted to endorse and forward the 9/20/12 PRS Report and Impact Analysis for NPRR478 to TAC.  There was one abstention from the Independent Generator Market Seg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954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normal bids and offers submission transactional time and allows the market to clear on a full set of transactions; and provides all Market Segments with additional time needed to submit their normal volume of bids and offers in order to achieve expected, normal market clearing outcom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479, Hourly Reporting of Resource Outaged Capacity (formerly “Daily Net Outage MW”) </a:t>
            </a:r>
            <a:endParaRPr b="0" lang="en-US" sz="1800" spc="-1" strike="noStrike">
              <a:solidFill>
                <a:srgbClr val="000000"/>
              </a:solidFill>
              <a:latin typeface="Arial Black"/>
            </a:endParaRPr>
          </a:p>
        </p:txBody>
      </p:sp>
      <p:graphicFrame>
        <p:nvGraphicFramePr>
          <p:cNvPr id="109" name=""/>
          <p:cNvGraphicFramePr/>
          <p:nvPr/>
        </p:nvGraphicFramePr>
        <p:xfrm>
          <a:off x="152280" y="914400"/>
          <a:ext cx="8763120" cy="4848120"/>
        </p:xfrm>
        <a:graphic>
          <a:graphicData uri="http://schemas.openxmlformats.org/drawingml/2006/table">
            <a:tbl>
              <a:tblPr/>
              <a:tblGrid>
                <a:gridCol w="2397240"/>
                <a:gridCol w="6365880"/>
              </a:tblGrid>
              <a:tr h="629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curia Energ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modifies the information provided by ERCOT to Market participants regarding net daily Outage MW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8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9/20/12, PRS voted via roll call vote to recommend approval of NPRR479 as amended by the 9/13/12 WMS comments and as revised by PRS.  There were three opposing votes from the Independent Generator, IREP and Municipal Market Segments and five abstentions from the Consumer, Independent Generator, IPM and IOU (2) Market Segments.  On 10/18/12, PRS voted to endorse and forward the 9/20/12 PRS Report as amended by the 10/15/12 ERCOT comments and Impact Analysis for NPRR479 to TAC with a recommended priority of 2013 and rank of 795.  There was one abstention from the IREP Market Segmen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2013; Rank 7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k - $60k; impacts to OS, CDR, and MI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184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transparency of Outage MWs on a “generic net” basi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480, Removal of Language for Relaxing Transmission Constraints </a:t>
            </a:r>
            <a:endParaRPr b="0" lang="en-US" sz="1800" spc="-1" strike="noStrike">
              <a:solidFill>
                <a:srgbClr val="000000"/>
              </a:solidFill>
              <a:latin typeface="Arial Black"/>
            </a:endParaRPr>
          </a:p>
        </p:txBody>
      </p:sp>
      <p:graphicFrame>
        <p:nvGraphicFramePr>
          <p:cNvPr id="111" name=""/>
          <p:cNvGraphicFramePr/>
          <p:nvPr/>
        </p:nvGraphicFramePr>
        <p:xfrm>
          <a:off x="152280" y="914400"/>
          <a:ext cx="8763120" cy="3919680"/>
        </p:xfrm>
        <a:graphic>
          <a:graphicData uri="http://schemas.openxmlformats.org/drawingml/2006/table">
            <a:tbl>
              <a:tblPr/>
              <a:tblGrid>
                <a:gridCol w="2397240"/>
                <a:gridCol w="6365880"/>
              </a:tblGrid>
              <a:tr h="629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deletes Protocol language that is inconsistent with NERC Reliability Standard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998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9/20/12, PRS unanimously voted to recommend approval of NPRR480 as submitted.  On 10/18/12, PRS voted to endorse and forward the 9/20/12 PRS Report and Impact Analysis for NPRR480 to TAC.  There was one abstention from the Independent Generator Market Seg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0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 with NERC Reliability Standar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Thomas Burke</dc:creator>
  <dc:description/>
  <dc:language>en-US</dc:language>
  <cp:lastModifiedBy>A. Boren</cp:lastModifiedBy>
  <dcterms:modified xsi:type="dcterms:W3CDTF">2012-10-29T15:34:46Z</dcterms:modified>
  <cp:revision>657</cp:revision>
  <dc:subject/>
  <dc:title>Instructions</dc:title>
</cp:coreProperties>
</file>