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B7BDEEA-AD7D-4256-9474-71441D5A54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72BA8B7-AB78-4BC1-B7B2-1717BB93E6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C0F0D1A-18CB-4963-96EB-4881BC3CA6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62250C3-4D66-4613-8A2D-9B91DBE51E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F2EF803-CAFA-4330-A5F5-4BFC18EFD3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AF24E7E-E9DE-46BD-B311-AA47B2F83B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715E935-C379-47E8-AA24-0C70D1B556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19C4AF9-AB9C-4DA3-A99E-933D6B09FC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BC2D842-6C8C-4941-A279-9341CA9EC2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C6AC832-7096-4830-8AB2-4BEBC1B23F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59E783B-2EF0-47A4-8DC7-738963858A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5936C0F-D232-41C1-876B-2E63F0EAFEB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A7066-8718-41A1-A868-AC5E083618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67682-D359-4E4B-B061-453A160906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ercot.webex.com/ercot"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240" y="1447920"/>
            <a:ext cx="8582040" cy="169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COPS NOVEMBER 2012 UPDATE TO TAC</a:t>
            </a:r>
            <a:br>
              <a:rPr sz="2800"/>
            </a:br>
            <a:r>
              <a:rPr b="0" lang="en-US" sz="2800" spc="-1" strike="noStrike">
                <a:solidFill>
                  <a:srgbClr val="000000"/>
                </a:solidFill>
                <a:latin typeface="Arial Black"/>
              </a:rPr>
              <a:t>	</a:t>
            </a:r>
            <a:r>
              <a:rPr b="0" lang="en-US" sz="2800" spc="-1" strike="noStrike">
                <a:solidFill>
                  <a:srgbClr val="000000"/>
                </a:solidFill>
                <a:latin typeface="Arial Black"/>
              </a:rPr>
              <a:t>          </a:t>
            </a:r>
            <a:br>
              <a:rPr sz="2800"/>
            </a:b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0000"/>
                </a:solidFill>
                <a:latin typeface="Arial Black"/>
              </a:rPr>
              <a:t>11/01/2012</a:t>
            </a:r>
            <a:endParaRPr b="0" lang="en-US" sz="2800" spc="-1" strike="noStrike">
              <a:solidFill>
                <a:srgbClr val="000000"/>
              </a:solidFill>
              <a:latin typeface="Arial Black"/>
            </a:endParaRPr>
          </a:p>
        </p:txBody>
      </p:sp>
      <p:sp>
        <p:nvSpPr>
          <p:cNvPr id="87"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Harika Basaran, Chair</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Jim Lee, Vice Chair</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PS MAJOR DISCUSSION  ITEMS</a:t>
            </a:r>
            <a:endParaRPr b="0" lang="en-US" sz="2000" spc="-1" strike="noStrike">
              <a:solidFill>
                <a:srgbClr val="000000"/>
              </a:solidFill>
              <a:latin typeface="Arial Black"/>
            </a:endParaRPr>
          </a:p>
        </p:txBody>
      </p:sp>
      <p:sp>
        <p:nvSpPr>
          <p:cNvPr id="89" name=""/>
          <p:cNvSpPr txBox="1"/>
          <p:nvPr/>
        </p:nvSpPr>
        <p:spPr>
          <a:xfrm>
            <a:off x="228600" y="761760"/>
            <a:ext cx="8229600" cy="5562360"/>
          </a:xfrm>
          <a:prstGeom prst="rect">
            <a:avLst/>
          </a:prstGeom>
          <a:noFill/>
          <a:ln w="0">
            <a:noFill/>
          </a:ln>
        </p:spPr>
        <p:txBody>
          <a:bodyPr anchor="t">
            <a:normAutofit fontScale="76000"/>
          </a:bodyPr>
          <a:p>
            <a:pPr lvl="1" marL="260640" indent="-260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260640" indent="-260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ERCOT’s proposal-Method for Paying Small Amounts:</a:t>
            </a:r>
            <a:endParaRPr b="0" lang="en-US" sz="1600" spc="-1" strike="noStrike">
              <a:solidFill>
                <a:srgbClr val="000000"/>
              </a:solidFill>
              <a:latin typeface="Arial"/>
            </a:endParaRPr>
          </a:p>
          <a:p>
            <a:pPr lvl="1" marL="260640" indent="-260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564480" indent="-260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es only to Default, Late Fee, and Misc Invoices.</a:t>
            </a:r>
            <a:endParaRPr b="0" lang="en-US" sz="1800" spc="-1" strike="noStrike">
              <a:solidFill>
                <a:srgbClr val="000000"/>
              </a:solidFill>
              <a:latin typeface="Arial"/>
            </a:endParaRPr>
          </a:p>
          <a:p>
            <a:pPr lvl="2" marL="564480" indent="-260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amount due to MP is &lt; $50, money will be deposited to the Pre-pay account.</a:t>
            </a:r>
            <a:endParaRPr b="0" lang="en-US" sz="1800" spc="-1" strike="noStrike">
              <a:solidFill>
                <a:srgbClr val="000000"/>
              </a:solidFill>
              <a:latin typeface="Arial"/>
            </a:endParaRPr>
          </a:p>
          <a:p>
            <a:pPr lvl="2" marL="564480" indent="-260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 can request wire of the funds in prepay account any time via e-mail to ERCOT Credit.</a:t>
            </a:r>
            <a:endParaRPr b="0" lang="en-US" sz="1800" spc="-1" strike="noStrike">
              <a:solidFill>
                <a:srgbClr val="000000"/>
              </a:solidFill>
              <a:latin typeface="Arial"/>
            </a:endParaRPr>
          </a:p>
          <a:p>
            <a:pPr lvl="2" marL="564480" indent="-260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d at CSWG meeting to address how to opt out.</a:t>
            </a:r>
            <a:endParaRPr b="0" lang="en-US" sz="1800" spc="-1" strike="noStrike">
              <a:solidFill>
                <a:srgbClr val="000000"/>
              </a:solidFill>
              <a:latin typeface="Arial"/>
            </a:endParaRPr>
          </a:p>
          <a:p>
            <a:pPr lvl="2" marL="564480" indent="-260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s would like to opt out with just one e-mail instead of e-mailing ERCOT every time there is a small fund coming in.</a:t>
            </a:r>
            <a:endParaRPr b="0" lang="en-US" sz="1800" spc="-1" strike="noStrike">
              <a:solidFill>
                <a:srgbClr val="000000"/>
              </a:solidFill>
              <a:latin typeface="Arial"/>
            </a:endParaRPr>
          </a:p>
          <a:p>
            <a:pPr lvl="2" marL="564480" indent="-26064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Will be discussed more at COPS meeting on November 6, 2012 to see if ERCOT can agree to that.</a:t>
            </a:r>
            <a:endParaRPr b="0" lang="en-US" sz="1800" spc="-1" strike="noStrike">
              <a:solidFill>
                <a:srgbClr val="000000"/>
              </a:solidFill>
              <a:latin typeface="Arial"/>
            </a:endParaRPr>
          </a:p>
          <a:p>
            <a:pPr lvl="1" marL="260640" indent="-2606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260640" indent="-2606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260640" indent="-2606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260640" indent="-2606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260640" indent="-2606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260640" indent="-2606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260640" indent="-2606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260640" indent="-2606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260640" indent="-2606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260640" indent="-2606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260640" indent="-260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 </a:t>
            </a:r>
            <a:endParaRPr b="0" lang="en-US" sz="1600" spc="-1" strike="noStrike">
              <a:solidFill>
                <a:srgbClr val="000000"/>
              </a:solidFill>
              <a:latin typeface="Arial"/>
            </a:endParaRPr>
          </a:p>
          <a:p>
            <a:pPr lvl="1" marL="260640" indent="-260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360"/>
            <a:ext cx="868680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Arial Black"/>
              </a:rPr>
              <a:t>NPRR 377 Alternate Inputs to Base Point deviation Charge</a:t>
            </a:r>
            <a:br>
              <a:rPr sz="1600"/>
            </a:br>
            <a:endParaRPr b="0" lang="en-US" sz="1600" spc="-1" strike="noStrike">
              <a:solidFill>
                <a:srgbClr val="000000"/>
              </a:solidFill>
              <a:latin typeface="Arial Black"/>
            </a:endParaRPr>
          </a:p>
        </p:txBody>
      </p:sp>
      <p:sp>
        <p:nvSpPr>
          <p:cNvPr id="91" name=""/>
          <p:cNvSpPr txBox="1"/>
          <p:nvPr/>
        </p:nvSpPr>
        <p:spPr>
          <a:xfrm>
            <a:off x="457200" y="685800"/>
            <a:ext cx="8229600" cy="59436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aligns the Adjusted Aggregated Base Point (AABP) formula with the inputs to the Generation Resource Energy Deployment Performance (GREDP) measure.  The current formula for AABP inaccurately assesses Base Point Deviation Charges for under and over generation when shortened Security-Constrained Economic Dispatch (SCED) intervals occur. </a:t>
            </a: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REDP inputs are linearly ramped 5 minute data points as follows:</a:t>
            </a: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GBP5M</a:t>
            </a:r>
            <a:r>
              <a:rPr b="0" lang="en-US" sz="1600" spc="-1" strike="noStrike">
                <a:solidFill>
                  <a:srgbClr val="000000"/>
                </a:solidFill>
                <a:latin typeface="Arial"/>
              </a:rPr>
              <a:t> – Base Point instruction</a:t>
            </a: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GREGUP5M, AVGREGDN5M, AVGREG5M </a:t>
            </a:r>
            <a:r>
              <a:rPr b="0" lang="en-US" sz="1600" spc="-1" strike="noStrike">
                <a:solidFill>
                  <a:srgbClr val="000000"/>
                </a:solidFill>
                <a:latin typeface="Arial"/>
              </a:rPr>
              <a:t>– Regulation Instructions1</a:t>
            </a: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GTG5M –</a:t>
            </a:r>
            <a:r>
              <a:rPr b="0" lang="en-US" sz="1600" spc="-1" strike="noStrike">
                <a:solidFill>
                  <a:srgbClr val="000000"/>
                </a:solidFill>
                <a:latin typeface="Arial"/>
              </a:rPr>
              <a:t> Telemetered Generation</a:t>
            </a: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design is to include the 5 minute data for the above listed billing determinants in the existing </a:t>
            </a:r>
            <a:r>
              <a:rPr b="1" i="1" lang="en-US" sz="1600" spc="-1" strike="noStrike">
                <a:solidFill>
                  <a:srgbClr val="000000"/>
                </a:solidFill>
                <a:latin typeface="Arial"/>
              </a:rPr>
              <a:t>Market Input Header </a:t>
            </a:r>
            <a:r>
              <a:rPr b="0" lang="en-US" sz="1600" spc="-1" strike="noStrike">
                <a:solidFill>
                  <a:srgbClr val="000000"/>
                </a:solidFill>
                <a:latin typeface="Arial"/>
              </a:rPr>
              <a:t>and </a:t>
            </a:r>
            <a:r>
              <a:rPr b="1" i="1" lang="en-US" sz="1600" spc="-1" strike="noStrike">
                <a:solidFill>
                  <a:srgbClr val="000000"/>
                </a:solidFill>
                <a:latin typeface="Arial"/>
              </a:rPr>
              <a:t>Market Input Interval tables.</a:t>
            </a: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columns will increase from 100 to 300.</a:t>
            </a: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MPs concern is that too much data pushed in one table which may slow down data queries/uploads.</a:t>
            </a: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e data may be already available to MPs in GREDP data</a:t>
            </a: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 needed if  a separate table or extract is to be created for 5 Minute data only.</a:t>
            </a: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some MPs would like to have the 5 minute data and may not receive it until SCR is implemented.</a:t>
            </a:r>
            <a:endParaRPr b="1" lang="en-US" sz="1600" spc="-1" strike="noStrike">
              <a:solidFill>
                <a:srgbClr val="000000"/>
              </a:solidFill>
              <a:latin typeface="Arial"/>
            </a:endParaRPr>
          </a:p>
          <a:p>
            <a:pPr marL="343080" indent="-343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This will be a voting item at next COPS meeting.</a:t>
            </a: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PPR 347/391 IMPLEMENTATION</a:t>
            </a:r>
            <a:endParaRPr b="0" lang="en-US" sz="2000" spc="-1" strike="noStrike">
              <a:solidFill>
                <a:srgbClr val="000000"/>
              </a:solidFill>
              <a:latin typeface="Arial Black"/>
            </a:endParaRPr>
          </a:p>
        </p:txBody>
      </p:sp>
      <p:sp>
        <p:nvSpPr>
          <p:cNvPr id="93" name=""/>
          <p:cNvSpPr txBox="1"/>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Settlement Invoice( DAM &amp; RTM Combined) posts on 11/12</a:t>
            </a:r>
            <a:endParaRPr b="1" lang="en-US" sz="2000" spc="-1" strike="noStrike">
              <a:solidFill>
                <a:srgbClr val="000000"/>
              </a:solidFill>
              <a:latin typeface="Arial"/>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ments due to ERCOT on 11/14, on the 2</a:t>
            </a:r>
            <a:r>
              <a:rPr b="0" lang="en-US" sz="2000" spc="-1" strike="noStrike" baseline="30000">
                <a:solidFill>
                  <a:srgbClr val="000000"/>
                </a:solidFill>
                <a:latin typeface="Arial"/>
              </a:rPr>
              <a:t>nd</a:t>
            </a:r>
            <a:r>
              <a:rPr b="0" lang="en-US" sz="2000" spc="-1" strike="noStrike">
                <a:solidFill>
                  <a:srgbClr val="000000"/>
                </a:solidFill>
                <a:latin typeface="Arial"/>
              </a:rPr>
              <a:t> BBD</a:t>
            </a: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Reminder November 12 is Veterans Day and Bank Holiday</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st DAM Invoice is for Operating Day 11/7</a:t>
            </a:r>
            <a:endParaRPr b="1" lang="en-US" sz="2000" spc="-1" strike="noStrike">
              <a:solidFill>
                <a:srgbClr val="000000"/>
              </a:solidFill>
              <a:latin typeface="Arial"/>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 on 11/9</a:t>
            </a:r>
            <a:endParaRPr b="0" lang="en-US" sz="2000" spc="-1" strike="noStrike">
              <a:solidFill>
                <a:srgbClr val="000000"/>
              </a:solidFill>
              <a:latin typeface="Arial"/>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ments due to ERCOT on 11/15, on the 3</a:t>
            </a:r>
            <a:r>
              <a:rPr b="0" lang="en-US" sz="2000" spc="-1" strike="noStrike" baseline="30000">
                <a:solidFill>
                  <a:srgbClr val="000000"/>
                </a:solidFill>
                <a:latin typeface="Arial"/>
              </a:rPr>
              <a:t>rd</a:t>
            </a:r>
            <a:r>
              <a:rPr b="0" lang="en-US" sz="2000" spc="-1" strike="noStrike">
                <a:solidFill>
                  <a:srgbClr val="000000"/>
                </a:solidFill>
                <a:latin typeface="Arial"/>
              </a:rPr>
              <a:t> BBD</a:t>
            </a:r>
            <a:endParaRPr b="0" lang="en-US" sz="2000" spc="-1" strike="noStrike">
              <a:solidFill>
                <a:srgbClr val="000000"/>
              </a:solidFill>
              <a:latin typeface="Arial"/>
            </a:endParaRPr>
          </a:p>
          <a:p>
            <a:pPr lvl="1" marL="8002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st RTM Invoice posts on 11/15</a:t>
            </a:r>
            <a:endParaRPr b="1" lang="en-US" sz="2000" spc="-1" strike="noStrike">
              <a:solidFill>
                <a:srgbClr val="000000"/>
              </a:solidFill>
              <a:latin typeface="Arial"/>
            </a:endParaRPr>
          </a:p>
          <a:p>
            <a:pPr lvl="2" marL="8002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s due to ERCOT on 11/26, on the 5</a:t>
            </a:r>
            <a:r>
              <a:rPr b="0" lang="en-US" sz="2400" spc="-1" strike="noStrike" baseline="30000">
                <a:solidFill>
                  <a:srgbClr val="000000"/>
                </a:solidFill>
                <a:latin typeface="Arial"/>
              </a:rPr>
              <a:t>th</a:t>
            </a:r>
            <a:r>
              <a:rPr b="0" lang="en-US" sz="2400" spc="-1" strike="noStrike">
                <a:solidFill>
                  <a:srgbClr val="000000"/>
                </a:solidFill>
                <a:latin typeface="Arial"/>
              </a:rPr>
              <a:t> BBD</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Reducing the RTM Settlement Time Line</a:t>
            </a:r>
            <a:endParaRPr b="0" lang="en-US" sz="2000" spc="-1" strike="noStrike">
              <a:solidFill>
                <a:srgbClr val="000000"/>
              </a:solidFill>
              <a:latin typeface="Arial Black"/>
            </a:endParaRPr>
          </a:p>
        </p:txBody>
      </p:sp>
      <p:sp>
        <p:nvSpPr>
          <p:cNvPr id="96" name=""/>
          <p:cNvSpPr txBox="1"/>
          <p:nvPr/>
        </p:nvSpPr>
        <p:spPr>
          <a:xfrm>
            <a:off x="457200" y="761760"/>
            <a:ext cx="8229600" cy="5562360"/>
          </a:xfrm>
          <a:prstGeom prst="rect">
            <a:avLst/>
          </a:prstGeom>
          <a:noFill/>
          <a:ln w="0">
            <a:noFill/>
          </a:ln>
        </p:spPr>
        <p:txBody>
          <a:bodyPr anchor="t">
            <a:normAutofit/>
          </a:bodyPr>
          <a:p>
            <a:pPr lvl="1"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CT meeting on 9/28/2012 Agenda Item # 16, </a:t>
            </a:r>
            <a:r>
              <a:rPr b="1" i="1" lang="en-US" sz="1600" spc="-1" strike="noStrike">
                <a:solidFill>
                  <a:srgbClr val="000000"/>
                </a:solidFill>
                <a:latin typeface="Arial"/>
              </a:rPr>
              <a:t>Project No: 40000 Commission Proceeding to Ensure Resource Adequacy in Texas</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issioner Anderson discussed  benefits of reducing the settlement time line to 3 days</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listen to the discussion at PUCT Open Meeting video clip via link below</a:t>
            </a:r>
            <a:endParaRPr b="0" lang="en-US" sz="1600" spc="-1" strike="noStrike">
              <a:solidFill>
                <a:srgbClr val="000000"/>
              </a:solidFill>
              <a:latin typeface="Arial"/>
            </a:endParaRPr>
          </a:p>
          <a:p>
            <a:pPr lvl="1"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cc"/>
                </a:solidFill>
                <a:uFillTx/>
                <a:latin typeface="Arial"/>
              </a:rPr>
              <a:t>http://streaming.aanet.org/ramgen/puc/smil/PUCT_OM092812-160.smil</a:t>
            </a:r>
            <a:endParaRPr b="0" lang="en-US" sz="1600" spc="-1" strike="noStrike">
              <a:solidFill>
                <a:srgbClr val="000000"/>
              </a:solidFill>
              <a:latin typeface="Arial"/>
            </a:endParaRPr>
          </a:p>
          <a:p>
            <a:pPr lvl="1"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PS workshop  with WEBEX is scheduled on November 6, 2012 after the COPS meeting 12:30-4:00 pm at Met Center 206B</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Notice was sent to COPS, WMS, RMS, CSWG, PWG, CWG, MCWG</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on items for next steps and high level cost benefit summary will be provided to TAC at their November 29, 2012 meeting</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llow up discussions will be also held at CSWG meeting on November 19, 2012</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04920"/>
            <a:ext cx="8686800" cy="38088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nnual TAC Review of Subcommittees</a:t>
            </a:r>
            <a:br>
              <a:rPr sz="2000"/>
            </a:br>
            <a:endParaRPr b="0" lang="en-US" sz="2000" spc="-1" strike="noStrike">
              <a:solidFill>
                <a:srgbClr val="000000"/>
              </a:solidFill>
              <a:latin typeface="Arial Black"/>
            </a:endParaRPr>
          </a:p>
        </p:txBody>
      </p:sp>
      <p:sp>
        <p:nvSpPr>
          <p:cNvPr id="98" name=""/>
          <p:cNvSpPr txBox="1"/>
          <p:nvPr/>
        </p:nvSpPr>
        <p:spPr>
          <a:xfrm>
            <a:off x="457200" y="762120"/>
            <a:ext cx="8229600" cy="5410080"/>
          </a:xfrm>
          <a:prstGeom prst="rect">
            <a:avLst/>
          </a:prstGeom>
          <a:noFill/>
          <a:ln w="0">
            <a:noFill/>
          </a:ln>
        </p:spPr>
        <p:txBody>
          <a:bodyPr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RCOT raised concerns about COPS’ short meetings</a:t>
            </a:r>
            <a:endParaRPr b="1"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ould COPS be eliminated and moved as a sub working group under WMS to use ERCOT resources more efficiently?</a:t>
            </a:r>
            <a:endParaRPr b="1"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C Chair attended the October COPS meeting, answered questions and addressed COPS Members’ concerns</a:t>
            </a:r>
            <a:endParaRPr b="1"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PS Members agree and support fully the annual review of each committee and group to improve the stakeholder process</a:t>
            </a:r>
            <a:endParaRPr b="1"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PS already combined 2 working groups into 1 and met only if needed in 2012</a:t>
            </a:r>
            <a:endParaRPr b="1"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PS Members told ERCOT Staff they can attend by WebEx or phone instead of traveling to Austin</a:t>
            </a:r>
            <a:endParaRPr b="1"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PS Members</a:t>
            </a:r>
            <a:r>
              <a:rPr b="0" i="1" lang="en-US" sz="1700" spc="-1" strike="noStrike">
                <a:solidFill>
                  <a:srgbClr val="ff0000"/>
                </a:solidFill>
                <a:latin typeface="Arial"/>
              </a:rPr>
              <a:t> agreed strongly that a separate and independent forum with a voting structure </a:t>
            </a:r>
            <a:r>
              <a:rPr b="0" lang="en-US" sz="1700" spc="-1" strike="noStrike">
                <a:solidFill>
                  <a:srgbClr val="000000"/>
                </a:solidFill>
                <a:latin typeface="Arial"/>
              </a:rPr>
              <a:t>is needed for the Settlement and Back Office professionals of the market to discuss the issues directly affecting their processes with ERCOT SMEs and their peers</a:t>
            </a:r>
            <a:endParaRPr b="1"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oftware vendors also stated that they benefit greatly from the detailed technical  discussions at the COPS/CSWG meetings</a:t>
            </a:r>
            <a:endParaRPr b="1"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urrently the COPS/CSWG is the only forum dedicated to that purpose</a:t>
            </a:r>
            <a:endParaRPr b="1" lang="en-US" sz="17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nnual TAC Review of Subcommittees cont.</a:t>
            </a:r>
            <a:br>
              <a:rPr sz="2000"/>
            </a:br>
            <a:endParaRPr b="0" lang="en-US" sz="2000" spc="-1" strike="noStrike">
              <a:solidFill>
                <a:srgbClr val="000000"/>
              </a:solidFill>
              <a:latin typeface="Arial Black"/>
            </a:endParaRPr>
          </a:p>
        </p:txBody>
      </p:sp>
      <p:sp>
        <p:nvSpPr>
          <p:cNvPr id="100" name=""/>
          <p:cNvSpPr txBox="1"/>
          <p:nvPr/>
        </p:nvSpPr>
        <p:spPr>
          <a:xfrm>
            <a:off x="457200" y="838080"/>
            <a:ext cx="8229600" cy="5181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S Members’ and attendees’ concerns with moving under WMS are:</a:t>
            </a:r>
            <a:endParaRPr b="1" lang="en-US" sz="24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MS agenda’s are already full each meeting with complex issues that require long discussion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ttlement and Extract SMEs usually do not attend WMS meeting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f pushed to the end of the agenda, sometimes there is no quorum left to vote on the items that could be very important to Back Office personnel but not so important to the typical WMS attendee</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Volume of items tabled and pushed to the next month’s agenda</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urrent structure allows Settlement SMEs to meet, discuss and decide efficiently the issues directly affecting them with no policy or operational impact and take them directly to the TAC instead of taking them to the WMS and then the TAC</a:t>
            </a:r>
            <a:endParaRPr b="0" lang="en-US" sz="19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PS Members’ Recommendation to TAC for 2013</a:t>
            </a:r>
            <a:endParaRPr b="0" lang="en-US" sz="2000" spc="-1" strike="noStrike">
              <a:solidFill>
                <a:srgbClr val="000000"/>
              </a:solidFill>
              <a:latin typeface="Arial Black"/>
            </a:endParaRPr>
          </a:p>
        </p:txBody>
      </p:sp>
      <p:sp>
        <p:nvSpPr>
          <p:cNvPr id="102" name=""/>
          <p:cNvSpPr txBox="1"/>
          <p:nvPr/>
        </p:nvSpPr>
        <p:spPr>
          <a:xfrm>
            <a:off x="457200" y="761760"/>
            <a:ext cx="8229600" cy="525780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COPS as  a separate subcommittee directly reporting to the TAC</a:t>
            </a:r>
            <a:endParaRPr b="1"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S will schedule combined meetings with its working groups, the CSWG and the PWG, as much as possible in 2013</a:t>
            </a:r>
            <a:endParaRPr b="1"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e effectiveness throughout the year and report to the TAC if any changes are needed</a:t>
            </a:r>
            <a:endParaRPr b="1"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if COPS is eliminated and the PWG moved under the RMS, keep the CSWG as a separate WG reporting directly to the TAC</a:t>
            </a:r>
            <a:endParaRPr b="1" lang="en-US" sz="24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UPCOMING</a:t>
            </a:r>
            <a:endParaRPr b="0" lang="en-US" sz="2000" spc="-1" strike="noStrike">
              <a:solidFill>
                <a:srgbClr val="000000"/>
              </a:solidFill>
              <a:latin typeface="Arial Black"/>
            </a:endParaRPr>
          </a:p>
        </p:txBody>
      </p:sp>
      <p:sp>
        <p:nvSpPr>
          <p:cNvPr id="104" name=""/>
          <p:cNvSpPr txBox="1"/>
          <p:nvPr/>
        </p:nvSpPr>
        <p:spPr>
          <a:xfrm>
            <a:off x="304920" y="762120"/>
            <a:ext cx="8229600" cy="502920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5880" indent="-3358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WORKSHOP TO DISCUSS REDUCING THE SETTLEMENT TIME LINE</a:t>
            </a:r>
            <a:endParaRPr b="1"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November 6, Tuesday 2012 after COPS Meeting</a:t>
            </a:r>
            <a:endParaRPr b="1"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30-4:30 pm ERCOT Met Center Room 206B</a:t>
            </a:r>
            <a:endParaRPr b="1"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9999"/>
                </a:solidFill>
                <a:uFillTx/>
                <a:latin typeface="Arial"/>
                <a:hlinkClick r:id="rId1"/>
              </a:rPr>
              <a:t>WebEx Conference</a:t>
            </a:r>
            <a:endParaRPr b="1"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leconference: 1-877-668-4493</a:t>
            </a:r>
            <a:endParaRPr b="1"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eting number: 655 977 604</a:t>
            </a:r>
            <a:endParaRPr b="1"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eting password: STW123</a:t>
            </a:r>
            <a:endParaRPr b="1"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 COPS MEETINGs:</a:t>
            </a:r>
            <a:endParaRPr b="1"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VEMBER 6, 2012 TUESDAY</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CEMBER 14, 2012 FRIDAY</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IG MAMA</dc:creator>
  <dc:description/>
  <dc:language>en-US</dc:language>
  <cp:lastModifiedBy>BIG MAMA</cp:lastModifiedBy>
  <dcterms:modified xsi:type="dcterms:W3CDTF">2012-10-31T23:27:13Z</dcterms:modified>
  <cp:revision>432</cp:revision>
  <dc:subject/>
  <dc:title>Instructions</dc:title>
</cp:coreProperties>
</file>