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890D38-B63D-47C3-A69A-DBCBE3B1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3A52F-CEB0-4D03-866E-451C7740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08B8F5-37B5-4334-929C-059C4002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68A84-F966-4326-9558-18BC2758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8CBD-9C86-407D-9D97-DA6C8B9CA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D86C-E576-492C-B000-D7572502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EFA1-0FE6-4DFD-912A-DBF9AED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14EF-A9F9-4D81-AF22-716689822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226D-2906-4B93-9F48-CCBFA5A8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7A9F-467F-45E2-B7F8-0B493D8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068E-3661-4D64-B753-4B93B12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E7D7-ADF8-42A4-AB9E-A85D142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B602-5449-4894-B1C0-AF5B8416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1F8E-F83B-471B-A92B-65C55526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199D-1CA5-4BB9-81B7-3CE0366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21D0-1B05-48D3-A413-1B0CF08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3991-5E4E-425D-84AC-1757C128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058-5974-486D-AF60-CAC13C4E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projects/inde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371600" y="1752480"/>
            <a:ext cx="72388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Integration Update to P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581280"/>
            <a:ext cx="2590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20,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ppendix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4/2012 Project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flight items sorted by Project End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tarted” items sorted by Project Start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9/14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11240" y="676440"/>
            <a:ext cx="88804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9/14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76320" y="585720"/>
            <a:ext cx="897732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9/14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87480" y="585720"/>
            <a:ext cx="89931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9/14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63360" y="542880"/>
            <a:ext cx="902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52280" y="13500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52280" y="189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ject Portfolio Status – as of 9/14/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76320" y="601560"/>
            <a:ext cx="89643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37120" indent="-21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Portfolio 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3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332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coming Project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change of R5 release to 10/16-1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332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s/Revisions i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 target release dates in strike-through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07 - MMS/CDR portion to go live in 2012-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332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Releas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includes target release dat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07 - CRR portion to go live in 2012-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332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Spe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-214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emand is reduced, reflecting shifting of work int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42800" indent="0">
              <a:spcBef>
                <a:spcPts val="249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ly Project Prioritization Discu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7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3320" indent="-214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Portfolio Gantt Ch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11-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6864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85800" y="5672160"/>
            <a:ext cx="7772400" cy="70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 of Project Priority List (PPL):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services/projects/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2"/>
          <p:cNvSpPr/>
          <p:nvPr/>
        </p:nvSpPr>
        <p:spPr>
          <a:xfrm flipH="1">
            <a:off x="4240080" y="233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pcoming Project Implement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s in Sept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no integrated software rel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57 – Revisions to Collateral Requirements Concerning CRR A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430 – Corrections Related to NPRR357, Revisions to Collateral Requirements Concerning CRR Auctions, and Clarification to Collateral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-Lives in October (R5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/16/2012 – 10/18/20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65 – Change in Resource Outage Approvals from Eight to 45 Day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4 Automation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job scheduling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gency Functionality Enhanc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more granular level of defining contingenc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P-ID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between back office ERCOT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52480" y="6248520"/>
            <a:ext cx="6172200" cy="43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 Projected Go-Live dates are subject to chan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atch for market notices as the effective dates approac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2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" name="Group 3" descr=""/>
          <p:cNvPicPr/>
          <p:nvPr/>
        </p:nvPicPr>
        <p:blipFill>
          <a:blip r:embed="rId1"/>
          <a:stretch/>
        </p:blipFill>
        <p:spPr>
          <a:xfrm>
            <a:off x="109440" y="755640"/>
            <a:ext cx="896148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44440" y="5682240"/>
            <a:ext cx="23464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ld indicates inclusion in the original Board-approved 2012 PP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773440" y="5682960"/>
            <a:ext cx="238104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), (b), etc. indicates multiple release phas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419200" y="6254640"/>
            <a:ext cx="3581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targets are subject to chan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6858000" y="3532320"/>
            <a:ext cx="11336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4656240" y="3532320"/>
            <a:ext cx="11682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-Sep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3505320" y="3532320"/>
            <a:ext cx="11523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Ju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1279440" y="3532320"/>
            <a:ext cx="11430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5824440" y="3532320"/>
            <a:ext cx="102420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y Oc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419200" y="3532320"/>
            <a:ext cx="10875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8001000" y="3220560"/>
            <a:ext cx="1050840" cy="307080"/>
          </a:xfrm>
          <a:prstGeom prst="rect">
            <a:avLst/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e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5334120" y="5655960"/>
            <a:ext cx="3581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 Text:  New additions and target release chan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5334120" y="5916960"/>
            <a:ext cx="3581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ike-Through Text:  Previous target release chan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3 Release Targets – Board-Approved NPRRs/SCRs/xGR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Group 3" descr=""/>
          <p:cNvPicPr/>
          <p:nvPr/>
        </p:nvPicPr>
        <p:blipFill>
          <a:blip r:embed="rId1"/>
          <a:stretch/>
        </p:blipFill>
        <p:spPr>
          <a:xfrm>
            <a:off x="73080" y="755640"/>
            <a:ext cx="8918640" cy="4005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7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6723000" y="3276720"/>
            <a:ext cx="112572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2209680" y="3276720"/>
            <a:ext cx="11937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4444920" y="3276720"/>
            <a:ext cx="12272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3403440" y="3276720"/>
            <a:ext cx="10414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143000" y="3276720"/>
            <a:ext cx="10666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5672160" y="3276720"/>
            <a:ext cx="105084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898560" y="5545440"/>
            <a:ext cx="739152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o-live dates can differ from Protocol effective dates – Please refer to market notices for more detail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7848720" y="2692440"/>
            <a:ext cx="1125360" cy="672480"/>
          </a:xfrm>
          <a:prstGeom prst="rect">
            <a:avLst/>
          </a:prstGeom>
          <a:solidFill>
            <a:srgbClr val="f3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 TB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237960" y="4982400"/>
            <a:ext cx="23464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ld indicates inclusion in the original Board-approved 2012 PP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1"/>
          <p:cNvSpPr/>
          <p:nvPr/>
        </p:nvSpPr>
        <p:spPr>
          <a:xfrm>
            <a:off x="2766960" y="4982400"/>
            <a:ext cx="238140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), (b), etc. indicates multiple release phas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2584440" y="5929560"/>
            <a:ext cx="3581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targets are subject to chang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5327640" y="4955760"/>
            <a:ext cx="3581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 Text:  New additions and target release chan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5327640" y="5215320"/>
            <a:ext cx="35812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ike-Through Text:  Previous target release chan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Spend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85760" y="843120"/>
          <a:ext cx="8729640" cy="3660480"/>
        </p:xfrm>
        <a:graphic>
          <a:graphicData uri="http://schemas.openxmlformats.org/drawingml/2006/table">
            <a:tbl>
              <a:tblPr/>
              <a:tblGrid>
                <a:gridCol w="2176560"/>
                <a:gridCol w="1600200"/>
                <a:gridCol w="1676160"/>
                <a:gridCol w="1676520"/>
                <a:gridCol w="1600200"/>
              </a:tblGrid>
              <a:tr h="128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 –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tegor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Budge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ffective 1/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YTD Actu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8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Spending Projection of     In-Flight Projec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8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2012 Dema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s of 8/31/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74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Strateg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221,28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880,22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453,71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74,249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57,67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7,15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ies/Enhanceme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92,253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95,16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83,132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ound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126,59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520,644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88,365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5,000,000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914,386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6,053,708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7,012,371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38" name="Footer Placeholder 7"/>
          <p:cNvSpPr/>
          <p:nvPr/>
        </p:nvSpPr>
        <p:spPr>
          <a:xfrm>
            <a:off x="6248520" y="63244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8600" y="4876560"/>
            <a:ext cx="868680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33520" y="510660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folio Budg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2012 project budget approved as a part of the 2012 ERCOT budget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33520" y="55623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2 Spending Projection of In-Flight Projec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Projected total 2012 spend for all projects that ar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-fligh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r ar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le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33520" y="57909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2012 Deman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Total cost of all 2012 candidate projects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let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-fligh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 start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33520" y="5333760"/>
            <a:ext cx="8381880" cy="2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2 YTD Actua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Actual year to date charges recorded in the financial system at the end of the previous month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PL Prioritization Discuss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quarterly basis, PRS conducts a review of upcoming revision request project efforts in order to get stakeholder input on the priority of items in the project que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’s discussion will center on the timing of 24 upcoming eff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NPRRs, SCRs and NOGRRs that are Board-approved with PPL projects that have not yet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NPRRs, SCRs and NOGRRs that require additional analysis before seeking final Boar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the remaining Parking Deck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tatus of each reported to the Board of Directors this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PL Prioritization Discussion – Revision Requests “Not Started”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746280"/>
          <a:ext cx="8839440" cy="5441760"/>
        </p:xfrm>
        <a:graphic>
          <a:graphicData uri="http://schemas.openxmlformats.org/drawingml/2006/table">
            <a:tbl>
              <a:tblPr/>
              <a:tblGrid>
                <a:gridCol w="7543800"/>
                <a:gridCol w="12956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Reque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32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tate Estimator Data Redaction Methodolog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7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Participation of Quick Start Generation Resour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1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Removal of the RUC Clawback Charge … Other than RMR Uni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1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Revise Real Time Energy Imbalance and RMR Adjustment Char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7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Allow Independent Master QSE to Represent Split Gen. Resour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8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aily Grid Operations Summary Rep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3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Updating a Counter-Party's Avail. Credit Limit for Current Day DA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56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lectrically Similar Settlement Points and Heuristic Pricing Posti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6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ASM Procurement Reporti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 20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Unit Desele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39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CED Constraint Management Transparen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7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Rev. to Outage Sched. Entry for Resource Maint. Outage Level Desig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5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aily Update of New ESIIDs &amp; AMS Meter &amp; Switch Hold Ind. Chg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6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RRAH Digital Certificate New Role for Read Only Acces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0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45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RR Shift Factors Rep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 20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PL Prioritization Discussion – Parking Deck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792000"/>
          <a:ext cx="8534160" cy="5396040"/>
        </p:xfrm>
        <a:graphic>
          <a:graphicData uri="http://schemas.openxmlformats.org/drawingml/2006/table">
            <a:tbl>
              <a:tblPr/>
              <a:tblGrid>
                <a:gridCol w="5234040"/>
                <a:gridCol w="33001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Reque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Analysis (IA) to be considered at 9/20/12 P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11/3/11 TA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solution of Alignment Items A33, A92, A106, and A150 - TSPs Must Submit Outages for Resource Owned Equipment and Clarification of Changes in Status of Transmission Element Posting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5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solution of Reporting Issues Related to NPRR2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2/11 Board considered IA; took no a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/ROS reviewing current ne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5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ynchronization with NOGRR0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2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Monitoring Programs for QSEs, TSPs, and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has categorized reports (~50) and will review next steps with stakehold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GRR03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scind Telemetry Performance Calculation Exclus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/ROS reviewing ne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developing IA for stakeholder review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Enhancements to the MarkeTra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reviewing with MarkeTrak Task For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nderson, Troy</dc:creator>
  <dc:description/>
  <dc:language>en-US</dc:language>
  <cp:lastModifiedBy>Anderson, Troy</cp:lastModifiedBy>
  <cp:lastPrinted>2012-09-19T12:56:07Z</cp:lastPrinted>
  <dcterms:modified xsi:type="dcterms:W3CDTF">2012-09-19T18:54:59Z</dcterms:modified>
  <cp:revision>1173</cp:revision>
  <dc:subject/>
  <dc:title>Instructions</dc:title>
</cp:coreProperties>
</file>