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98C6-BFDA-47D8-AE78-D3B2BFF555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776B-BBFC-4BB1-8397-045A60B4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C829-21AA-4BD4-A0BE-59FE1F3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D21A-F6F5-4A56-B3AA-ABEA3882DD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9D73-453B-4FD8-BC25-97FD7F6D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55B7-9FD3-4E74-890C-9B541A07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A369-12BA-4AE6-92F7-F46C4A3D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4A5D-1448-4891-A990-1D1FA0CD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2173-415B-4F5F-8E0E-71E284E2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8CE5-DE81-4B7D-8F3F-DB9FA1C5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6337-FFA6-4424-917E-5CB3BA95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B90C-C407-4C54-B3D1-8A2CE619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828C-27EC-42B4-97EE-614E38C88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119-F9BD-48A3-BBAE-A69F7D48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27E8-8745-4B67-B95A-24A2AA1C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D767-172D-4EC8-A116-64F84266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3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8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B676-969A-4B20-BD08-A687BC33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4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18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D7AF-F140-4005-ADEC-DCBD30806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53BA-925E-41E7-9B17-2466950F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65B1-5B50-4F16-846E-90812394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6998-3A9F-4191-896E-B04B1684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8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3C8-4FB2-4C4F-B766-13E41DC2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9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0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25B0-7A4B-4B89-9F9E-2F676E6D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0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8E3-5471-4C66-9033-9ACD62BF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7280" y="2923920"/>
            <a:ext cx="73119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eff Bil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Transmission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912960" y="1456920"/>
            <a:ext cx="731664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EC KEC-MEC Load Addition Project Regional Planning Group (RPG) Review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COT Independent Revie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914400" y="4343400"/>
            <a:ext cx="634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C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ptember 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"/>
          <p:cNvSpPr/>
          <p:nvPr/>
        </p:nvSpPr>
        <p:spPr>
          <a:xfrm>
            <a:off x="8418600" y="633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gle Ford Shale exploration and production is rapidly increasing in South Tex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 reserves estimated at 3 billion barrels and trillions of cubic feet of natural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sixth largest oil field discovery in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247 MW load increase on Karnes Electric Cooperative (KEC) and Medina Electric Cooperative (MEC) systems in Dimmit, La Salle and McMullen Cou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772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xisting load = 2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772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PG projects addressing needs in other cou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316224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PG Revie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 Texas Electric Cooperative submitted project for RPG Review in April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ssion system in area of load additions either does not exist or is mainly made up of 4/0 conductor 69 kV lines (40 MV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ransmission lines needed along with significant upgrades to exis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ndependent Review analyzed five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2017 analysis with 2021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steady-state contingency thermal and voltag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ensitivity for load growth 15% above 2021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erformed generator outag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most cost effec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ndorsemen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request the ERCOT BOD endorse the following improve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 a new Tilden – Fowlerton – Reveille 138 kV double circuit line (approx. 47 miles on new R.O.W.) so that each circuit Rate B is at least 240 M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 a new 138 kV substation near the STEC 69 kV Cotulla substation and loop the AEP Dilley – Cotulla 138 kV line into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(69/138 kV) autotransformer (with reverse power relays) at Cotulla so that the Rate B is at least 150 M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 a 69 kV substation on the AEP Carrizo – Crystal City 69 kV line and loop the STEC Brundage – Carrizo Springs 69 kV line into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 a new 69/138 kV BEVO substation near where the LCRA Asherton – Conoco Chittam Tap 138 kV line crosses the STEC Carrizo Springs – West Crystal 69 kV line. Loop these lines into BEVO and add a (69/138 kV) 150 MVA autotransfo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reverse power relays on the George West autotransfo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9.6 MVAR capacitor bank at George West 69 kV sub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19.2 MVAR capacitor banks at Tilden, Fowlerton and Jardin 138 kV sub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9.6 MVAR capacitor bank at Freer 69 kV sub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14.4 MVAR capacitor bank at Carrizo Springs 69 kV sub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4.6 MVAR capacitor bank at Brundage 69 kV sub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st estimate for these improvements is ~ $57 mill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pendix – Map of Study Are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819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Wilkins, Tisa</dc:creator>
  <dc:description/>
  <dc:language>en-US</dc:language>
  <cp:lastModifiedBy>Billo, Jeffrey</cp:lastModifiedBy>
  <dcterms:modified xsi:type="dcterms:W3CDTF">2012-08-31T18:16:11Z</dcterms:modified>
  <cp:revision>75</cp:revision>
  <dc:subject/>
  <dc:title>Instructions</dc:title>
</cp:coreProperties>
</file>