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C2035-21A9-4849-8BD3-6BBA406DC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F92A9-16EE-4247-8592-30F2E7E40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A6B3-4DC2-44EB-83CF-418BDB7F72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D19B-E4CE-46F1-BD8B-DBA10B85CB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4C0A-E3F3-485D-9AA7-DA94B5878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57AB-FADC-4533-97C4-2C054644A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0C4C-1FE4-4A72-89E0-27318BA98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5F559-90AD-42BA-9CAE-3B6ECE452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5BC28-2E3F-47C7-9067-29254FA3D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E481-E012-4C6E-90AA-45F09EB51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5804E-496E-449E-BCF2-BC927434B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84CAB-AAE6-454C-B7FE-593704631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8DAA91C-1F30-4E7C-B9F9-EBD5901E1C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743D0EB-A350-4784-A67E-0984A5225A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1E35A24-196D-4338-AE1D-2AE8FFF830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BB7AE11-3BC3-45A9-B4DB-7E4A04345B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1918FE9-CE78-4607-9A89-01BC8A9EB9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129AB73-3FD4-4631-B616-F6DB411FE3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17E43BC-6ADC-43FF-ADC6-4FF240E96A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7647807-0404-4B4B-8708-5B40DD3307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09B5BE0-6C56-4B5F-8562-533409402F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57E48A2-93B5-4D96-8FC4-2A60A98B5F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F1E47F3-0AC4-48AD-9E2F-C20171DCB9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6F27625-2FF3-464C-92D3-5ADF9FFFCDC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FBE3-5DE1-46A7-B495-ABF256A7DB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5, 2010</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888C-5E76-4930-A409-F675E7E46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5, 2010</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tocol Revision Subcommittee</a:t>
            </a:r>
            <a:endParaRPr b="0" lang="en-US" sz="2800" spc="-1" strike="noStrike">
              <a:solidFill>
                <a:srgbClr val="000000"/>
              </a:solidFill>
              <a:latin typeface="Arial Black"/>
            </a:endParaRPr>
          </a:p>
        </p:txBody>
      </p:sp>
      <p:sp>
        <p:nvSpPr>
          <p:cNvPr id="94"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om Burke</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ptember 7, 2012</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52280"/>
            <a:ext cx="8763120" cy="9907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n-US" sz="2000" spc="-1" strike="noStrike">
                <a:solidFill>
                  <a:srgbClr val="000000"/>
                </a:solidFill>
                <a:latin typeface="Arial Black"/>
              </a:rPr>
              <a:t>NPRR470, Real-Time PTP Option Modeling Language Cleanup - URGENT. </a:t>
            </a:r>
            <a:br>
              <a:rPr sz="2000"/>
            </a:br>
            <a:br>
              <a:rPr sz="2000"/>
            </a:br>
            <a:br>
              <a:rPr sz="2000"/>
            </a:br>
            <a:endParaRPr b="0" lang="en-US" sz="2000" spc="-1" strike="noStrike">
              <a:solidFill>
                <a:srgbClr val="000000"/>
              </a:solidFill>
              <a:latin typeface="Arial Black"/>
            </a:endParaRPr>
          </a:p>
        </p:txBody>
      </p:sp>
      <p:graphicFrame>
        <p:nvGraphicFramePr>
          <p:cNvPr id="113" name=""/>
          <p:cNvGraphicFramePr/>
          <p:nvPr/>
        </p:nvGraphicFramePr>
        <p:xfrm>
          <a:off x="228600" y="990720"/>
          <a:ext cx="8763120" cy="3581280"/>
        </p:xfrm>
        <a:graphic>
          <a:graphicData uri="http://schemas.openxmlformats.org/drawingml/2006/table">
            <a:tbl>
              <a:tblPr/>
              <a:tblGrid>
                <a:gridCol w="2397240"/>
                <a:gridCol w="6365880"/>
              </a:tblGrid>
              <a:tr h="1311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changes certain billing determinant names to align the Protocols with as-built systems to reflect the implementation of NPRR322, Real-Time PTP Option Modeling, which was approved by the ERCOT Board on June 21, 201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8/23/12, PRS unanimously voted to recommend approval of NPRR470 as amended by the 8/6/12 ERCOT commen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ober 1, 20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79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4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consistency between Protocol language and as-built system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360"/>
            <a:ext cx="853416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472, Implementation Clarifications for Consideration of DC Tie Lines and Outages in CCTs - URGENT</a:t>
            </a:r>
            <a:endParaRPr b="0" lang="en-US" sz="2000" spc="-1" strike="noStrike">
              <a:solidFill>
                <a:srgbClr val="000000"/>
              </a:solidFill>
              <a:latin typeface="Arial Black"/>
            </a:endParaRPr>
          </a:p>
        </p:txBody>
      </p:sp>
      <p:graphicFrame>
        <p:nvGraphicFramePr>
          <p:cNvPr id="115" name=""/>
          <p:cNvGraphicFramePr/>
          <p:nvPr/>
        </p:nvGraphicFramePr>
        <p:xfrm>
          <a:off x="152280" y="838080"/>
          <a:ext cx="8763120" cy="4542120"/>
        </p:xfrm>
        <a:graphic>
          <a:graphicData uri="http://schemas.openxmlformats.org/drawingml/2006/table">
            <a:tbl>
              <a:tblPr/>
              <a:tblGrid>
                <a:gridCol w="2397240"/>
                <a:gridCol w="6365880"/>
              </a:tblGrid>
              <a:tr h="17989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proposes changes to the language that was approved by the ERCOT Board on July 17, 2012 as part of NPRR469, Modifications to CCTs.   Specifically, consideration of DC Tie lines for CCTs is updated such that full import capability is counted towards the export side of a constraint but zero MW are counted on the import side of a constraint; and such that planned transmission and Resource Outages are not included in the Long-Term C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8/23/12, PRS voted to recommend approval of NPRR472 as submitted.  There were three abstentions from the Municipal, IOU and IPM Market Segment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ober 1, 20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 (managed under NPRR469 implement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tocols were previously changed as part of NPRR469 with the purpose of improving the CCT process and results.  These changes will improve the current language to better align Protocols with the process that was intended.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0"/>
            <a:ext cx="8763120" cy="9907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477, Exception for Block Load Transfers at Presidio - URGENT. </a:t>
            </a:r>
            <a:br>
              <a:rPr sz="2000"/>
            </a:br>
            <a:endParaRPr b="0" lang="en-US" sz="2000" spc="-1" strike="noStrike">
              <a:solidFill>
                <a:srgbClr val="000000"/>
              </a:solidFill>
              <a:latin typeface="Arial Black"/>
            </a:endParaRPr>
          </a:p>
        </p:txBody>
      </p:sp>
      <p:graphicFrame>
        <p:nvGraphicFramePr>
          <p:cNvPr id="117" name=""/>
          <p:cNvGraphicFramePr/>
          <p:nvPr/>
        </p:nvGraphicFramePr>
        <p:xfrm>
          <a:off x="228600" y="914400"/>
          <a:ext cx="8763120" cy="4635360"/>
        </p:xfrm>
        <a:graphic>
          <a:graphicData uri="http://schemas.openxmlformats.org/drawingml/2006/table">
            <a:tbl>
              <a:tblPr/>
              <a:tblGrid>
                <a:gridCol w="2397240"/>
                <a:gridCol w="6365880"/>
              </a:tblGrid>
              <a:tr h="1219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E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establishes an exception to the VDI requirement for BLTs that will only be applied to energy flowing from the Comisión Federal de Electricidad (CFE) into the BLT Point at Presidio that is necessary to maintain reliability in that are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1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8/23/12, PRS voted to recommend approval of NPRR477 as amended by the 8/23/12 ERCOT comments and to forward NPRR477 to TAC.  There was one abstention from the Consumer Market Segmen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ober 1, 20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 (ERCOT business functions will be upda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82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cessary to maintain reliability for consumers in the Presidio area; Ensures a positive ongoing relationship with CFE; Creates a solution that is more economical than additional transmission proje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Other Binding Documents</a:t>
            </a:r>
            <a:endParaRPr b="0" lang="en-US" sz="2000" spc="-1" strike="noStrike">
              <a:solidFill>
                <a:srgbClr val="000000"/>
              </a:solidFill>
              <a:latin typeface="Arial Black"/>
            </a:endParaRPr>
          </a:p>
        </p:txBody>
      </p:sp>
      <p:sp>
        <p:nvSpPr>
          <p:cNvPr id="119" name="PlaceHolder 2"/>
          <p:cNvSpPr>
            <a:spLocks noGrp="1"/>
          </p:cNvSpPr>
          <p:nvPr>
            <p:ph/>
          </p:nvPr>
        </p:nvSpPr>
        <p:spPr>
          <a:xfrm>
            <a:off x="228600" y="838080"/>
            <a:ext cx="8153280" cy="56390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oval of Power System Planning Charter and Processes/Regional Planning Group (RPG) Processes and Procedures</a:t>
            </a:r>
            <a:endParaRPr b="1"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70c0"/>
                </a:solidFill>
                <a:latin typeface="Arial"/>
              </a:rPr>
              <a:t>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949a"/>
                </a:solidFill>
                <a:latin typeface="Arial"/>
              </a:rPr>
              <a:t>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304920" y="0"/>
            <a:ext cx="822960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mmary of Revision Requests</a:t>
            </a:r>
            <a:endParaRPr b="0" lang="en-US" sz="2000" spc="-1" strike="noStrike">
              <a:solidFill>
                <a:srgbClr val="000000"/>
              </a:solidFill>
              <a:latin typeface="Arial"/>
            </a:endParaRPr>
          </a:p>
        </p:txBody>
      </p:sp>
      <p:sp>
        <p:nvSpPr>
          <p:cNvPr id="96" name="Rectangle 3"/>
          <p:cNvSpPr/>
          <p:nvPr/>
        </p:nvSpPr>
        <p:spPr>
          <a:xfrm>
            <a:off x="304920" y="990720"/>
            <a:ext cx="8153280" cy="56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NPRRs Recommended for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Other Binding Document Recommended for Removal from OBD Li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98" name="PlaceHolder 2"/>
          <p:cNvSpPr>
            <a:spLocks noGrp="1"/>
          </p:cNvSpPr>
          <p:nvPr>
            <p:ph/>
          </p:nvPr>
        </p:nvSpPr>
        <p:spPr>
          <a:xfrm>
            <a:off x="228600" y="838080"/>
            <a:ext cx="8153280" cy="5639040"/>
          </a:xfrm>
          <a:prstGeom prst="rect">
            <a:avLst/>
          </a:prstGeom>
          <a:noFill/>
          <a:ln w="0">
            <a:noFill/>
          </a:ln>
        </p:spPr>
        <p:txBody>
          <a:bodyPr anchor="t">
            <a:normAutofit fontScale="74000"/>
          </a:bodyPr>
          <a:p>
            <a:pPr marL="253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Unopposed Recommendations</a:t>
            </a:r>
            <a:endParaRPr b="1" lang="en-US" sz="1600" spc="-1" strike="noStrike">
              <a:solidFill>
                <a:srgbClr val="000000"/>
              </a:solidFill>
              <a:latin typeface="Arial"/>
            </a:endParaRPr>
          </a:p>
          <a:p>
            <a:pPr marL="253800" indent="-25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460, WGR Ramp Rate Limitations*</a:t>
            </a:r>
            <a:endParaRPr b="1" lang="en-US" sz="1600" spc="-1" strike="noStrike">
              <a:solidFill>
                <a:srgbClr val="000000"/>
              </a:solidFill>
              <a:latin typeface="Arial"/>
            </a:endParaRPr>
          </a:p>
          <a:p>
            <a:pPr marL="253800" indent="-25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464, SASM Procurement Reporting</a:t>
            </a:r>
            <a:endParaRPr b="1" lang="en-US" sz="1600" spc="-1" strike="noStrike">
              <a:solidFill>
                <a:srgbClr val="000000"/>
              </a:solidFill>
              <a:latin typeface="Arial"/>
            </a:endParaRPr>
          </a:p>
          <a:p>
            <a:pPr marL="253800" indent="-25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466, Asset Depreciation Schedule for Capital Contributions*</a:t>
            </a:r>
            <a:endParaRPr b="1" lang="en-US" sz="1600" spc="-1" strike="noStrike">
              <a:solidFill>
                <a:srgbClr val="000000"/>
              </a:solidFill>
              <a:latin typeface="Arial"/>
            </a:endParaRPr>
          </a:p>
          <a:p>
            <a:pPr marL="253800" indent="-25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467, Balancing Account Resettlement Due to DAM Resettlement*</a:t>
            </a:r>
            <a:endParaRPr b="1" lang="en-US" sz="1600" spc="-1" strike="noStrike">
              <a:solidFill>
                <a:srgbClr val="000000"/>
              </a:solidFill>
              <a:latin typeface="Arial"/>
            </a:endParaRPr>
          </a:p>
          <a:p>
            <a:pPr marL="253800" indent="-25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470, Real-Time PTP Option Modeling Language Cleanup – URGENT* </a:t>
            </a:r>
            <a:endParaRPr b="1" lang="en-US" sz="1600" spc="-1" strike="noStrike">
              <a:solidFill>
                <a:srgbClr val="000000"/>
              </a:solidFill>
              <a:latin typeface="Arial"/>
            </a:endParaRPr>
          </a:p>
          <a:p>
            <a:pPr marL="253800" indent="-25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472, Implementation Clarifications for Consideration of DC Tie Lines and Outages in CCTs – URGENT*</a:t>
            </a:r>
            <a:endParaRPr b="1" lang="en-US" sz="1600" spc="-1" strike="noStrike">
              <a:solidFill>
                <a:srgbClr val="000000"/>
              </a:solidFill>
              <a:latin typeface="Arial"/>
            </a:endParaRPr>
          </a:p>
          <a:p>
            <a:pPr marL="253800" indent="-25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477, Exception for Block Load Transfers at Presidio – URGENT*</a:t>
            </a:r>
            <a:endParaRPr b="1" lang="en-US" sz="1600" spc="-1" strike="noStrike">
              <a:solidFill>
                <a:srgbClr val="000000"/>
              </a:solidFill>
              <a:latin typeface="Arial"/>
            </a:endParaRPr>
          </a:p>
          <a:p>
            <a:pPr marL="253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53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s with Opposing Votes</a:t>
            </a:r>
            <a:endParaRPr b="1" lang="en-US" sz="1600" spc="-1" strike="noStrike">
              <a:solidFill>
                <a:srgbClr val="000000"/>
              </a:solidFill>
              <a:latin typeface="Arial"/>
            </a:endParaRPr>
          </a:p>
          <a:p>
            <a:pPr marL="253800" indent="-253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425, Creation of a WGR Group for GREDP and Base Point Deviation Evaluation and Mixing Turbine Types Within a WGR (formerly “Creation of a WGR Group for GREDP and Base Point Deviation Evaluation”)</a:t>
            </a:r>
            <a:endParaRPr b="1" lang="en-US" sz="1600" spc="-1" strike="noStrike">
              <a:solidFill>
                <a:srgbClr val="000000"/>
              </a:solidFill>
              <a:latin typeface="Arial"/>
            </a:endParaRPr>
          </a:p>
          <a:p>
            <a:pPr lvl="1" marL="549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49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denotes no impacts)</a:t>
            </a:r>
            <a:endParaRPr b="0" lang="en-US" sz="1600" spc="-1" strike="noStrike">
              <a:solidFill>
                <a:srgbClr val="000000"/>
              </a:solidFill>
              <a:latin typeface="Arial"/>
            </a:endParaRPr>
          </a:p>
          <a:p>
            <a:pPr lvl="1" marL="54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70c0"/>
                </a:solidFill>
                <a:latin typeface="Arial"/>
              </a:rPr>
              <a:t>	</a:t>
            </a:r>
            <a:endParaRPr b="1" lang="en-US" sz="1600" spc="-1" strike="noStrike">
              <a:solidFill>
                <a:srgbClr val="000000"/>
              </a:solidFill>
              <a:latin typeface="Arial"/>
            </a:endParaRPr>
          </a:p>
          <a:p>
            <a:pPr marL="253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53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949a"/>
                </a:solidFill>
                <a:latin typeface="Arial"/>
              </a:rPr>
              <a:t>	</a:t>
            </a:r>
            <a:endParaRPr b="1" lang="en-US" sz="1600" spc="-1" strike="noStrike">
              <a:solidFill>
                <a:srgbClr val="000000"/>
              </a:solidFill>
              <a:latin typeface="Arial"/>
            </a:endParaRPr>
          </a:p>
          <a:p>
            <a:pPr marL="253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t>
            </a:r>
            <a:endParaRPr b="1" lang="en-US" sz="1600" spc="-1" strike="noStrike">
              <a:solidFill>
                <a:srgbClr val="000000"/>
              </a:solidFill>
              <a:latin typeface="Arial"/>
            </a:endParaRPr>
          </a:p>
          <a:p>
            <a:pPr marL="253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53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PRR Descriptions</a:t>
            </a:r>
            <a:endParaRPr b="0" lang="en-US" sz="2000" spc="-1" strike="noStrike">
              <a:solidFill>
                <a:srgbClr val="000000"/>
              </a:solidFill>
              <a:latin typeface="Arial Black"/>
            </a:endParaRPr>
          </a:p>
        </p:txBody>
      </p:sp>
      <p:sp>
        <p:nvSpPr>
          <p:cNvPr id="101"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PRRs Recommended for Approval</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425, </a:t>
            </a:r>
            <a:r>
              <a:rPr b="0" lang="en-US" sz="1800" spc="-1" strike="noStrike">
                <a:solidFill>
                  <a:srgbClr val="000000"/>
                </a:solidFill>
                <a:latin typeface="Arial Black"/>
              </a:rPr>
              <a:t>Creation of a WGR Group for GREDP and Base Point Deviation Evaluation and Mixing Turbine Types Within a WGR </a:t>
            </a:r>
            <a:endParaRPr b="0" lang="en-US" sz="1800" spc="-1" strike="noStrike">
              <a:solidFill>
                <a:srgbClr val="000000"/>
              </a:solidFill>
              <a:latin typeface="Arial Black"/>
            </a:endParaRPr>
          </a:p>
        </p:txBody>
      </p:sp>
      <p:graphicFrame>
        <p:nvGraphicFramePr>
          <p:cNvPr id="103" name=""/>
          <p:cNvGraphicFramePr/>
          <p:nvPr/>
        </p:nvGraphicFramePr>
        <p:xfrm>
          <a:off x="228600" y="838080"/>
          <a:ext cx="8763120" cy="5303880"/>
        </p:xfrm>
        <a:graphic>
          <a:graphicData uri="http://schemas.openxmlformats.org/drawingml/2006/table">
            <a:tbl>
              <a:tblPr/>
              <a:tblGrid>
                <a:gridCol w="2397240"/>
                <a:gridCol w="6365880"/>
              </a:tblGrid>
              <a:tr h="9446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provides that WGRs meeting registration requirements will be evaluated for GREDP and Base Point Deviation as groups of WGRs rather than individual WGRs; and permits multiple wind turbine models or sizes to be combined in a single WGR if certain criteria are m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5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2/23/12, PRS voted to recommend approval of NPRR425 as amended by the 2/17/12 E.ON comments.  There was one opposing vote from the IOU Market Segment.  On 6/21/12, PRS unanimously voted to endorse the 2/23/12 PRS Report as amended by the 6/11/12 ERCOT comments and to direct that NPRR425 and a revised Impact Analysis return to the July 2012 PRS meeting.  On 7/19/12, PRS unanimously voted to endorse and forward the 6/21/12 PRS Report and Impact Analysis for NPRR425 to TAC with a recommended priority of 2013 and rank of 7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System Implementation – Priority 2013; Rank 7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46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250k - $350k; impacts to Registration Systems, NMMS, S&amp;B, MMS, EMS, EIS, CDR, ISM;  ERCOT business functions will be updated; provides improved visibility to evaluate Reactive Capability and quantify Dynamic Response of WG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11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current WGR definition for reactive modeling purposes while addressing Dispatch issues for Resource Entities representing WGRs; provides accurate uplift of the payments to QSEs representing Load; provides transparency of Base Point Deviation and GREDP calculations for WGRs that can only be controlled as a WGR Grou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460, WGR Ramp Rate Limitations</a:t>
            </a:r>
            <a:endParaRPr b="0" lang="en-US" sz="2000" spc="-1" strike="noStrike">
              <a:solidFill>
                <a:srgbClr val="000000"/>
              </a:solidFill>
              <a:latin typeface="Arial Black"/>
            </a:endParaRPr>
          </a:p>
        </p:txBody>
      </p:sp>
      <p:graphicFrame>
        <p:nvGraphicFramePr>
          <p:cNvPr id="105" name=""/>
          <p:cNvGraphicFramePr/>
          <p:nvPr/>
        </p:nvGraphicFramePr>
        <p:xfrm>
          <a:off x="228600" y="990720"/>
          <a:ext cx="8763120" cy="5181480"/>
        </p:xfrm>
        <a:graphic>
          <a:graphicData uri="http://schemas.openxmlformats.org/drawingml/2006/table">
            <a:tbl>
              <a:tblPr/>
              <a:tblGrid>
                <a:gridCol w="2397240"/>
                <a:gridCol w="6365880"/>
              </a:tblGrid>
              <a:tr h="822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increases the WGR ramp rate limitation from 10% per minute of nameplate rating to a five minute average of 20% per minute of nameplate rating with no individual minute exceeding 25%.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1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7/19/12, PRS unanimously voted to recommend approval of NPRR460 as revised by PRS.  On 8/23/12, PRS unanimously voted to endorse and forward the 7/19/12 PRS Report as amended by the 8/16/12 ERCOT comments and as revised by PRS and Impact Analysis for NPRR460 to TA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 20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 (ERCOT business functions will be upda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78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for a more efficient dispatch of Resources; additional ramping capability for SCED to use when resolving congestion as well as responding to net Load changes; reduces sequential WGR dispatches; WGRs would not be forced to generate at a price that is below their Energy Offer Curve; Generator O&amp;M costs will be reduced; Resources will have more stable price signals that are more reflective of actual Resource capabilities; Improves SCED Dispatch results and reduced artificial, single-SCED-interval negative prices for all 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464, SASM Procurement Reporting</a:t>
            </a:r>
            <a:endParaRPr b="0" lang="en-US" sz="1800" spc="-1" strike="noStrike">
              <a:solidFill>
                <a:srgbClr val="000000"/>
              </a:solidFill>
              <a:latin typeface="Arial Black"/>
            </a:endParaRPr>
          </a:p>
        </p:txBody>
      </p:sp>
      <p:graphicFrame>
        <p:nvGraphicFramePr>
          <p:cNvPr id="107" name=""/>
          <p:cNvGraphicFramePr/>
          <p:nvPr/>
        </p:nvGraphicFramePr>
        <p:xfrm>
          <a:off x="152280" y="914400"/>
          <a:ext cx="8763120" cy="4724280"/>
        </p:xfrm>
        <a:graphic>
          <a:graphicData uri="http://schemas.openxmlformats.org/drawingml/2006/table">
            <a:tbl>
              <a:tblPr/>
              <a:tblGrid>
                <a:gridCol w="2397240"/>
                <a:gridCol w="6365880"/>
              </a:tblGrid>
              <a:tr h="1066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R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will require ERCOT to notify QSEs whose Ancillary Service capacity was deemed undeliverable, or who failed to provide their required Ancillary Service capacity, details of the Ancillary Services procured on their behalf during a SASM.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14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6/21/12, PRS unanimously voted to recommend approval of NPRR464 as submitted.  On 7/19/12, PRS unanimously voted to endorse and forward the 6/21/12 PRS Report and Impact Analysis for NPRR464 to TAC with a recommended priority of 2012 and rank of 7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 Priority 2012; Rank 7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k - $45k; impacts to MMS, CDR, MIS and EI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95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market efficiency by preventing the potential over-procurement of Ancillary Services by Market Participants and/or the additional commitment of Resources to meet Ancillary Service obligations following a SASM.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466, Asset Depreciation Schedule for Capital Contributions </a:t>
            </a:r>
            <a:br>
              <a:rPr sz="2000"/>
            </a:br>
            <a:endParaRPr b="0" lang="en-US" sz="2000" spc="-1" strike="noStrike">
              <a:solidFill>
                <a:srgbClr val="000000"/>
              </a:solidFill>
              <a:latin typeface="Arial Black"/>
            </a:endParaRPr>
          </a:p>
        </p:txBody>
      </p:sp>
      <p:graphicFrame>
        <p:nvGraphicFramePr>
          <p:cNvPr id="109" name=""/>
          <p:cNvGraphicFramePr/>
          <p:nvPr/>
        </p:nvGraphicFramePr>
        <p:xfrm>
          <a:off x="228600" y="990720"/>
          <a:ext cx="8763120" cy="4367160"/>
        </p:xfrm>
        <a:graphic>
          <a:graphicData uri="http://schemas.openxmlformats.org/drawingml/2006/table">
            <a:tbl>
              <a:tblPr/>
              <a:tblGrid>
                <a:gridCol w="2397240"/>
                <a:gridCol w="6365880"/>
              </a:tblGrid>
              <a:tr h="1065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CW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creates an appropriate asset depreciation schedule to apply to the capital contribution repayment obligation for Resources contracted to provide capacity pursuant to Section 6.5.1.1, ERCOT Control Area Authority.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1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6/21/12, PRS voted to recommend approval of NPRR466 as revised by PRS.  There was one abstention from the Independent Generator Market Segment.  On 7/19/12, PRS unanimously voted to endorse and forward the 6/21/12 PRS Report as amended by the 7/3/12 ERCOT comments and Impact Analysis for NPRR466 to TA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 20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 (ERCOT business functions will be upda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95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sset depreciation schedule will allow Resources who have received capital contributions from ERCOT to repay ERCOT a fair market value for the contributions receiv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467, Balancing Account Resettlement Due to DAM Resettlement </a:t>
            </a:r>
            <a:br>
              <a:rPr sz="2000"/>
            </a:br>
            <a:endParaRPr b="0" lang="en-US" sz="2000" spc="-1" strike="noStrike">
              <a:solidFill>
                <a:srgbClr val="000000"/>
              </a:solidFill>
              <a:latin typeface="Arial Black"/>
            </a:endParaRPr>
          </a:p>
        </p:txBody>
      </p:sp>
      <p:graphicFrame>
        <p:nvGraphicFramePr>
          <p:cNvPr id="111" name=""/>
          <p:cNvGraphicFramePr/>
          <p:nvPr/>
        </p:nvGraphicFramePr>
        <p:xfrm>
          <a:off x="228600" y="990720"/>
          <a:ext cx="8763120" cy="4435200"/>
        </p:xfrm>
        <a:graphic>
          <a:graphicData uri="http://schemas.openxmlformats.org/drawingml/2006/table">
            <a:tbl>
              <a:tblPr/>
              <a:tblGrid>
                <a:gridCol w="2397240"/>
                <a:gridCol w="6365880"/>
              </a:tblGrid>
              <a:tr h="822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W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provides a resettlement of the CRR Balancing Account (CRRBA) due to any changes in a DAM resettlement that impacts the CRRBA amoun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4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7/19/12, PRS unanimously voted to recommend approval of NPRR467 as submitted.  On 8/23/12, PRS unanimously voted to endorse and forward the 7/19/12 PRS Report as revised by PRS and Impact Analysis for NPRR467 to TAC with a recommended priority of 2014 and rank of 9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 2012; Automated solution will be implemented upon system implementation – Priority 2014; Rank 9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k - $90k (for automated solution); impacts to S&amp;B and EIS (for automated solution); ERCOT business functions will be upda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6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ccurate Settlement of the CRRBA due to changes in the account from the resettlement of the DAM; Market Participants will receive the accurate allocation of any CRR account balances through resettlement due to changes in the CRRBA amoun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Thomas Burke</dc:creator>
  <dc:description/>
  <dc:language>en-US</dc:language>
  <cp:lastModifiedBy>ERCOT</cp:lastModifiedBy>
  <dcterms:modified xsi:type="dcterms:W3CDTF">2012-09-06T20:03:47Z</dcterms:modified>
  <cp:revision>644</cp:revision>
  <dc:subject/>
  <dc:title>Instructions</dc:title>
</cp:coreProperties>
</file>