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ACEC8-B78C-4710-AA34-FC70E8A4C5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5DF9B-10BE-4589-930B-647CDD0A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84444-6408-43B0-8E0E-99F66B3D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9F9E4-ADF1-4B58-837B-411E8B402A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79C95-BFD5-4E46-9102-AB9736B6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8F73C-2CED-4CA8-B616-713B5011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ADDC9-AAE6-4849-9D04-31223982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3C7D9-8EE4-48D0-9139-5BE9AEC55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944B5-40B0-493F-868D-902076E5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C68CA-6976-428D-9797-EA305F12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9F767-B567-4C9B-98F5-77CB1A68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4B316-F5E9-4A8E-9572-4B0CD72F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4B38-E76C-4498-8032-149907CF1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B747-1969-47FD-ACE4-56423F37C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9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4054-82C0-42AD-9E68-7A25EC41E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12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41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325F-26E3-4315-B5B4-ECEB8FE17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13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8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E1D9-7E6A-4B20-B628-400752426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14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6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ptember 18, 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9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1F63-E070-4418-AB5F-82DDEFAE4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5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33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D8B4-313C-46A7-A482-170FAC78D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6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7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B58F-DF75-482B-808F-26F201987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7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21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9BC2-4CAE-488F-9B8A-4BFFAD804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8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6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834F-996F-4C36-B066-9E2852683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9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09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74C8-16F1-423F-A38F-B22EFD035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0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53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C5BD-CAD7-4C40-A0F5-06378464A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1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917280" y="2923920"/>
            <a:ext cx="73119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Jeff Bill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nager, Transmission Plan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912960" y="1456920"/>
            <a:ext cx="7316640" cy="124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RCOT Load Resources (LR)/ Responsive Reserve Service (RRS) Assessme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9" name="Rectangle 20"/>
          <p:cNvSpPr/>
          <p:nvPr/>
        </p:nvSpPr>
        <p:spPr>
          <a:xfrm>
            <a:off x="914400" y="4343400"/>
            <a:ext cx="6343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RC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eptember 7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1"/>
          <p:cNvSpPr/>
          <p:nvPr/>
        </p:nvSpPr>
        <p:spPr>
          <a:xfrm>
            <a:off x="8418600" y="6338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ackground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quency event in November 20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36 MW tripped at two different generation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aRs deployed and frequency recovered in approximately 5 minutes 10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RCOT BOD requested ERCOT perform an assessment of the Load Resources (LR) and Responsive Reserve Service (RR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ly amount of RRS provided by LRs capped at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ral changes during the course of the study (requiring additional analysis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RS increased from 2300 MW to 2800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urrent change to allow units to carry up to 24% of their capability for RRS (previously capped at 2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ERC BAL-003 standard may impose new frequency performance crite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ballot on new standard expected later this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RC has imposed May 2013 deadline for completion of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Date Placeholder 3"/>
          <p:cNvSpPr/>
          <p:nvPr/>
        </p:nvSpPr>
        <p:spPr>
          <a:xfrm>
            <a:off x="1143000" y="633420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RCOT Stud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ily focused on worst-case scenari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wind, low load conditions (low system inert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ed for two worst-case condi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overshoot due to deploying of LRs for relatively small generation tr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frequency for loss of two largest units (STP units 1 and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reliability concerns with LRs providing up to 70% of R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 enough LRs procured, could lead to under frequency issue during times of low system inert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Date Placeholder 3"/>
          <p:cNvSpPr/>
          <p:nvPr/>
        </p:nvSpPr>
        <p:spPr>
          <a:xfrm>
            <a:off x="1143000" y="633420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RCOT Study Results (Indicative Sample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8" name="Date Placeholder 3"/>
          <p:cNvSpPr/>
          <p:nvPr/>
        </p:nvSpPr>
        <p:spPr>
          <a:xfrm>
            <a:off x="1143000" y="633420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 27"/>
          <p:cNvGrpSpPr/>
          <p:nvPr/>
        </p:nvGrpSpPr>
        <p:grpSpPr>
          <a:xfrm>
            <a:off x="189720" y="1000080"/>
            <a:ext cx="4061520" cy="4010040"/>
            <a:chOff x="189720" y="1000080"/>
            <a:chExt cx="4061520" cy="4010040"/>
          </a:xfrm>
        </p:grpSpPr>
        <p:grpSp>
          <p:nvGrpSpPr>
            <p:cNvPr id="541" name="Group 29"/>
            <p:cNvGrpSpPr/>
            <p:nvPr/>
          </p:nvGrpSpPr>
          <p:grpSpPr>
            <a:xfrm>
              <a:off x="189720" y="1000080"/>
              <a:ext cx="4061520" cy="4010040"/>
              <a:chOff x="189720" y="1000080"/>
              <a:chExt cx="4061520" cy="4010040"/>
            </a:xfrm>
          </p:grpSpPr>
          <p:pic>
            <p:nvPicPr>
              <p:cNvPr id="542" name="Picture 34" descr=""/>
              <p:cNvPicPr/>
              <p:nvPr/>
            </p:nvPicPr>
            <p:blipFill>
              <a:blip r:embed="rId1"/>
              <a:stretch/>
            </p:blipFill>
            <p:spPr>
              <a:xfrm>
                <a:off x="536400" y="1136160"/>
                <a:ext cx="3714840" cy="387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3" name="TextBox 19"/>
              <p:cNvSpPr/>
              <p:nvPr/>
            </p:nvSpPr>
            <p:spPr>
              <a:xfrm>
                <a:off x="189720" y="1000080"/>
                <a:ext cx="4536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60.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TextBox 20"/>
              <p:cNvSpPr/>
              <p:nvPr/>
            </p:nvSpPr>
            <p:spPr>
              <a:xfrm>
                <a:off x="189720" y="4615200"/>
                <a:ext cx="4536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59.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TextBox 22"/>
              <p:cNvSpPr/>
              <p:nvPr/>
            </p:nvSpPr>
            <p:spPr>
              <a:xfrm>
                <a:off x="189720" y="2799000"/>
                <a:ext cx="4536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60.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TextBox 31"/>
            <p:cNvSpPr/>
            <p:nvPr/>
          </p:nvSpPr>
          <p:spPr>
            <a:xfrm>
              <a:off x="3225600" y="1856520"/>
              <a:ext cx="77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0%L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Box 32"/>
            <p:cNvSpPr/>
            <p:nvPr/>
          </p:nvSpPr>
          <p:spPr>
            <a:xfrm>
              <a:off x="2589120" y="2811600"/>
              <a:ext cx="77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0%L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Box 33"/>
            <p:cNvSpPr/>
            <p:nvPr/>
          </p:nvSpPr>
          <p:spPr>
            <a:xfrm>
              <a:off x="2164680" y="3592080"/>
              <a:ext cx="77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0%L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9" name="Picture 17" descr=""/>
          <p:cNvPicPr/>
          <p:nvPr/>
        </p:nvPicPr>
        <p:blipFill>
          <a:blip r:embed="rId2"/>
          <a:stretch/>
        </p:blipFill>
        <p:spPr>
          <a:xfrm>
            <a:off x="4572000" y="990720"/>
            <a:ext cx="4108320" cy="4089240"/>
          </a:xfrm>
          <a:prstGeom prst="rect">
            <a:avLst/>
          </a:prstGeom>
          <a:ln w="0">
            <a:noFill/>
          </a:ln>
        </p:spPr>
      </p:pic>
      <p:sp>
        <p:nvSpPr>
          <p:cNvPr id="550" name="TextBox 16"/>
          <p:cNvSpPr/>
          <p:nvPr/>
        </p:nvSpPr>
        <p:spPr>
          <a:xfrm>
            <a:off x="536400" y="5257800"/>
            <a:ext cx="34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shoot test – loss of a single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19"/>
          <p:cNvSpPr/>
          <p:nvPr/>
        </p:nvSpPr>
        <p:spPr>
          <a:xfrm>
            <a:off x="4902120" y="5257800"/>
            <a:ext cx="34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frequency test – loss of a largest two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takeholder Comment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s presented to ROS in June 201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S asked DWG and PDCWG to com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WG comments resulted in additional sensitivity analysis performed by 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DCWG comments focused on limitations of existing stability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cal characteristics of boiler system not fully represented in stability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S took no action at August 2012 mee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Date Placeholder 3"/>
          <p:cNvSpPr/>
          <p:nvPr/>
        </p:nvSpPr>
        <p:spPr>
          <a:xfrm>
            <a:off x="1143000" y="633420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ext Step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dy supports increasing the amount of RRS provided by LRs (currently capped at 50%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require NP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investigating solutions if low LR participation during times of low system inert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Date Placeholder 3"/>
          <p:cNvSpPr/>
          <p:nvPr/>
        </p:nvSpPr>
        <p:spPr>
          <a:xfrm>
            <a:off x="1143000" y="633420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Questions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9" name="Date Placeholder 3"/>
          <p:cNvSpPr/>
          <p:nvPr/>
        </p:nvSpPr>
        <p:spPr>
          <a:xfrm>
            <a:off x="1143000" y="633420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Wilkins, Tisa</dc:creator>
  <dc:description/>
  <dc:language>en-US</dc:language>
  <cp:lastModifiedBy>Billo, Jeffrey</cp:lastModifiedBy>
  <dcterms:modified xsi:type="dcterms:W3CDTF">2012-08-31T16:10:36Z</dcterms:modified>
  <cp:revision>81</cp:revision>
  <dc:subject/>
  <dc:title>Instructions</dc:title>
</cp:coreProperties>
</file>