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1CBB72-21E0-41C1-9668-3AB22016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F6835-E497-4FEF-B09E-71FD1A75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5E38DC-DCF1-45FD-9534-5F7F8DC9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E1167B-CF52-4E3B-A9D3-477B9373D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1ADE-7811-4D0F-B312-52022344D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8B3A-7335-47E3-B4A0-9679035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F6AA-FBC1-4B62-B593-2396076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39C9-B866-469D-AEAB-36880F249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0ABE-15CE-4D12-90D8-99B4F20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1743-643F-4E8B-9130-59B9B5C5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A48C-6899-4BD5-A825-EA8D2082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0128-E044-49B9-8B14-FAB99E1A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E8E6-FD3D-4EFA-A023-88D06996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E6B0-7726-49AE-8BCC-15271A2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5459-B040-4C16-B388-EAF6F58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CFAA-C82F-4509-8F05-69A4E524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64D0-0B15-4C27-B4D2-4C8B7FCF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D27C-18DC-4F54-9567-DFA14CFD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inde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371600" y="1752480"/>
            <a:ext cx="72388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 Integration Update to P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3581280"/>
            <a:ext cx="2590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3,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8/10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2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8/10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85760" y="762120"/>
            <a:ext cx="87724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8/10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77840" y="762120"/>
            <a:ext cx="876312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8/10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4360" y="762120"/>
            <a:ext cx="88218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Portfolio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3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coming Project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 Releas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 Releas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Spend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ortfolio Gantt Ch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8-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85800" y="5562720"/>
            <a:ext cx="7772400" cy="70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of Project Priority List (PPL):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pcoming Project Implement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s in Augu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8/26/2012 – 8/29/20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48 – Generation Resource Start-Up and Shut-Dow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54 – Revisions to Non-Spin Performance Criteria Language and Provision for ICCP Telemetry of Non-Spin 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S portion  (Non-Spin Performance Re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portions went live in Jun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82 – Verbal RUC Committed or Decommitted Resource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83 – Unconfirmed Trade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22 – Public DAM Shift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42 – Energy Offer Curve Requirement for Generation Resources Providing RM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TNET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Multi-Time Network update to enhance granularity in data used fo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son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s in Sept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no integrated software relea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57 – Revisions to Collateral Requirements Concerning CRR Au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30 – Corrections Related to NPRR357, Revisions to Collateral Requirements Concerning CRR Auctions, and Clarification to Collateral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752480" y="6248520"/>
            <a:ext cx="617220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 Projected Go-Live dates are subject to chan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atch for market notices as the effective dates approac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Release Targets – Board-Approved NPRRs/SCRs/xGR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9440" y="762120"/>
          <a:ext cx="8958240" cy="4759200"/>
        </p:xfrm>
        <a:graphic>
          <a:graphicData uri="http://schemas.openxmlformats.org/drawingml/2006/table">
            <a:tbl>
              <a:tblPr/>
              <a:tblGrid>
                <a:gridCol w="1168560"/>
                <a:gridCol w="1147680"/>
                <a:gridCol w="1081080"/>
                <a:gridCol w="1154160"/>
                <a:gridCol w="1163520"/>
                <a:gridCol w="1081080"/>
                <a:gridCol w="1095480"/>
                <a:gridCol w="1066680"/>
              </a:tblGrid>
              <a:tr h="601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Approa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169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Cyc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0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e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5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5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0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5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8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2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3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3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39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4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Cyc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GRR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56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2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= 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6"/>
          <p:cNvSpPr/>
          <p:nvPr/>
        </p:nvSpPr>
        <p:spPr>
          <a:xfrm>
            <a:off x="228600" y="5707080"/>
            <a:ext cx="48006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1:  Bold indicates inclusion in the original Board-approved 2012 PP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28600" y="5932440"/>
            <a:ext cx="48006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2:  Underline indicates new/revised release targe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181480" y="5716440"/>
            <a:ext cx="37339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3:  (a), (b), etc. indicates multiple release phas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5181480" y="5945040"/>
            <a:ext cx="37339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4:  Release targets are subject to chang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6896160" y="3532320"/>
            <a:ext cx="11048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4656240" y="3532320"/>
            <a:ext cx="11714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y Sep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3505320" y="3532320"/>
            <a:ext cx="11523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y Ju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1279440" y="35323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5824440" y="3532320"/>
            <a:ext cx="10796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2419200" y="3532320"/>
            <a:ext cx="10875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8001000" y="3245040"/>
            <a:ext cx="1050840" cy="307080"/>
          </a:xfrm>
          <a:prstGeom prst="rect">
            <a:avLst/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e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3 Release Targets – Board-Approved NPRRs/SCRs/xGR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320" y="762120"/>
          <a:ext cx="8915400" cy="3959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185840"/>
                <a:gridCol w="1043280"/>
                <a:gridCol w="1233360"/>
                <a:gridCol w="1042920"/>
                <a:gridCol w="1138320"/>
                <a:gridCol w="1138320"/>
              </a:tblGrid>
              <a:tr h="6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TB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1913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Cyc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2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4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4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4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d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2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3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4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SCR7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3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PRR4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GRR0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R756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Cyc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PRR4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= 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20" name="TextBox 7"/>
          <p:cNvSpPr/>
          <p:nvPr/>
        </p:nvSpPr>
        <p:spPr>
          <a:xfrm>
            <a:off x="914400" y="5486400"/>
            <a:ext cx="37339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1:  Underline indicates new/revised release targe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648320" y="5486400"/>
            <a:ext cx="36576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2:  (a), (b), etc. indicates multiple release phas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914400" y="5715000"/>
            <a:ext cx="73915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3:  Release targets are subject to change – Please watch for market notices as effective dates approac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723000" y="3276720"/>
            <a:ext cx="112572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2209680" y="3276720"/>
            <a:ext cx="11937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4444920" y="3276720"/>
            <a:ext cx="12272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3403440" y="3276720"/>
            <a:ext cx="10414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1143000" y="3276720"/>
            <a:ext cx="10666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5672160" y="3276720"/>
            <a:ext cx="10508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914400" y="5942160"/>
            <a:ext cx="73915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 4:  Go-live dates can differ from Protocol effective dates – Please refer to market notices for more detail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848720" y="2692440"/>
            <a:ext cx="1125360" cy="672480"/>
          </a:xfrm>
          <a:prstGeom prst="rect">
            <a:avLst/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 TB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Spend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5760" y="843120"/>
          <a:ext cx="8729640" cy="3660480"/>
        </p:xfrm>
        <a:graphic>
          <a:graphicData uri="http://schemas.openxmlformats.org/drawingml/2006/table">
            <a:tbl>
              <a:tblPr/>
              <a:tblGrid>
                <a:gridCol w="2176560"/>
                <a:gridCol w="1600200"/>
                <a:gridCol w="1676160"/>
                <a:gridCol w="1676520"/>
                <a:gridCol w="1600200"/>
              </a:tblGrid>
              <a:tr h="128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 –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Budg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ffective 1/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YTD Actu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 of 7/3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Spending Projection of     In-Flight Projec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 of 7/3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2012 Dema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 of 7/3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74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Strateg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,725,16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702,75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670,05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o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628,31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14,09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56,99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ies/Enhanceme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515,21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631,53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70,05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ound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,642,20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882,58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272,66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5,000,00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9,510,89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6,130,96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7,669,78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34" name="Footer Placeholder 7"/>
          <p:cNvSpPr/>
          <p:nvPr/>
        </p:nvSpPr>
        <p:spPr>
          <a:xfrm>
            <a:off x="6248520" y="63244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28600" y="4876560"/>
            <a:ext cx="868680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 Spending Update Definition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33520" y="51069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rtfolio Budget: 2012 project budget approved as a part of the 2012 ERCOT budget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53355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2 Spending Projection of In-Flight Projects: Projected total 2012 spend for all projects that have started or are comple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533520" y="55641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rent 2012 Demand: Projected 2012 spend of all 2012 candidate projects (completed, in-flight, and not start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533520" y="57927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2 YTD Actual: Actual year to date charges recorded in the financial system at the end of the previous month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ppendix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0/2012 Project 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flight items sorted by Project En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tarted” items sorted by Project Star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8/10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8/10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94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nderson, Troy</dc:creator>
  <dc:description/>
  <dc:language>en-US</dc:language>
  <cp:lastModifiedBy>McMahon, Patrick</cp:lastModifiedBy>
  <cp:lastPrinted>2012-03-19T18:42:14Z</cp:lastPrinted>
  <dcterms:modified xsi:type="dcterms:W3CDTF">2012-08-16T14:09:16Z</dcterms:modified>
  <cp:revision>1138</cp:revision>
  <dc:subject/>
  <dc:title>Instructions</dc:title>
</cp:coreProperties>
</file>