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E07B0-3448-4CD3-A1F5-5FF4151C7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0FA9-B75E-4663-B60A-45F0C1D3A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4CD5F-3826-42BD-83EF-977288ACE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DCFD5-686F-4905-9C3D-55688BEC2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D20AA-3636-4086-BEB1-DF520239F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083F3-5DA3-4FE4-A958-B2DFA126E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AFF60-2852-4B88-B4DE-995A129EA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F9A59-253A-47CA-AE9B-0FA0E9ECA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5D91C-E5A4-42D2-A867-FB3FDAE98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B80D7-5598-476E-9BB4-026EACC11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0059-D5CD-4566-A143-CC8C723C7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696AA-55C4-42E1-BBCC-383669553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374D8-D0E8-4194-9DCB-BFB88E505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782EB-B299-4A5A-9F88-9DEDADAC1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3BF60-1425-41BA-ADEA-82C0492A4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CCAB0-F389-4CD1-A6EA-F84D5CB76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FC0F1-355C-417A-8BBE-E0D437CF8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E0311F-82B9-42D4-BFED-7D44E8BB27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8B8E5-54A1-410F-AF36-B2DE503A99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C858E-1283-44A2-9F46-1157EE7A36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E2CB5-76E4-486A-92DA-3B8DE51B0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B96CD-A53B-4F7C-82AA-598FB1DDF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FF19A-A35F-46C6-A3A3-4CAEAB2D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57DF1-0AE9-46DB-929E-AB059EDF1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F8C20-88D7-493B-8F33-145AE2E67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900BB-B141-4A3D-9637-757911111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006C3-E108-47AD-9BA4-D53FC1F5F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858DA-A5A9-4DAB-9901-37286FBAF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16C1DB-23DC-4894-8DC3-4702F0BF96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F96FA8-262D-4CB1-8B3A-7FE6AA83DE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66D5F-31E9-42E3-B94E-DB53A1F5BA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A1D09-6A4D-4AAA-BE7C-16CEDA473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C151E-02D6-46B5-A4F3-EEA3F050A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0D03-5D30-4C86-BA85-27486C47C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544D4-B035-4713-9755-E95D9AEA6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AFA43-1056-4318-9FB1-D10E3FCB5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89432-E149-45EA-8981-F66568A04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38521-DE38-4293-BAA6-45CABC9EA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55A92-B895-40F6-96A1-3CA1624F0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3F061-71AA-499E-87D4-6C05DF661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999A9-2C1D-4D2A-90F4-C54EEBDC6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F9DD6-246B-4A11-BAB2-C0F2B14835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E3DD97-75C6-4C7F-82D5-E5EDA63663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A90C7-E67C-4351-AFAF-1231CB23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458B9-44E4-4570-B323-44FAE2E9F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4CB7F-74BE-47DB-B706-C4B940302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A362-08D4-4823-A9CA-F83C4DA78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867A-8808-4DBE-9F1A-2DE0FB057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D782-BE0A-4ABD-806B-576B29F18AC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5489-DE61-43CE-888B-8A5E464BE16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9731-F61C-4AD1-9673-32AAB6B7C67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19FA-57E4-40C4-A2AD-0C4B75E434A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371600"/>
            <a:ext cx="8302680" cy="2322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MS June 13,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 Statement</a:t>
            </a:r>
            <a:endParaRPr b="0" lang="en-US" sz="5000" spc="-1" strike="noStrike">
              <a:solidFill>
                <a:srgbClr val="04617b"/>
              </a:solidFill>
              <a:latin typeface="Calibri"/>
            </a:endParaRPr>
          </a:p>
        </p:txBody>
      </p:sp>
      <p:sp>
        <p:nvSpPr>
          <p:cNvPr id="198" name=""/>
          <p:cNvSpPr txBox="1"/>
          <p:nvPr/>
        </p:nvSpPr>
        <p:spPr>
          <a:xfrm>
            <a:off x="457200" y="1935000"/>
            <a:ext cx="8229600" cy="4770720"/>
          </a:xfrm>
          <a:prstGeom prst="rect">
            <a:avLst/>
          </a:prstGeom>
          <a:noFill/>
          <a:ln w="0">
            <a:noFill/>
          </a:ln>
        </p:spPr>
        <p:txBody>
          <a:bodyPr lIns="90000" rIns="90000" tIns="46800" bIns="46800"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we move to a $4,500/MWh offer cap in August, the PBPC will need to be adjusted.</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urrent PBPC is, in essence, an energy offer curve for a virtual generation resource, and does not get “deployed” after all available competitive offers are exhausted(as it is sometimes described), but rather is “deployed” as the price for Regulation through SCED any time prices rise above the $200 starting point of the curve. </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re is always a risk with a static PBPC that it will be “deployed” even when sufficient generation is available to meet demand.</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urrently, the starting point for the PBPC is $200/MWh.  As a result, the PBPC intervenes in front of other competitive offers as soon as prices reach $200/MWh.</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RDTF, Luminant advocated for a “dynamic PBPC” that would begin $1 above the last available offer and rise to the offer cap.</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iven the complexities of implementing a “dynamic PBPC” by August 2012, Luminant now supports Chairman Nelson’s proposed PBPC as the best alternate solution.</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14440"/>
            <a:ext cx="5029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Ramp Rate Concern</a:t>
            </a:r>
            <a:endParaRPr b="0" lang="en-US" sz="4800" spc="-1" strike="noStrike">
              <a:solidFill>
                <a:srgbClr val="04617b"/>
              </a:solidFill>
              <a:latin typeface="Calibri"/>
            </a:endParaRPr>
          </a:p>
        </p:txBody>
      </p:sp>
      <p:sp>
        <p:nvSpPr>
          <p:cNvPr id="200" name="PlaceHolder 2"/>
          <p:cNvSpPr>
            <a:spLocks noGrp="1"/>
          </p:cNvSpPr>
          <p:nvPr>
            <p:ph/>
          </p:nvPr>
        </p:nvSpPr>
        <p:spPr>
          <a:xfrm>
            <a:off x="228600" y="1676520"/>
            <a:ext cx="3200400" cy="4876560"/>
          </a:xfrm>
          <a:prstGeom prst="rect">
            <a:avLst/>
          </a:prstGeom>
          <a:noFill/>
          <a:ln w="0">
            <a:noFill/>
          </a:ln>
        </p:spPr>
        <p:txBody>
          <a:bodyPr lIns="18360" rIns="18360" tIns="46800" bIns="46800" anchor="t">
            <a:normAutofit fontScale="93000"/>
          </a:bodyPr>
          <a:p>
            <a:pPr marL="253440" indent="-25344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sing data from the first 12 months of nodal operation, the situation where SCED was completely out of available ramp had the potential of occurring in 61 intervals out of a total of over 104,000.  In other words, the potential for ramp rate related spikes is .059% or 59/1000ths of one percent. </a:t>
            </a:r>
            <a:endParaRPr b="0" lang="en-US" sz="1800" spc="-1" strike="noStrike">
              <a:solidFill>
                <a:srgbClr val="000000"/>
              </a:solidFill>
              <a:latin typeface="Constantia"/>
            </a:endParaRPr>
          </a:p>
          <a:p>
            <a:pPr marL="253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53440" indent="-25344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 the other hand, the potential that the PBPC is used to undercut competitive offers, because of its low starting point and gradual slope, occurs nearly 1 percent of the time. </a:t>
            </a:r>
            <a:endParaRPr b="0" lang="en-US" sz="1800" spc="-1" strike="noStrike">
              <a:solidFill>
                <a:srgbClr val="000000"/>
              </a:solidFill>
              <a:latin typeface="Constantia"/>
            </a:endParaRPr>
          </a:p>
          <a:p>
            <a:pPr marL="25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1" name="Chart 1" descr="cid:image001.png@01CD3A87.282C24B0"/>
          <p:cNvPicPr/>
          <p:nvPr/>
        </p:nvPicPr>
        <p:blipFill>
          <a:blip r:embed="rId1"/>
          <a:stretch/>
        </p:blipFill>
        <p:spPr>
          <a:xfrm>
            <a:off x="3657600" y="1752480"/>
            <a:ext cx="5211720" cy="40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lson’s Proposed Curve</a:t>
            </a:r>
            <a:endParaRPr b="0" lang="en-US" sz="5000" spc="-1" strike="noStrike">
              <a:solidFill>
                <a:srgbClr val="04617b"/>
              </a:solidFill>
              <a:latin typeface="Calibri"/>
            </a:endParaRPr>
          </a:p>
        </p:txBody>
      </p:sp>
      <p:graphicFrame>
        <p:nvGraphicFramePr>
          <p:cNvPr id="203" name=""/>
          <p:cNvGraphicFramePr/>
          <p:nvPr/>
        </p:nvGraphicFramePr>
        <p:xfrm>
          <a:off x="533520" y="4572000"/>
          <a:ext cx="8076960" cy="1305000"/>
        </p:xfrm>
        <a:graphic>
          <a:graphicData uri="http://schemas.openxmlformats.org/drawingml/2006/table">
            <a:tbl>
              <a:tblPr/>
              <a:tblGrid>
                <a:gridCol w="1000080"/>
                <a:gridCol w="1047600"/>
                <a:gridCol w="860400"/>
                <a:gridCol w="860400"/>
                <a:gridCol w="862200"/>
                <a:gridCol w="861840"/>
                <a:gridCol w="862200"/>
                <a:gridCol w="860400"/>
                <a:gridCol w="861840"/>
              </a:tblGrid>
              <a:tr h="85248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MW violation</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Violation &lt;1</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2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3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4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00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Price $/MWh</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5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4" name=""/>
          <p:cNvGraphicFramePr/>
          <p:nvPr/>
        </p:nvGraphicFramePr>
        <p:xfrm>
          <a:off x="533520" y="2514600"/>
          <a:ext cx="8076960" cy="1305000"/>
        </p:xfrm>
        <a:graphic>
          <a:graphicData uri="http://schemas.openxmlformats.org/drawingml/2006/table">
            <a:tbl>
              <a:tblPr/>
              <a:tblGrid>
                <a:gridCol w="1000080"/>
                <a:gridCol w="1047600"/>
                <a:gridCol w="860400"/>
                <a:gridCol w="860400"/>
                <a:gridCol w="862200"/>
                <a:gridCol w="861840"/>
                <a:gridCol w="862200"/>
                <a:gridCol w="860400"/>
                <a:gridCol w="861840"/>
              </a:tblGrid>
              <a:tr h="85248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MW violation</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Violation &lt;1</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2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3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4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 ≤ Violation</a:t>
                      </a:r>
                      <a:endParaRPr b="0" lang="en-US" sz="1000" spc="-1" strike="noStrike">
                        <a:solidFill>
                          <a:srgbClr val="000000"/>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00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Price $/MWh</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5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250</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1</a:t>
                      </a:r>
                      <a:endParaRPr b="0" lang="en-US" sz="1000" spc="-1" strike="noStrike">
                        <a:solidFill>
                          <a:srgbClr val="000000"/>
                        </a:solidFill>
                        <a:latin typeface="Constantia"/>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rrent PBP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lson’s Proposed PBPC</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nciple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BPC should not be allowed to undercut any dispatchable competitive energy offers that are not ramp rate limited.   </a:t>
            </a: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BPC should price at SWOC if there are no ramp rate limitations and energy is exhausted.  In other words, we should not lean on Regulation for any amount of time at a price less than SWOC if available energy is exhausted.</a:t>
            </a: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BPC should be at a maximum of 50MWs and should be priced at SWOC at that point.  If the PBPC is longer, it further diminishes reliability and it can extend the time that ERCOT is experiencing actual scarcity without prices reflected at the SWOC.</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8:42:59Z</dcterms:created>
  <dc:creator>Brad</dc:creator>
  <dc:description/>
  <dc:language>en-US</dc:language>
  <cp:lastModifiedBy>Kelly P. Landry</cp:lastModifiedBy>
  <dcterms:modified xsi:type="dcterms:W3CDTF">2012-06-13T13:52:14Z</dcterms:modified>
  <cp:revision>41</cp:revision>
  <dc:subject/>
  <dc:title>Dynamic PBPC</dc:title>
</cp:coreProperties>
</file>