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27731-876B-4CD6-BE8C-33A22DC3A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B8B84-C8C2-4DDB-A2E1-7A14DE522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B4B4B-927A-4D82-A81F-8E59245A0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54B16-5768-4903-8A4B-36EEA5D97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883D20-AAFF-4874-A928-98E979BE05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E7472-ABB4-475A-91D2-C8302126B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40C09-C5AC-42DB-BDB7-1E6B9CD95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C1F5E-8467-48E1-A0F9-89C16B88F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AD130-D489-4A30-8026-A4614F6F8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6908D-5C19-4B06-A550-5C91E7D2B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80E06-D4C4-4735-952F-F6478A93B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A6DA4-11D8-43F8-A7EE-C44070BAB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7EDFA-B69B-4971-A3D6-BE3DD22EA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780A9-58E6-42FF-B130-31CA4D99A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8EED8-CC15-4065-B4E1-8B8C472BF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47F3A3-8A29-4EE3-AFB9-DA986575D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3079AE-1649-47C4-8618-C8789507B2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5A6DA9-8521-4121-A903-9F73CC7258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F3B985-6A37-4589-AD31-1CA956E056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F0727F-66F1-41D8-8EE0-24422DF2EE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DEADE0-A517-4E0E-9860-887AEE44AD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3DD5E3-5306-445E-9026-0B82B440CA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446D1-7146-41F3-B984-33A2862E7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9D550F-47DD-4CFA-9A18-6F7A42BF77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59A931-9368-4D1A-B67E-636F753D2B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12FA47-03E5-4FA7-9BC7-3DB93CB37C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960A69-03FE-4762-BD12-A4D2321B6E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1E2408-C7AA-4B98-91AE-A8F2E14774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B3E061-49DC-40A7-A246-758D1752D1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01F450-1FD0-4A81-A755-C94EB1D9E9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DA0545-4781-4AC7-B1F7-BAEA431432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83D81E-FD1B-4FC6-BFAF-EFF24F3D7C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602DC3-2509-4935-9A67-48D243B99A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A811D-5934-4123-A40A-7E85CB985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3E8FE2-8B50-4350-B25A-FAED57C9BF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70DC24-589A-4F28-853D-2C18779346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7872ED-EAC4-49B4-A384-70B4AC8E29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F50D43-D465-4047-AB33-7E4811F94B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CEE48A-3114-4F65-9292-B98CDF659E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CD5375-AD16-44FD-9E6C-31B91C1699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ABAC55-C815-4FA9-917E-5EA838974F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D6A670-C6AC-4CB5-8AD6-E20075C393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BDE453-B585-4D05-8B71-0D91A9DE2E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2CDEA-81C2-45F5-BDB8-534D4D15C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5246C-8930-40C4-99EA-B8A348E3C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0A4F2-EDE7-4398-84C6-0B13A2BA5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9280C-7D3E-492F-AD5C-03CC22EF3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03819-8573-4D29-ACAE-BCF938DBC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8769-B1E6-4252-BD36-D397413F376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4437C-AFCA-488C-87D1-3BB33DC2396B}"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9AAB-D645-40BB-ACA7-850916DE2A8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390D-7484-404B-9573-021F5A9FB0B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1371600"/>
            <a:ext cx="8302680" cy="23223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DTF June 1, 2012</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urpose</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The effect of the Shadow Price cap for the Power Balance Constraint is to limit the cost calculated by the SCED optimization when the instantaneous amount of generation to be dispatched does not equal the instantaneous demand of the ERCOT system.”*  </a:t>
            </a:r>
            <a:endParaRPr b="0" lang="en-US" sz="2600" spc="-1" strike="noStrike">
              <a:solidFill>
                <a:srgbClr val="000000"/>
              </a:solidFill>
              <a:latin typeface="Constantia"/>
            </a:endParaRPr>
          </a:p>
        </p:txBody>
      </p:sp>
      <p:sp>
        <p:nvSpPr>
          <p:cNvPr id="199" name="TextBox 3"/>
          <p:cNvSpPr/>
          <p:nvPr/>
        </p:nvSpPr>
        <p:spPr>
          <a:xfrm>
            <a:off x="304920" y="6172200"/>
            <a:ext cx="8610480" cy="550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r>
              <a:rPr b="0" lang="en-US" sz="1800" spc="-1" strike="noStrike">
                <a:solidFill>
                  <a:srgbClr val="000000"/>
                </a:solidFill>
                <a:latin typeface="Constantia"/>
              </a:rPr>
              <a:t>	</a:t>
            </a:r>
            <a:r>
              <a:rPr b="1" i="1" lang="en-US" sz="1200" spc="-1" strike="noStrike">
                <a:solidFill>
                  <a:srgbClr val="000000"/>
                </a:solidFill>
                <a:latin typeface="Constantia"/>
              </a:rPr>
              <a:t>Setting the Shadow Price Caps and Power Balance Penalties in Security Constrained Economic Dispatch</a:t>
            </a:r>
            <a:r>
              <a:rPr b="1" lang="en-US" sz="1200" spc="-1" strike="noStrike">
                <a:solidFill>
                  <a:srgbClr val="000000"/>
                </a:solidFill>
                <a:latin typeface="Constantia"/>
              </a:rPr>
              <a:t>, Effective January 1, 2012, Version _4.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533520"/>
            <a:ext cx="472464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Current</a:t>
            </a:r>
            <a:r>
              <a:rPr b="0" lang="en-US" sz="2600" spc="-1" strike="noStrike">
                <a:solidFill>
                  <a:srgbClr val="04617b"/>
                </a:solidFill>
                <a:latin typeface="Calibri"/>
              </a:rPr>
              <a:t> </a:t>
            </a:r>
            <a:r>
              <a:rPr b="0" lang="en-US" sz="4800" spc="-1" strike="noStrike">
                <a:solidFill>
                  <a:srgbClr val="04617b"/>
                </a:solidFill>
                <a:latin typeface="Calibri"/>
              </a:rPr>
              <a:t>PBPC</a:t>
            </a:r>
            <a:endParaRPr b="0" lang="en-US" sz="4800" spc="-1" strike="noStrike">
              <a:solidFill>
                <a:srgbClr val="04617b"/>
              </a:solidFill>
              <a:latin typeface="Calibri"/>
            </a:endParaRPr>
          </a:p>
        </p:txBody>
      </p:sp>
      <p:sp>
        <p:nvSpPr>
          <p:cNvPr id="201" name=""/>
          <p:cNvSpPr txBox="1"/>
          <p:nvPr/>
        </p:nvSpPr>
        <p:spPr>
          <a:xfrm>
            <a:off x="533160" y="1752120"/>
            <a:ext cx="8381880" cy="3124440"/>
          </a:xfrm>
          <a:prstGeom prst="rect">
            <a:avLst/>
          </a:prstGeom>
          <a:noFill/>
          <a:ln w="0">
            <a:noFill/>
          </a:ln>
        </p:spPr>
        <p:txBody>
          <a:bodyPr tIns="0" anchor="t">
            <a:normAutofit fontScale="92000"/>
          </a:bodyPr>
          <a:p>
            <a:pPr marL="250920" indent="-2509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urrent PBPC is, in essence, an energy offer curve for a virtual generation resource, and does not get “deployed” after all available competitive offers are exhausted(as it is sometimes described), but rather is “deployed” through SCED any time prices rise above the $200 starting point of the curve. </a:t>
            </a:r>
            <a:endParaRPr b="0" lang="en-US" sz="2600" spc="-1" strike="noStrike">
              <a:solidFill>
                <a:srgbClr val="000000"/>
              </a:solidFill>
              <a:latin typeface="Constantia"/>
            </a:endParaRPr>
          </a:p>
          <a:p>
            <a:pPr marL="250920" indent="-2509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means that, when the PBPC is struck, any existing competitive offers that are priced above the PBPC are undercut and substituted by this “virtual” generator. </a:t>
            </a:r>
            <a:endParaRPr b="0" lang="en-US" sz="2600" spc="-1" strike="noStrike">
              <a:solidFill>
                <a:srgbClr val="000000"/>
              </a:solidFill>
              <a:latin typeface="Constantia"/>
            </a:endParaRPr>
          </a:p>
          <a:p>
            <a:pPr marL="250920" indent="-2509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02" name=""/>
          <p:cNvGraphicFramePr/>
          <p:nvPr/>
        </p:nvGraphicFramePr>
        <p:xfrm>
          <a:off x="533520" y="5029200"/>
          <a:ext cx="8076960" cy="1305000"/>
        </p:xfrm>
        <a:graphic>
          <a:graphicData uri="http://schemas.openxmlformats.org/drawingml/2006/table">
            <a:tbl>
              <a:tblPr/>
              <a:tblGrid>
                <a:gridCol w="1000080"/>
                <a:gridCol w="1047600"/>
                <a:gridCol w="860400"/>
                <a:gridCol w="860400"/>
                <a:gridCol w="862200"/>
                <a:gridCol w="861840"/>
                <a:gridCol w="862200"/>
                <a:gridCol w="860400"/>
                <a:gridCol w="861840"/>
              </a:tblGrid>
              <a:tr h="852480">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MW viol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Violation &lt;1</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1 ≤ Violation</a:t>
                      </a:r>
                      <a:endParaRPr b="0" lang="en-US" sz="10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5</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5 ≤ Violation</a:t>
                      </a:r>
                      <a:endParaRPr b="0" lang="en-US" sz="10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1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10 ≤ Violation</a:t>
                      </a:r>
                      <a:endParaRPr b="0" lang="en-US" sz="10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2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20 ≤ Violation</a:t>
                      </a:r>
                      <a:endParaRPr b="0" lang="en-US" sz="10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3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30 ≤ Violation</a:t>
                      </a:r>
                      <a:endParaRPr b="0" lang="en-US" sz="10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4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40 ≤ Violation</a:t>
                      </a:r>
                      <a:endParaRPr b="0" lang="en-US" sz="10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5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50 ≤ Violation</a:t>
                      </a:r>
                      <a:endParaRPr b="0" lang="en-US" sz="10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10000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Price $/MWh</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20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25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30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40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50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100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225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3001</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oblem Statement</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urrent PBPC and the two commissioner proposals each fail to meet the stated purpose of the PBPC as defined by the ERCOT Board.</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is true because a static PBPC limits the cost to perform power balance even when sufficient available generation is available to meet demand.</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urrently, the starting point for the PBPC is $200/MWh.  As a result, the PBPC intervenes in front of other competitive offers as soon as prices reach $200/MWh.</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514440"/>
            <a:ext cx="5029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Ramp Rate Concern</a:t>
            </a:r>
            <a:endParaRPr b="0" lang="en-US" sz="4800" spc="-1" strike="noStrike">
              <a:solidFill>
                <a:srgbClr val="04617b"/>
              </a:solidFill>
              <a:latin typeface="Calibri"/>
            </a:endParaRPr>
          </a:p>
        </p:txBody>
      </p:sp>
      <p:sp>
        <p:nvSpPr>
          <p:cNvPr id="206" name="PlaceHolder 2"/>
          <p:cNvSpPr>
            <a:spLocks noGrp="1"/>
          </p:cNvSpPr>
          <p:nvPr>
            <p:ph/>
          </p:nvPr>
        </p:nvSpPr>
        <p:spPr>
          <a:xfrm>
            <a:off x="228600" y="1676520"/>
            <a:ext cx="3200400" cy="4876560"/>
          </a:xfrm>
          <a:prstGeom prst="rect">
            <a:avLst/>
          </a:prstGeom>
          <a:noFill/>
          <a:ln w="0">
            <a:noFill/>
          </a:ln>
        </p:spPr>
        <p:txBody>
          <a:bodyPr lIns="18360" rIns="18360" anchor="t">
            <a:normAutofit fontScale="93000"/>
          </a:bodyPr>
          <a:p>
            <a:pPr marL="253440" indent="-25344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Using data from the first 12 months of nodal operation, the situation where SCED was completely out of available ramp had the potential of occurring in 61 intervals out of a total of over 104,000.  In other words, the potential for ramp rate related spikes is .059% or 59/1000ths of one percent. </a:t>
            </a:r>
            <a:endParaRPr b="0" lang="en-US" sz="1800" spc="-1" strike="noStrike">
              <a:solidFill>
                <a:srgbClr val="000000"/>
              </a:solidFill>
              <a:latin typeface="Constantia"/>
            </a:endParaRPr>
          </a:p>
          <a:p>
            <a:pPr marL="253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marL="253440" indent="-25344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n the other hand, the potential that the PBPC is used to undercut competitive offers, because of its low starting point and gradual slope, occurs nearly 1 percent of the time. </a:t>
            </a:r>
            <a:endParaRPr b="0" lang="en-US" sz="1800" spc="-1" strike="noStrike">
              <a:solidFill>
                <a:srgbClr val="000000"/>
              </a:solidFill>
              <a:latin typeface="Constantia"/>
            </a:endParaRPr>
          </a:p>
          <a:p>
            <a:pPr marL="253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07" name="Chart 1" descr="cid:image001.png@01CD3A87.282C24B0"/>
          <p:cNvPicPr/>
          <p:nvPr/>
        </p:nvPicPr>
        <p:blipFill>
          <a:blip r:embed="rId1"/>
          <a:stretch/>
        </p:blipFill>
        <p:spPr>
          <a:xfrm>
            <a:off x="3657600" y="1752480"/>
            <a:ext cx="5211720" cy="409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se of Regulation Concern</a:t>
            </a:r>
            <a:endParaRPr b="0" lang="en-US" sz="5000" spc="-1" strike="noStrike">
              <a:solidFill>
                <a:srgbClr val="04617b"/>
              </a:solidFill>
              <a:latin typeface="Calibri"/>
            </a:endParaRPr>
          </a:p>
        </p:txBody>
      </p:sp>
      <p:sp>
        <p:nvSpPr>
          <p:cNvPr id="209" name=""/>
          <p:cNvSpPr txBox="1"/>
          <p:nvPr/>
        </p:nvSpPr>
        <p:spPr>
          <a:xfrm>
            <a:off x="457200" y="1828440"/>
            <a:ext cx="8229600" cy="438948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Since the actions that cause Regulation Ancillary Service capacity to be deployed to meet the Power Balance constraint reduces the amount of regulation capacity that can be used to maintain control of system frequency, the decision of the pricing of the power balance mismatch represents the value of the trade-off between the reduction in system reliability due to the use of the Regulation AS and the cost to the Load Serving Entitie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tending the range of the PBPC beyond the current 50 MW will mean a further diminishment of reliability.  </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0" name="TextBox 3"/>
          <p:cNvSpPr/>
          <p:nvPr/>
        </p:nvSpPr>
        <p:spPr>
          <a:xfrm>
            <a:off x="304920" y="6172200"/>
            <a:ext cx="8610480" cy="550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r>
              <a:rPr b="0" lang="en-US" sz="1800" spc="-1" strike="noStrike">
                <a:solidFill>
                  <a:srgbClr val="000000"/>
                </a:solidFill>
                <a:latin typeface="Constantia"/>
              </a:rPr>
              <a:t>	</a:t>
            </a:r>
            <a:r>
              <a:rPr b="1" i="1" lang="en-US" sz="1200" spc="-1" strike="noStrike">
                <a:solidFill>
                  <a:srgbClr val="000000"/>
                </a:solidFill>
                <a:latin typeface="Constantia"/>
              </a:rPr>
              <a:t>Setting the Shadow Price Caps and Power Balance Penalties in Security Constrained Economic Dispatch</a:t>
            </a:r>
            <a:r>
              <a:rPr b="1" lang="en-US" sz="1200" spc="-1" strike="noStrike">
                <a:solidFill>
                  <a:srgbClr val="000000"/>
                </a:solidFill>
                <a:latin typeface="Constantia"/>
              </a:rPr>
              <a:t>, Effective January 1, 2012, Version _4.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t>
            </a:r>
            <a:r>
              <a:rPr b="1" lang="en-US" sz="2400" spc="-1" strike="noStrike">
                <a:solidFill>
                  <a:srgbClr val="000000"/>
                </a:solidFill>
                <a:latin typeface="Constantia"/>
              </a:rPr>
              <a:t>Smart PBPC”</a:t>
            </a:r>
            <a:r>
              <a:rPr b="0" lang="en-US" sz="2400" spc="-1" strike="noStrike">
                <a:solidFill>
                  <a:srgbClr val="000000"/>
                </a:solidFill>
                <a:latin typeface="Constantia"/>
              </a:rPr>
              <a:t> – dynamically size and price the PBPC, instead of a “one size fits all”</a:t>
            </a: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Y</a:t>
            </a:r>
            <a:r>
              <a:rPr b="0" lang="en-US" sz="2400" spc="-1" strike="noStrike" baseline="-25000">
                <a:solidFill>
                  <a:srgbClr val="000000"/>
                </a:solidFill>
                <a:latin typeface="Constantia"/>
              </a:rPr>
              <a:t>1  </a:t>
            </a:r>
            <a:r>
              <a:rPr b="0" lang="en-US" sz="2400" spc="-1" strike="noStrike">
                <a:solidFill>
                  <a:srgbClr val="000000"/>
                </a:solidFill>
                <a:latin typeface="Constantia"/>
              </a:rPr>
              <a:t>(low price) = $1 higher than the highest EOC point associated with the HDL for all offers in the system each SCED run</a:t>
            </a: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Y</a:t>
            </a:r>
            <a:r>
              <a:rPr b="0" lang="en-US" sz="2400" spc="-1" strike="noStrike" baseline="-25000">
                <a:solidFill>
                  <a:srgbClr val="000000"/>
                </a:solidFill>
                <a:latin typeface="Constantia"/>
              </a:rPr>
              <a:t>2 </a:t>
            </a:r>
            <a:r>
              <a:rPr b="0" lang="en-US" sz="2400" spc="-1" strike="noStrike">
                <a:solidFill>
                  <a:srgbClr val="000000"/>
                </a:solidFill>
                <a:latin typeface="Constantia"/>
              </a:rPr>
              <a:t>(high price) = SWOC</a:t>
            </a: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X</a:t>
            </a:r>
            <a:r>
              <a:rPr b="0" lang="en-US" sz="2400" spc="-1" strike="noStrike" baseline="-25000">
                <a:solidFill>
                  <a:srgbClr val="000000"/>
                </a:solidFill>
                <a:latin typeface="Constantia"/>
              </a:rPr>
              <a:t>1 </a:t>
            </a:r>
            <a:r>
              <a:rPr b="0" lang="en-US" sz="2400" spc="-1" strike="noStrike">
                <a:solidFill>
                  <a:srgbClr val="000000"/>
                </a:solidFill>
                <a:latin typeface="Constantia"/>
              </a:rPr>
              <a:t>(low megawatt value) = 1 MW</a:t>
            </a: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X</a:t>
            </a:r>
            <a:r>
              <a:rPr b="0" lang="en-US" sz="2400" spc="-1" strike="noStrike" baseline="-25000">
                <a:solidFill>
                  <a:srgbClr val="000000"/>
                </a:solidFill>
                <a:latin typeface="Constantia"/>
              </a:rPr>
              <a:t>2 </a:t>
            </a:r>
            <a:r>
              <a:rPr b="0" lang="en-US" sz="2400" spc="-1" strike="noStrike">
                <a:solidFill>
                  <a:srgbClr val="000000"/>
                </a:solidFill>
                <a:latin typeface="Constantia"/>
              </a:rPr>
              <a:t>(high megawatt value) = sum of the HASL minus the sum of the HDL not to exceed 50 MW, </a:t>
            </a:r>
            <a:r>
              <a:rPr b="0" i="1" lang="en-US" sz="2400" spc="-1" strike="noStrike">
                <a:solidFill>
                  <a:srgbClr val="000000"/>
                </a:solidFill>
                <a:latin typeface="Constantia"/>
              </a:rPr>
              <a:t>i.e., </a:t>
            </a:r>
            <a:r>
              <a:rPr b="0" lang="en-US" sz="2400" spc="-1" strike="noStrike">
                <a:solidFill>
                  <a:srgbClr val="000000"/>
                </a:solidFill>
                <a:latin typeface="Constantia"/>
              </a:rPr>
              <a:t>min(max(( SUM HASL – SUM HDL),1),50)</a:t>
            </a: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 a straight line slope from the low to high points. (Could also be a shaped slope)</a:t>
            </a:r>
            <a:endParaRPr b="0" lang="en-US" sz="2400" spc="-1" strike="noStrike">
              <a:solidFill>
                <a:srgbClr val="000000"/>
              </a:solidFill>
              <a:latin typeface="Constantia"/>
            </a:endParaRPr>
          </a:p>
        </p:txBody>
      </p:sp>
      <p:sp>
        <p:nvSpPr>
          <p:cNvPr id="212" name="PlaceHolder 1"/>
          <p:cNvSpPr>
            <a:spLocks noGrp="1"/>
          </p:cNvSpPr>
          <p:nvPr>
            <p:ph type="title"/>
          </p:nvPr>
        </p:nvSpPr>
        <p:spPr>
          <a:xfrm>
            <a:off x="457200" y="704520"/>
            <a:ext cx="83059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ynamic PBPC</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inciples</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PBPC should not be allowed to undercut any dispatchable competitive energy offers that are not ramp rate limited.   However, it should be modified to resolve the concern that prices can spike only because ramp rates are limited.</a:t>
            </a:r>
            <a:br>
              <a:rPr sz="2200"/>
            </a:br>
            <a:r>
              <a:rPr b="0" lang="en-US" sz="2200" spc="-1" strike="noStrike">
                <a:solidFill>
                  <a:srgbClr val="000000"/>
                </a:solidFill>
                <a:latin typeface="Constantia"/>
              </a:rPr>
              <a:t> </a:t>
            </a: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BPC should price at SWOC if there are no ramp rate limitations and energy is exhausted.  In other words, we should not lean on Regulation for any amount of time at a price less than SWOC if available energy is exhausted.</a:t>
            </a:r>
            <a:br>
              <a:rPr sz="2200"/>
            </a:br>
            <a:r>
              <a:rPr b="0" lang="en-US" sz="2200" spc="-1" strike="noStrike">
                <a:solidFill>
                  <a:srgbClr val="000000"/>
                </a:solidFill>
                <a:latin typeface="Constantia"/>
              </a:rPr>
              <a:t> </a:t>
            </a: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BPC should be at a maximum of 50MWs and should be priced at SWOC at that point.  The reason it should not be more than 50 MWs is that, if greater, it further diminishes reliability.</a:t>
            </a: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0T18:42:59Z</dcterms:created>
  <dc:creator>Brad</dc:creator>
  <dc:description/>
  <dc:language>en-US</dc:language>
  <cp:lastModifiedBy>Kelly P. Landry</cp:lastModifiedBy>
  <dcterms:modified xsi:type="dcterms:W3CDTF">2012-06-11T18:31:07Z</dcterms:modified>
  <cp:revision>32</cp:revision>
  <dc:subject/>
  <dc:title>Dynamic PBPC</dc:title>
</cp:coreProperties>
</file>