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4325-3C73-46A0-B921-4CD29B5D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5CD2-5308-4AF7-B504-EC97E182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4D63F-DD94-4EF7-8A82-DA1EB55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1A0B-88A3-4176-93D8-6C99952D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301F-32C3-4E8A-9375-AF0065E6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3C939-DE91-4D82-A676-C230C29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CB217-2E3A-4B1B-9F13-3597E42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EDB84-02F3-4783-BE66-EF7263F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87F9-292D-4096-AC0E-4CA5EA6B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25B3-F02D-496F-A8CB-CFFB4F5C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8429C-8370-44FE-9840-4F6EA2FB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FF643-09D0-4812-8B42-3869C909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025A-C2C6-42DF-AB52-6CE663CC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FE88F-D10B-442D-AB8D-A4A1565A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F2FD7-3163-4C0E-840D-BD7E2CF4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06DE2-5B4B-423E-BE6E-EBD0F5A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B02D-5AD9-4DF8-BFC1-E2943D2C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C8623-6FCF-4A8A-B6D2-38669A4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8F312-F43B-4A22-ACA5-6FC1CABE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5D74-F9BD-4703-BA32-F487A24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22DDE-4115-4413-B89E-402CD70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3243-2432-4A11-8D7A-D475A576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D6BF3-14D7-4387-AFF4-FF300F8F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8F2E-ABE8-4122-B189-725CCD25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8F9F1-509F-468F-A176-08E238D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22B0D-F02F-44C9-9E8A-E2B2E9F3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D653A-952E-4495-8A1A-1A77BF0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39B3B-6A8D-44DD-879D-2C46EAD1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D1943-6790-4B8B-AA8B-5D707E7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C8D35-AE7C-4507-A89F-9FE21EEA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58A7C-0752-47A6-B158-F4D7F06C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096A0-57CA-465C-85E6-8E60FD6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BA9E1-369A-46A2-8821-3290CE0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EDA8D-3C70-4326-914A-551DA9F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41304-178C-4973-83B7-55F4005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F8E4C-A654-46F2-9F29-0960F619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5229A-A43E-4916-AD12-93435AAF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FD5C-22FF-41CC-AD0E-114BA374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87F95-766B-4F9E-9137-DC84C49C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4CE3-C6FB-4148-93CA-1DF2461F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635E5-14C3-4225-AC0D-73CCB3A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10F30-6176-44B4-AF67-CF18B99A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6B645-75EC-4FFF-B5BB-413C388D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F9F5D-7FB2-46CD-98CD-26DC68E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A6A15-0F3F-4F98-A722-0AEE8E9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41D90-2218-4359-8A4B-2A2D141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05480-C51C-4083-9D1B-DFD6E24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22FAA-F0ED-4C9A-ABAA-1F5A81EB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6FEC-CAD5-4FF6-BD62-65BA3334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C8DBB-76B8-4693-B1CD-D0C24FC5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F26EA-0319-40DC-BB23-9FE51E93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A5B7E-D749-4D31-9B2B-12032946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63F67-B131-4EF9-86DA-0E2E9DB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54BE8-833F-43E3-BD29-14D775D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F1F31-BCBC-4A4A-A745-1B26D2D6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E196F-D21C-4164-A483-77F7C37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C836F-AA1F-47AE-88B2-EAD53CE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C4CA7-7CCE-45A9-B363-BB4FA3A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73186-5520-4B30-8B31-EE0EE1B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16002-DAA3-4597-91C5-97A62F3E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4CFCC-167F-49FC-BF36-E11A8D0E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943CF-7926-41AD-8FA7-9E80395A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6A44C-08D3-49B8-BC91-79FF5E9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DF580-592F-4D0D-AB48-B69EE022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0B33E-37B4-46A2-A5A3-8AA73F2D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303A0-A5D1-45FD-8399-886D8C6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55C09-5532-4781-B587-4F1B5E2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3543F-A2F6-4BA9-AC0F-A52E743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D1DBF-7BCB-4903-A29B-C2A5006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82990-2673-4A10-BC9F-30E97E0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007FF-D7FF-4F19-B04B-13C14A5B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3ED50-DEAB-4F2C-9BBE-C90E0946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84F54-86D4-413C-9A2B-45D2D254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0C21-7F8C-40A4-9E45-38D7A40C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0BC5-4DD0-4C1C-92D7-F0370A47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5203-59CC-44DD-8407-3F3EB63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1D1-770C-490B-8901-FED7E0A3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2AC7-7DB0-4712-84CE-01C77354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C3DA-1F06-4F0A-A132-2F03453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1B22-29F5-45D8-B8C4-9D73F48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BA14-D2A7-4DBE-9CB5-D7D83E61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4E7-333B-454E-81CA-DCFE90C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1F9-EAC0-4648-8C51-6006E64D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7AA-98F8-4D01-9A3D-DE47072C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C96D-91B9-4B3C-9F3E-9EE02CA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75F-1EDC-4741-87D3-39588115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73A-E96A-4A8B-8EA0-4E9F361B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04B1-EC57-492C-8C79-86494BC6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A570-C90A-48E2-AACA-3CD4203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0B99F-13E2-45FD-A6B5-6E7A04B0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5228-A72C-4285-8C06-2E8D680B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3110-AD91-4EF2-A346-88AF5D49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1F03-9ADD-455B-8878-303D459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E395-57DE-4C10-9A5E-EA05964E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E8A4-482B-4711-86BC-9D7A248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A27E-7B79-444B-98DE-778BC6FE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E916-1C93-4E32-9B97-013EDCE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C6C4-D11F-4FFE-A6EB-DCE4F4E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B8EB-383E-49DB-83A3-4DC63536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DC93-52FB-43DC-A328-0F6F1C9A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6275-D872-4090-9ABC-C7007E15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329D-E5E3-41B8-B5F6-8385475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AAF8-215B-4110-9F5B-A9A8366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FCA6-DF70-4803-8C3E-0712AFB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0C71-5529-4EDD-B2D5-59338D0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EFE7-84CA-4E72-AE47-CFC01ED2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290F-A40C-45F5-86D8-178FCB0D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F01C-B4AB-4550-A7A2-FACE92E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D83A-1749-4299-B0DF-35F010EE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C497-C305-4F7D-9215-3AEC14B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07E7-A96A-4E82-B588-83F0FEA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0A67C-AFCA-49D2-BA8D-74F2DF9A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B43E-F9CC-451B-B119-8204A5C0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E285-7B06-4150-A4D8-58974C8A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A2F8-806C-4228-BA3E-040EED9C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B69D-39DC-4CE7-8817-E29534AF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AB8D-43D1-41DB-9332-5B4835B7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20291-D206-4C19-9D48-73F1651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66E6-D2E5-4070-8621-CB8F34A5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0C75-CE43-4B83-BAC9-DA09B11C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CA4C5-C3AF-4E63-94E9-7D5172E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6236-F1FB-4036-BFB2-64385B4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1B61-5A0A-44CB-AD42-C113C9D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B29B-7D26-44EB-8356-EFA1450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83411-0A6A-484C-8AB7-5CE1311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8E29-8386-4057-9B33-6E526C02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C6D0-9780-473A-84ED-607536E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2C54-BF57-49D9-9BEF-DF6D31A5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6D12-50DA-489C-A867-E3D874F8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3CD9-9273-4728-815B-A9C504B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DDE8-F9D4-439A-95E7-BB8B8D98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96624-22A0-4DD9-811F-07AB4ED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EC0D-C376-428B-A3E6-9ADEC26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CC051-64BD-4D51-9DBE-5A041DE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8BA8-B026-46E8-BF54-000390C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9A6E-9BAC-4517-9249-C3D07E5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D62A9-4241-459B-A512-D938BBF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3D1F-49CC-4C75-8281-6ABDF81D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6C89-8969-4C93-98C5-1FBD99FB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BB51-99BA-4BDD-B588-950315B2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29FF9-72E7-4764-BFF3-EB4C982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DAC3E-46E9-4CBE-8549-BE0FDADA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2A53-F8D2-487A-945C-7B157911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5525-9A8F-4A7F-9617-666262DF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C52F5-0847-42AC-B016-06A744EF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F571-A8A0-4949-83B6-8C3BD598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95CA4-1291-4D72-AA10-88D499E8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D60BE-326A-4742-A2A4-739A066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678D-3FEB-44A5-8009-9145F05F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1EAB-783A-47BD-B231-B6CECA6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4CB7-6BD5-47D8-8A80-F01F3F24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629E-0799-4501-8F1B-574E3963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934E-26F1-43B5-9600-90EB9CC5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F0BB-CA35-48B1-8829-6BC20605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C4B2D-FC4F-492F-9825-8671AC63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E4A9-D66D-47E7-832A-B99FCDD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95C-DF31-4530-B9E1-E80CBFE12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9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10B2-50F7-4999-BCF0-D4BDDEC3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9D9-09A5-48B5-9B27-A0D4BCD1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736C-E115-4BCD-8DDD-02EB796B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dt" idx="2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77AB-284D-4263-A3F4-2DB969E2B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96C-D403-4D58-9FBC-6C0D88C2C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1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dt" idx="3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921-203B-4A3E-A75B-6922AA85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B26D-DB83-46B0-B766-04EF24840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dt" idx="3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D33-88E5-4F44-97E6-3030EAA74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CAD8-0F74-4A49-9481-2B8A67BA0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7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dt" idx="3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B09D-D04F-4307-ACB9-18530F802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D98D-6904-47C3-8F9D-1D20D6E29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0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dt" idx="4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9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78DE-E2CA-4B58-B34D-E60C98EC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F9FE-C579-4C9D-B1CF-20D9DEDC8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3ECA-9B6F-4304-A1EB-957ADC6AE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DDB-1CAD-41CB-A434-BB670BE56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dt" idx="1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6179-A102-46E4-AD0C-3A680556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ED96-DB58-46A5-9821-913595421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3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dt" idx="1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6A1C-DDD1-4FBF-B854-F56FD43A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9091-44D5-491B-A779-12DAD2009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6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dt" idx="1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A5B-5A7F-4808-8030-2B7E868F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9411-1E74-4888-873D-AED7BCF9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9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dt" idx="2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5E0B-AB47-459B-9A82-882515A06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2966-9C20-41A5-A4EE-A1D2F6D6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dt" idx="2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D990-19ED-405E-A755-00521B163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AE2-D2AF-4155-83D2-D86CACD2B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5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27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Black Start Resource Testing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236232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bel Flores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ne 14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erating Guide Languag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graph (e) of Section 4.6.4, Responsibilities requires ERCO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ort to the Reliability and Operations Subcommittee (ROS) by April 1 of each year a plan for review and any testing activities of Black Start Resour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nterprets this to mean that the selected Black Start Resources for the two year term and the ERCOT Black Start Plan be presented to ROS for revie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recommends that a NOGRR be submitted to strike this sentence from the Operating Guides as this information is considered confidential and/or is CEII.  Additionally, this information is shared with the Black Start Working Group (BSWG).  Participants of the  BSWG are required to sign Non-Disclosure Agreements to participate in all BSWG activitie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3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7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Y. Landin_v2</cp:lastModifiedBy>
  <dcterms:modified xsi:type="dcterms:W3CDTF">2012-06-06T18:28:57Z</dcterms:modified>
  <cp:revision>420</cp:revision>
  <dc:subject/>
  <dc:title>Instructions</dc:title>
</cp:coreProperties>
</file>