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9076E-4D3E-4E54-B49B-B2813273B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D159D-A3F0-4E1A-B890-FE233195C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CBEA8-320B-47C0-ABDA-3246AE3D4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3819E-07EF-414B-A64C-598408FFD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42DD4-FB6F-40C5-9EBA-8FE679E3B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7A72A-0367-4090-B8EE-7CB6DF5DF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58E98-52B6-4E4A-86AC-BD4B5713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1483E-6323-4C1D-A12A-A7C9A75F5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BDBB5-A811-4772-AB67-F28DE99FF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8CA35-BDEB-4D0E-AEC3-5BC2B0E5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75595-D440-4342-80D1-5A89A26F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F66C5-139E-412E-91F4-51808886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973E9-B166-41F6-A4AA-8584ABDAEC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EC7A5-940F-4192-9520-296C31094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0"/>
          <p:cNvSpPr/>
          <p:nvPr/>
        </p:nvSpPr>
        <p:spPr>
          <a:xfrm>
            <a:off x="2333520" y="5467320"/>
            <a:ext cx="6276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ne 7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5"/>
          <p:cNvSpPr/>
          <p:nvPr/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MS Upd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ob Bevi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tail Market Subcommitte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X SET v4.0 Implementation was postponed for one week due to CenterPoint system outage on May 31, 201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 Target Release Date: June 3,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gency Release Date: June 10, 201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s of delay primarily staffing resource issues and costs for market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technical or customer impacts exp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evill, Rob</dc:creator>
  <dc:description/>
  <dc:language>en-US</dc:language>
  <cp:lastModifiedBy>Bevill, Rob</cp:lastModifiedBy>
  <dcterms:modified xsi:type="dcterms:W3CDTF">2012-06-05T22:15:28Z</dcterms:modified>
  <cp:revision>140</cp:revision>
  <dc:subject/>
  <dc:title>Instructions</dc:title>
</cp:coreProperties>
</file>