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DFD4-1E87-4872-8379-363401F6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TRE-Logo_2010_padding_transp.gif"/>
          <p:cNvPicPr/>
          <p:nvPr/>
        </p:nvPicPr>
        <p:blipFill>
          <a:blip r:embed="rId3"/>
          <a:stretch/>
        </p:blipFill>
        <p:spPr>
          <a:xfrm>
            <a:off x="380880" y="6167520"/>
            <a:ext cx="1554120" cy="60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3" descr="TRE Logo_rgb_2_medtransp_use for Word"/>
          <p:cNvPicPr/>
          <p:nvPr/>
        </p:nvPicPr>
        <p:blipFill>
          <a:blip r:embed="rId4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4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15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32EE-36CA-4E31-B008-82F2CE5AC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3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D653-7E0F-458F-83DD-FD7B23579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4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7A0A-FC28-49FE-BACB-99025468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5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ED2F-3BFC-4724-B8E9-F9C9A99DA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6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7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3" descr="TRE Logo_rgb_2_medtransp_use for Word"/>
          <p:cNvPicPr/>
          <p:nvPr/>
        </p:nvPicPr>
        <p:blipFill>
          <a:blip r:embed="rId4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8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9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3" descr="TRE Logo_rgb_2_medtransp_use for Word"/>
          <p:cNvPicPr/>
          <p:nvPr/>
        </p:nvPicPr>
        <p:blipFill>
          <a:blip r:embed="rId4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0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1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3" descr="TRE Logo_rgb_2_medtransp_use for Word"/>
          <p:cNvPicPr/>
          <p:nvPr/>
        </p:nvPicPr>
        <p:blipFill>
          <a:blip r:embed="rId4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2012 Reliability Standards Committee Member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28600" y="1127160"/>
          <a:ext cx="8763120" cy="4664160"/>
        </p:xfrm>
        <a:graphic>
          <a:graphicData uri="http://schemas.openxmlformats.org/drawingml/2006/table">
            <a:tbl>
              <a:tblPr/>
              <a:tblGrid>
                <a:gridCol w="2819520"/>
                <a:gridCol w="2057400"/>
                <a:gridCol w="388620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oord &amp;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 My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Reliability Council of Texas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oord &amp; Planning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 McInty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Reliability Council of Texas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Brock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Point Energy Houston Electric,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John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Electric Power Service Cor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 Be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or Electric Delivery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 Krem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dalupe Valley Electric 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i He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os Electric Power Cooperative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e David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Texas Electric Cooperative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 Detel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S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 Ow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 Municipal Power Ag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w Ga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in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da Hamp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ant Energy Company,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y Sh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 Trading,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Gab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ow Chemical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&amp; Marke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 Ke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G Power Marketing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&amp; Marke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S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idental Power Services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&amp; Marketing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Varn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aska Power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Mazey, Natalie</dc:creator>
  <dc:description/>
  <dc:language>en-US</dc:language>
  <cp:lastModifiedBy>Mazey, Natalie</cp:lastModifiedBy>
  <dcterms:modified xsi:type="dcterms:W3CDTF">2012-04-11T15:58:02Z</dcterms:modified>
  <cp:revision>146</cp:revision>
  <dc:subject/>
  <dc:title>Texas Regional Entity Presentation</dc:title>
</cp:coreProperties>
</file>