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4.wmf" ContentType="image/x-wmf"/>
  <Override PartName="/ppt/media/image7.png" ContentType="image/png"/>
  <Override PartName="/ppt/media/image15.wmf" ContentType="image/x-wmf"/>
  <Override PartName="/ppt/media/image1.jpeg" ContentType="image/jpeg"/>
  <Override PartName="/ppt/media/image3.png" ContentType="image/pn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B9E9-E621-403C-841C-FB21944B2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50D0-35CA-4320-8570-EA000A8C8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7DB-D7AC-408E-B4A5-23101814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413-E874-4C5E-8854-F969C727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A4F-3125-4F70-AA32-C5C8500D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567-5676-447C-A0D6-8F69D625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9C35-319B-4852-AA95-D1A6500C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8B04-23FA-4ECF-BB62-160C09AC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8724-6839-4051-A3FE-7056CFBD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71A0-5F77-4158-A694-848DE4AA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2A24-13E3-4096-9316-AA860E5B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2096-8158-463C-BE9C-042E065D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38EC-CFA3-4F44-81A0-A2672F30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BB2-2F42-4641-A2B7-C4616184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F78C-205D-483F-87CF-9AF7B9B0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FD10-3A4D-4E05-B5B7-E42C9256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8AAA-8B62-4B9E-BAB2-D34473EF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38F8-0750-40D5-991C-6A3CDDBD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52A2-1927-4155-809C-A132E484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E2A0-7E6B-43CF-81CB-2CE56BDA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CD2E4-AEE5-4CFA-8857-ACF0B4D1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A114-3C5D-48EE-912A-AAC81C16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D93BA-F1A2-44A2-9C66-AF1DAF9A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DF995-936C-44CD-983C-3BF3A741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9FD-FD4E-4E46-AF5F-16721106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128A-9B71-42E8-9CE2-3324ADAD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F0381-1028-4C4C-AE0A-8D7F801B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D2A6-F539-4681-B0D6-88FAF3DE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AFB6-BC6C-44BF-AA9E-BA90F365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0FDCB-E425-47B3-8039-62CE21A8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9B7BF-7044-415C-A161-7F64E4D6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23D3-3B7A-4D3E-86B7-DC837D08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E42F3-201D-4011-AFDB-EC5A4D51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F2471-496E-4518-848B-6537ED3C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E62B7-0039-49CB-85DD-874AA4F2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0B5-221C-4646-8DCE-CDA2A0AC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485DB-4BBA-45CE-AA06-6C5B1E76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A0A98-327D-43B7-98C7-36129677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F2FBC-5F75-4A47-9E0D-6A451A5B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A2C1B-71A9-4F58-B397-A8932EB6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AD0DB-9377-4333-9A2A-D0D8CBA1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2B186-44B1-4C6F-8FF2-8979A48A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7A850-E340-4851-9AA9-3C390A1B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1E1FF-5225-449E-88CC-5D224F62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2DE48-0C49-4928-B5D1-6E4F29ED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2372C-1C31-431F-A05A-F900E0A7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2CF-3E01-4088-B17B-C6571392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BD916-61A2-468B-820D-0A2576D2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E355D-BE78-4D92-A963-A98A2B87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7CCC9-5057-451F-BFF3-AD0E89FB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FE843-B7D8-4655-AA73-390D1326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E3D03-DA23-4B8B-B204-42ED4470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B3D9F-F058-4737-9418-096DF518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B526A-2016-42D1-B1A3-D31AF321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61B5C-CD62-496B-8782-75AB911F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86CDE-33A8-4D5B-92CC-AD77612E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218CC-7B29-4C04-B51F-06BA4E45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CED-8333-4DB6-B462-4DC4D8E3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23525-36EF-4B58-8ED3-9013A23F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7638D-807F-41CB-BF77-F3273216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D6FFD-D4FD-4296-8FC0-2E891F0C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63807-1045-494C-AAB8-34588748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82C1F-A739-4197-8DFB-6DAE7587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E76E6-310E-4BF5-B478-F6A43DB9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F33EC-2223-423C-8BA6-AA29F4A5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7D4F0-AFC1-43B3-AC08-A51DA900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02E85-C020-4468-9FCB-805ED1C1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9FCB3-CE90-4A21-A995-6EB3AC4E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2D6-3DCF-444B-9095-FDFE5898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945B0-A88D-4B75-9BD7-67D07900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08A6E-A63E-480A-AE23-BDDD758D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6797A-37ED-40CE-9225-AC3F984A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D0404-7AFA-412B-B293-A1DBEE5F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F7203-A0B6-43E8-8CFF-FBA6B750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2F7D2-F787-4CE1-BFCE-2F65A56D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0B4A9-D221-4EC4-9ECD-042EF378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8C63E-AB8B-49A8-9196-D5CAFA91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D2FBD-338C-4D95-A64C-03076C39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7B638-B86B-4765-952F-04777205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E8A-F974-4790-B0CC-351D081B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2E2E6-D387-41A5-8129-ECE45D62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79C61-1A08-4582-87F0-667CE034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03C17-AA81-41B3-9614-8480E1A5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EB2BA-976F-4CED-9DF8-54A8B554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07439-12B2-468F-96D5-E4B58FCA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867-6D3A-4056-B026-E157CBA1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E937-7814-4165-A91C-367D0908A282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2B5C-849D-4B3A-BFF9-4FB09E21B5A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B8F0-9D37-4DB7-8337-7F211113909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EEB2-D7C2-49E7-BD28-397A2E3518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1124-408F-4FB6-A127-A6C72E40E36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3306-C5A3-44E4-A464-2D006D1761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F974-D707-44C0-A8D3-9599DA3035DA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88A9-1EAD-47DA-BE7A-EE427F4DF68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082C-02D9-4896-B734-1998043AA471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4B6D-D708-479A-95E4-296E5340356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F729-3174-4A57-B21A-14660829B4ED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079C-2C15-4E36-82B3-1CF695AD036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916F-2E23-4194-95B4-2306F714A456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AA4F-D082-433C-B290-D4BE69DE314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puc.state.tx.us/industry/projects/electric/34610/34610.aspx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2438280" y="2432160"/>
            <a:ext cx="6553440" cy="13777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5257800" y="33523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"/>
              </a:rPr>
              <a:t>RMS Update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"/>
              </a:rPr>
              <a:t>December 14, 2011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08FC-B0B7-48DE-AD9E-6BE1349B21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0" y="16002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AMIT Stakeholder Steering Committee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udio Conference: 1-877-273-4202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ference Room: 4856540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eb Room Link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rbel"/>
              </a:rPr>
              <a:t>https://www1.gotomeeting.com/register/979713081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meeting schedule for AMIT has been updated and can be also be accessed online at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puc.state.tx.us/industry/projects/electric/34610/34610.aspx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386A-A685-4F73-AEB0-2F2FB71C075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6" descr=""/>
          <p:cNvPicPr/>
          <p:nvPr/>
        </p:nvPicPr>
        <p:blipFill>
          <a:blip r:embed="rId1"/>
          <a:stretch/>
        </p:blipFill>
        <p:spPr>
          <a:xfrm>
            <a:off x="609480" y="231840"/>
            <a:ext cx="8382240" cy="1139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C:\Documents and Settings\00015621\Local Settings\Temporary Internet Files\Content.IE5\UZYJAF85\MCj04344110000[1].wmf"/>
          <p:cNvPicPr/>
          <p:nvPr/>
        </p:nvPicPr>
        <p:blipFill>
          <a:blip r:embed="rId2"/>
          <a:stretch/>
        </p:blipFill>
        <p:spPr>
          <a:xfrm>
            <a:off x="1828800" y="1905120"/>
            <a:ext cx="4724280" cy="4267080"/>
          </a:xfrm>
          <a:prstGeom prst="rect">
            <a:avLst/>
          </a:prstGeom>
          <a:ln w="0">
            <a:noFill/>
          </a:ln>
        </p:spPr>
      </p:pic>
      <p:sp>
        <p:nvSpPr>
          <p:cNvPr id="36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2807-1F98-479B-9D6D-592EA9061B05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28600" y="1774800"/>
            <a:ext cx="8686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Advanced Meter Settlement Impac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pril 2012  – ERCOT settl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97M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ESIIDs using Advanced Meter dat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Settlements as of 4/25/12 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5.8%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f the load in ERCOT is settled using 15-minute interval data (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MS and ID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mercial Market Operations Report located at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25560" indent="-212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rbel"/>
              </a:rPr>
              <a:t>http://www.ercot.com/calendar/2012/05/20120515-BOD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325520" indent="-169560">
              <a:spcBef>
                <a:spcPts val="499"/>
              </a:spcBef>
              <a:buClr>
                <a:srgbClr val="e88651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lide #8&gt;&gt;&gt;&gt;&gt;&gt;&gt;&gt;&gt;&gt;&gt;&gt;&gt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25560" indent="-212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AD28-0D5E-4191-8B37-80D288C64DB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6"/>
          <p:cNvGraphicFramePr/>
          <p:nvPr/>
        </p:nvGraphicFramePr>
        <p:xfrm>
          <a:off x="4267080" y="5715000"/>
          <a:ext cx="914400" cy="71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5715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orbel"/>
              </a:rPr>
              <a:t>Oncor </a:t>
            </a:r>
            <a:r>
              <a:rPr b="1" lang="en-US" sz="4000" spc="-1" strike="noStrike">
                <a:solidFill>
                  <a:srgbClr val="ffff00"/>
                </a:solidFill>
                <a:latin typeface="Corbel"/>
              </a:rPr>
              <a:t>(approximately)</a:t>
            </a:r>
            <a:r>
              <a:rPr b="0" lang="en-US" sz="4000" spc="-1" strike="noStrike">
                <a:solidFill>
                  <a:srgbClr val="ffff00"/>
                </a:solidFill>
                <a:latin typeface="Corbe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Installed: </a:t>
            </a: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2,607,021 </a:t>
            </a: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as of </a:t>
            </a: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04.30.2012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  <a:p>
            <a:pPr lvl="2" marL="905760" indent="-207720">
              <a:spcBef>
                <a:spcPts val="9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Deployment Plan: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3" marL="1106280" indent="-1659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0 –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929,000  meters –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106280" indent="-1659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1 –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902,000  meters –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Complete!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106280" indent="-1659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2 –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902,000  me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C351-5FAC-48DE-812E-06733066E8C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304920" y="1652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marL="372240" indent="-271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NP </a:t>
            </a:r>
            <a:r>
              <a:rPr b="1" lang="en-US" sz="4000" spc="-1" strike="noStrike">
                <a:solidFill>
                  <a:srgbClr val="ffff00"/>
                </a:solidFill>
                <a:latin typeface="Corbel"/>
              </a:rPr>
              <a:t>(approximately):</a:t>
            </a:r>
            <a:r>
              <a:rPr b="0" lang="en-US" sz="4000" spc="-1" strike="noStrike">
                <a:solidFill>
                  <a:srgbClr val="ffff00"/>
                </a:solidFill>
                <a:latin typeface="Corbe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Installed: </a:t>
            </a: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2,232,776</a:t>
            </a:r>
            <a:r>
              <a:rPr b="1" lang="en-US" sz="38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as of </a:t>
            </a: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04.30.2012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  <a:p>
            <a:pPr lvl="1" marL="620280" indent="-231840">
              <a:lnSpc>
                <a:spcPct val="90000"/>
              </a:lnSpc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ployment Plan, includes projected growth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33560" indent="-154800">
              <a:lnSpc>
                <a:spcPct val="90000"/>
              </a:lnSpc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0 –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756,684 meters –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33560" indent="-154800">
              <a:lnSpc>
                <a:spcPct val="90000"/>
              </a:lnSpc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1 –  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960,327 meters –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33560" indent="-154800">
              <a:lnSpc>
                <a:spcPct val="90000"/>
              </a:lnSpc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2 –  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373,423 meter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1A9D-2FEE-449F-894A-03441862662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AEP </a:t>
            </a:r>
            <a:r>
              <a:rPr b="1" lang="en-US" sz="4000" spc="-1" strike="noStrike">
                <a:solidFill>
                  <a:srgbClr val="ffff00"/>
                </a:solidFill>
                <a:latin typeface="Corbel"/>
              </a:rPr>
              <a:t>(approximately)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Installed:  </a:t>
            </a: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520,834</a:t>
            </a: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 as of </a:t>
            </a: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04.30.2012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  <a:p>
            <a:pPr lvl="1" marL="664200" indent="-24804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Deployment Plan schedul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106280" indent="-1659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0 –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188,212</a:t>
            </a: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meters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– 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106280" indent="-1659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1 –  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251,571  meters 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–  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106280" indent="-1659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2 –  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279,329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me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106280" indent="-1659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3 –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278,280  meter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9D5F-CE66-4E4D-8457-1746DF05746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684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TNMP </a:t>
            </a:r>
            <a:r>
              <a:rPr b="1" lang="en-US" sz="4800" spc="-1" strike="noStrike">
                <a:solidFill>
                  <a:srgbClr val="ffff00"/>
                </a:solidFill>
                <a:latin typeface="Corbel"/>
              </a:rPr>
              <a:t>(approximately):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rbel"/>
              </a:rPr>
              <a:t>Installed:  </a:t>
            </a:r>
            <a:r>
              <a:rPr b="1" lang="en-US" sz="4100" spc="-1" strike="noStrike">
                <a:solidFill>
                  <a:srgbClr val="ff0000"/>
                </a:solidFill>
                <a:latin typeface="Corbel"/>
              </a:rPr>
              <a:t>39,732</a:t>
            </a:r>
            <a:r>
              <a:rPr b="0" lang="en-US" sz="4100" spc="-1" strike="noStrike">
                <a:solidFill>
                  <a:srgbClr val="000000"/>
                </a:solidFill>
                <a:latin typeface="Corbel"/>
              </a:rPr>
              <a:t> as of </a:t>
            </a:r>
            <a:r>
              <a:rPr b="1" lang="en-US" sz="4100" spc="-1" strike="noStrike">
                <a:solidFill>
                  <a:srgbClr val="000000"/>
                </a:solidFill>
                <a:latin typeface="Corbel"/>
              </a:rPr>
              <a:t>04.30.2012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  <a:p>
            <a:pPr lvl="2" marL="935640" indent="-21456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Gulf Coast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omplete in Q4 2013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935640" indent="-21456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Lewisville   </a:t>
            </a: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Q1 2014 -    Q3 2014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935640" indent="-21456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North Texas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4 2014 -    Q3 2015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935640" indent="-21456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Central Texas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3 2015 -    Q1 2016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935640" indent="-21456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West Texas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2 2016 -    Q3 2016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DD5E-7F38-45B7-B7AE-D9DB0BA5568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1" name="Content Placeholder 2" descr=""/>
          <p:cNvPicPr/>
          <p:nvPr/>
        </p:nvPicPr>
        <p:blipFill>
          <a:blip r:embed="rId2"/>
          <a:stretch/>
        </p:blipFill>
        <p:spPr>
          <a:xfrm>
            <a:off x="304920" y="1298520"/>
            <a:ext cx="8229600" cy="3913200"/>
          </a:xfrm>
          <a:prstGeom prst="rect">
            <a:avLst/>
          </a:prstGeom>
          <a:ln w="0">
            <a:noFill/>
          </a:ln>
        </p:spPr>
      </p:pic>
      <p:sp>
        <p:nvSpPr>
          <p:cNvPr id="332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B282-6D86-41DA-AF57-3904403E5DD2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2" descr="C:\Documents and Settings\00015621\Local Settings\Temporary Internet Files\Content.IE5\4H9UELBM\MC900093373[1].wmf"/>
          <p:cNvPicPr/>
          <p:nvPr/>
        </p:nvPicPr>
        <p:blipFill>
          <a:blip r:embed="rId3"/>
          <a:stretch/>
        </p:blipFill>
        <p:spPr>
          <a:xfrm rot="2458200">
            <a:off x="6457680" y="3638160"/>
            <a:ext cx="2097000" cy="3279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C:\Documents and Settings\00015621\Local Settings\Temporary Internet Files\Content.IE5\4H9UELBM\MC900093373[1].wmf"/>
          <p:cNvPicPr/>
          <p:nvPr/>
        </p:nvPicPr>
        <p:blipFill>
          <a:blip r:embed="rId4"/>
          <a:stretch/>
        </p:blipFill>
        <p:spPr>
          <a:xfrm rot="19536600">
            <a:off x="290520" y="3882600"/>
            <a:ext cx="2097000" cy="3029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2" descr="C:\Documents and Settings\00015621\Local Settings\Temporary Internet Files\Content.IE5\4H9UELBM\MC900093373[1].wmf"/>
          <p:cNvPicPr/>
          <p:nvPr/>
        </p:nvPicPr>
        <p:blipFill>
          <a:blip r:embed="rId5"/>
          <a:stretch/>
        </p:blipFill>
        <p:spPr>
          <a:xfrm rot="19681800">
            <a:off x="6756480" y="1571400"/>
            <a:ext cx="2157480" cy="25588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2" descr="C:\Documents and Settings\00015621\Local Settings\Temporary Internet Files\Content.IE5\4H9UELBM\MC900093373[1].wmf"/>
          <p:cNvPicPr/>
          <p:nvPr/>
        </p:nvPicPr>
        <p:blipFill>
          <a:blip r:embed="rId6"/>
          <a:stretch/>
        </p:blipFill>
        <p:spPr>
          <a:xfrm rot="2104800">
            <a:off x="34920" y="863280"/>
            <a:ext cx="2362320" cy="29923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2" descr="C:\Documents and Settings\00015621\Local Settings\Temporary Internet Files\Content.IE5\4H9UELBM\MC900093373[1].wmf"/>
          <p:cNvPicPr/>
          <p:nvPr/>
        </p:nvPicPr>
        <p:blipFill>
          <a:blip r:embed="rId7"/>
          <a:stretch/>
        </p:blipFill>
        <p:spPr>
          <a:xfrm>
            <a:off x="3276720" y="4114800"/>
            <a:ext cx="2401920" cy="2552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2" descr="C:\Documents and Settings\00015621\Local Settings\Temporary Internet Files\Content.IE5\4H9UELBM\MC900093373[1].wmf"/>
          <p:cNvPicPr/>
          <p:nvPr/>
        </p:nvPicPr>
        <p:blipFill>
          <a:blip r:embed="rId8"/>
          <a:stretch/>
        </p:blipFill>
        <p:spPr>
          <a:xfrm rot="10800000">
            <a:off x="3580920" y="1523520"/>
            <a:ext cx="24195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uring the April 24, 2012 AMIT Steering Committee meeting, the TDSPs provided the following deployment status reports for March 2012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204B-E36E-4584-B4F8-686A640653F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2"/>
          <p:cNvSpPr/>
          <p:nvPr/>
        </p:nvSpPr>
        <p:spPr>
          <a:xfrm>
            <a:off x="1295280" y="5345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2971800" y="5334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4"/>
          <p:cNvSpPr/>
          <p:nvPr/>
        </p:nvSpPr>
        <p:spPr>
          <a:xfrm>
            <a:off x="4876920" y="53341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5"/>
          <p:cNvSpPr/>
          <p:nvPr/>
        </p:nvSpPr>
        <p:spPr>
          <a:xfrm>
            <a:off x="6705720" y="53341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NM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6"/>
          <p:cNvGraphicFramePr/>
          <p:nvPr/>
        </p:nvGraphicFramePr>
        <p:xfrm>
          <a:off x="1295280" y="4572000"/>
          <a:ext cx="914400" cy="71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4572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7"/>
          <p:cNvGraphicFramePr/>
          <p:nvPr/>
        </p:nvGraphicFramePr>
        <p:xfrm>
          <a:off x="2971800" y="4572000"/>
          <a:ext cx="914400" cy="71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1800" y="4572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8"/>
          <p:cNvGraphicFramePr/>
          <p:nvPr/>
        </p:nvGraphicFramePr>
        <p:xfrm>
          <a:off x="4876920" y="4543560"/>
          <a:ext cx="914400" cy="71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1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6920" y="454356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13"/>
          <p:cNvGraphicFramePr/>
          <p:nvPr/>
        </p:nvGraphicFramePr>
        <p:xfrm>
          <a:off x="6629400" y="4543560"/>
          <a:ext cx="914400" cy="71424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353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29400" y="454356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68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Tuesday, May 22, 2012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Tuesday, June 26, 2012 (reschedul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uly and August- no meetings schedul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Tuesday, September 18, 2012 (reschedul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Tuesday, October 23, 2012 (reschedul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Tuesday, November  27, 2012 (reschedul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Tuesday, December 11, 2012 (reschedul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CD6B-7016-4268-9CCD-119117B18EE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0:03:56Z</dcterms:created>
  <dc:creator>00015621</dc:creator>
  <dc:description/>
  <dc:language>en-US</dc:language>
  <cp:lastModifiedBy>Kelly P. Landry</cp:lastModifiedBy>
  <dcterms:modified xsi:type="dcterms:W3CDTF">2012-05-15T20:13:16Z</dcterms:modified>
  <cp:revision>162</cp:revision>
  <dc:subject/>
  <dc:title>MARS Taskfor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829819991</vt:lpwstr>
  </property>
</Properties>
</file>