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1A4B-7F2B-488D-8B86-649CC8B4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4EA1-B503-49DC-AB3D-1A166DF7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0F16-E0E9-4389-AA67-EFD57942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96A8-6DD0-4A43-B4D3-D47D594E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307E-314D-4F43-9846-3D9DAF52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4917-AAD8-4E52-81A3-846C750F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2603-7BE9-4219-99C8-E99511CE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FCDE-0E90-406D-83B1-D8EFC904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2511A-7649-4F90-A8AC-1954CCF8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5C66-CD27-4448-B869-A182BE37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3D85-2C9B-4E15-9219-A3089E1E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D5B3-FCDB-43A6-9233-2F7008FB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6BD1-DA54-4314-A4E0-FAD15220B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7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723920" y="640080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0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3809880" y="64753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C73E-3254-43C8-BECF-009662514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"/>
          <p:cNvPicPr/>
          <p:nvPr/>
        </p:nvPicPr>
        <p:blipFill>
          <a:blip r:embed="rId2"/>
          <a:stretch/>
        </p:blipFill>
        <p:spPr>
          <a:xfrm>
            <a:off x="152280" y="152280"/>
            <a:ext cx="19051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cope of Proble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0DF5-23E1-48CF-B84E-374EC6D7F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00160" y="1066680"/>
            <a:ext cx="8610480" cy="38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maining Problems facing NPRR4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odeled unit(s) paired with corresponding GSU transfo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10 of the 93 modeled wind units would need to be modified in ERCOT’s model to meet the criteri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There are 17 of the 63 registered wind sites that have single units/multiple GSUs or low side kV Bus-ties modele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llowable differences between physical and modeled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9:26:07Z</dcterms:created>
  <dc:creator>Betty Day</dc:creator>
  <dc:description/>
  <dc:language>en-US</dc:language>
  <cp:lastModifiedBy>jweatherly</cp:lastModifiedBy>
  <cp:lastPrinted>2012-04-25T15:47:39Z</cp:lastPrinted>
  <dcterms:modified xsi:type="dcterms:W3CDTF">2012-04-26T20:44:53Z</dcterms:modified>
  <cp:revision>526</cp:revision>
  <dc:subject/>
  <dc:title>Role of Account Management at ERCOT</dc:title>
</cp:coreProperties>
</file>