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0C7-B3B4-4C0F-8B43-9669969C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AF1-A67F-4388-8875-AC890053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DB7-303C-474E-9AA3-8111C054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073-1FE6-4BE3-8984-5DF85609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2D2-3EA3-41E1-8732-0F078851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7C3-103E-4645-B61D-DF9D280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67C-0A8A-4293-8C0A-9FDF87A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317-A2CE-4D9A-8FAF-4D4C6DA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78C-96F0-4A40-B97F-1A2A6E33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06D-16E5-4F08-97C7-7A454CA0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A5A-7FBA-43BA-B4D0-F663E96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3C3-019E-4FB6-8FFF-BB90070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0DA3-08BD-44F6-9997-47E657027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42840" y="349200"/>
            <a:ext cx="92296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38160" y="1440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33200" y="295200"/>
            <a:ext cx="8877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uct burner review – identify resources with duct burners in service during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MW/.10HZ values back to control metrics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regulation deviation when depl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regulation deployment perform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/adjust time constants in LFC for ERCOT deploy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metered frequency target proposal to ROS from PDCW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il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 members attended representing 11 companies, ERCOT, TRE &amp; PU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ct burner revie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requirements for even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telemetry may b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S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reliability impact, further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d 3 frequency disturbanc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un review of wind resource P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control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performance review begu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data set requirements to evaluat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metr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distribution change continues (slide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changes may warrant new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0" y="157320"/>
            <a:ext cx="91440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7520" y="76320"/>
            <a:ext cx="909648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51:50Z</dcterms:created>
  <dc:creator>PDCWG</dc:creator>
  <dc:description/>
  <dc:language>en-US</dc:language>
  <cp:lastModifiedBy>TAC</cp:lastModifiedBy>
  <dcterms:modified xsi:type="dcterms:W3CDTF">2012-04-10T20:11:37Z</dcterms:modified>
  <cp:revision>19</cp:revision>
  <dc:subject/>
  <dc:title>Slide 1</dc:title>
</cp:coreProperties>
</file>