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4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5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80DA-1C33-4DD0-A000-0B141B6A6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A263-F44C-4520-9BD3-BE26F3082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3"/>
          <p:cNvGrpSpPr/>
          <p:nvPr/>
        </p:nvGrpSpPr>
        <p:grpSpPr>
          <a:xfrm>
            <a:off x="0" y="6394320"/>
            <a:ext cx="9144000" cy="457200"/>
            <a:chOff x="0" y="6394320"/>
            <a:chExt cx="9144000" cy="457200"/>
          </a:xfrm>
        </p:grpSpPr>
        <p:sp>
          <p:nvSpPr>
            <p:cNvPr id="5" name="Rectangle 7"/>
            <p:cNvSpPr/>
            <p:nvPr/>
          </p:nvSpPr>
          <p:spPr>
            <a:xfrm>
              <a:off x="0" y="6394320"/>
              <a:ext cx="9144000" cy="457200"/>
            </a:xfrm>
            <a:prstGeom prst="rect">
              <a:avLst/>
            </a:prstGeom>
            <a:solidFill>
              <a:srgbClr val="ece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Group 18"/>
            <p:cNvGrpSpPr/>
            <p:nvPr/>
          </p:nvGrpSpPr>
          <p:grpSpPr>
            <a:xfrm>
              <a:off x="0" y="6476760"/>
              <a:ext cx="2870280" cy="306360"/>
              <a:chOff x="0" y="6476760"/>
              <a:chExt cx="2870280" cy="306360"/>
            </a:xfrm>
          </p:grpSpPr>
          <p:grpSp>
            <p:nvGrpSpPr>
              <p:cNvPr id="7" name="Group 12"/>
              <p:cNvGrpSpPr/>
              <p:nvPr/>
            </p:nvGrpSpPr>
            <p:grpSpPr>
              <a:xfrm>
                <a:off x="0" y="6476760"/>
                <a:ext cx="592200" cy="306360"/>
                <a:chOff x="0" y="6476760"/>
                <a:chExt cx="592200" cy="306360"/>
              </a:xfrm>
            </p:grpSpPr>
            <p:pic>
              <p:nvPicPr>
                <p:cNvPr id="8" name="Picture 8" descr="logo_C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6476760"/>
                  <a:ext cx="546480" cy="30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Line 11"/>
                <p:cNvSpPr/>
                <p:nvPr/>
              </p:nvSpPr>
              <p:spPr>
                <a:xfrm>
                  <a:off x="592200" y="652752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" name="Text Box 15"/>
              <p:cNvSpPr/>
              <p:nvPr/>
            </p:nvSpPr>
            <p:spPr>
              <a:xfrm>
                <a:off x="601560" y="6519600"/>
                <a:ext cx="226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LS Offer Selec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Text Box 15"/>
            <p:cNvSpPr/>
            <p:nvPr/>
          </p:nvSpPr>
          <p:spPr>
            <a:xfrm>
              <a:off x="7543800" y="6519600"/>
              <a:ext cx="150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anuary 12, 20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Text Box 15"/>
            <p:cNvSpPr/>
            <p:nvPr/>
          </p:nvSpPr>
          <p:spPr>
            <a:xfrm>
              <a:off x="4419720" y="6527520"/>
              <a:ext cx="89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6CE0B5A-A458-4839-93DD-5EA14DC93264}" type="slidenum"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5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6"/>
          <p:cNvGrpSpPr/>
          <p:nvPr/>
        </p:nvGrpSpPr>
        <p:grpSpPr>
          <a:xfrm>
            <a:off x="0" y="6394320"/>
            <a:ext cx="9144000" cy="457200"/>
            <a:chOff x="0" y="6394320"/>
            <a:chExt cx="9144000" cy="457200"/>
          </a:xfrm>
        </p:grpSpPr>
        <p:sp>
          <p:nvSpPr>
            <p:cNvPr id="93" name="Rectangle 7"/>
            <p:cNvSpPr/>
            <p:nvPr/>
          </p:nvSpPr>
          <p:spPr>
            <a:xfrm>
              <a:off x="0" y="6394320"/>
              <a:ext cx="9144000" cy="457200"/>
            </a:xfrm>
            <a:prstGeom prst="rect">
              <a:avLst/>
            </a:prstGeom>
            <a:solidFill>
              <a:srgbClr val="ece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2"/>
            <p:cNvGrpSpPr/>
            <p:nvPr/>
          </p:nvGrpSpPr>
          <p:grpSpPr>
            <a:xfrm>
              <a:off x="0" y="6476760"/>
              <a:ext cx="591840" cy="306360"/>
              <a:chOff x="0" y="6476760"/>
              <a:chExt cx="591840" cy="306360"/>
            </a:xfrm>
          </p:grpSpPr>
          <p:pic>
            <p:nvPicPr>
              <p:cNvPr id="95" name="Picture 8" descr="logo_C"/>
              <p:cNvPicPr/>
              <p:nvPr/>
            </p:nvPicPr>
            <p:blipFill>
              <a:blip r:embed="rId2"/>
              <a:stretch/>
            </p:blipFill>
            <p:spPr>
              <a:xfrm>
                <a:off x="0" y="6476760"/>
                <a:ext cx="546120" cy="30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Line 11"/>
              <p:cNvSpPr/>
              <p:nvPr/>
            </p:nvSpPr>
            <p:spPr>
              <a:xfrm>
                <a:off x="591840" y="6527520"/>
                <a:ext cx="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 Box 15"/>
            <p:cNvSpPr/>
            <p:nvPr/>
          </p:nvSpPr>
          <p:spPr>
            <a:xfrm>
              <a:off x="4419720" y="6527520"/>
              <a:ext cx="89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8EA7C38-40AD-472E-A6B9-E3E53A5AB906}" type="slidenum"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5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bruary 15,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2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S NPRR Update to W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mailto:pwattles@ercot.com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33520" y="2495520"/>
            <a:ext cx="60199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aft NPRR Discuss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mergency Response Service (ERS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Date Placeholder 3"/>
          <p:cNvSpPr/>
          <p:nvPr/>
        </p:nvSpPr>
        <p:spPr>
          <a:xfrm>
            <a:off x="2333520" y="4876920"/>
            <a:ext cx="61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ul Wat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ch 8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333520" y="4191120"/>
            <a:ext cx="2847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to 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ule:  PUC Project 39948 to amend Subst. Rule §25.507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UC Staff confirmed that proposal for adoption will be posted for consideration at March 22 PUC Open Me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companying NPRR schedule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ill in draft form, current version will be sent to exploders and will post to meeting pag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ill tweaking with ERCOT Legal but major provisions are unchang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itial review at COPS, WMS and ROS in Februa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viewed at PDCWG Feb. 2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turn visits to WMS and ROS in Mar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led with number by March 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S March 2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RCOT will offer comments to amend NPRR to be consistent with any changes adopted in the PUC Ru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C and Board in Apri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une 1 effective d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hanges since last mont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rified definition of ERS Generato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(1) an individual generator contracted to provide ERS which is not a Generation Resource or a source of intermittent renewable generation and which provides ERS by injecting energy to the ERCOT System, or (2) an aggregation of such genera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S Generators come in 2 typ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ng generator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offer only that capacity above the level serving the nativ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operate above that level except during ERS deployment events (availability requir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self serving generator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t zero generation except during testing and ERS deployment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ed available if at zero generation, unless part of a self-test or ERCOT unannounced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iscussion at PDCW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ERS Generators be required to provide voltage support and primary frequency respons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Support is a requirement for Generation Resources, which are ineligible for 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Frequency Response is required of All-Inclusive Generation Resources, which include Non-Modeled Gen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Non-Modeled Generator provides ERS, it would be subject to Protocols 8.5.1.1 to provide Primary Frequency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ERS Generators have similar weatherization requirements to Generation Resourc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C Rule 25.53 requires Power Generation Companies to submit: ‘summary of power plant weatherization plans and procedures’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no current language in Rules, Protocols or Guides relating to guidelines for weathe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uidelines or rules are adopted, ERCOT will consider expanding them to include ERS Gen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3"/>
          <p:cNvGrpSpPr/>
          <p:nvPr/>
        </p:nvGrpSpPr>
        <p:grpSpPr>
          <a:xfrm>
            <a:off x="3733920" y="2119320"/>
            <a:ext cx="1447560" cy="2452680"/>
            <a:chOff x="3733920" y="2119320"/>
            <a:chExt cx="1447560" cy="2452680"/>
          </a:xfrm>
        </p:grpSpPr>
        <p:pic>
          <p:nvPicPr>
            <p:cNvPr id="196" name="Picture 4" descr="MCj03403080000[1]"/>
            <p:cNvPicPr/>
            <p:nvPr/>
          </p:nvPicPr>
          <p:blipFill>
            <a:blip r:embed="rId1"/>
            <a:stretch/>
          </p:blipFill>
          <p:spPr>
            <a:xfrm>
              <a:off x="3733920" y="2119320"/>
              <a:ext cx="1447560" cy="24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5"/>
            <p:cNvSpPr/>
            <p:nvPr/>
          </p:nvSpPr>
          <p:spPr>
            <a:xfrm>
              <a:off x="4273560" y="2462760"/>
              <a:ext cx="588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6"/>
            <p:cNvSpPr/>
            <p:nvPr/>
          </p:nvSpPr>
          <p:spPr>
            <a:xfrm>
              <a:off x="4273560" y="3837240"/>
              <a:ext cx="5886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609480" y="5526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wattles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/248-65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>Updated:8/29/2011</dc:description>
  <dc:language>en-US</dc:language>
  <cp:lastModifiedBy>P Wattles</cp:lastModifiedBy>
  <dcterms:modified xsi:type="dcterms:W3CDTF">2012-03-08T14:46:48Z</dcterms:modified>
  <cp:revision>638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Updated">
    <vt:filetime>2011-06-14T05:00:00Z</vt:filetime>
  </property>
</Properties>
</file>