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4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5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B482-9213-41D4-9F2E-8D2326CE9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29E0-AA6E-475A-88BA-180C82FF0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5737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737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737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3"/>
          <p:cNvGrpSpPr/>
          <p:nvPr/>
        </p:nvGrpSpPr>
        <p:grpSpPr>
          <a:xfrm>
            <a:off x="0" y="6394320"/>
            <a:ext cx="9144000" cy="457200"/>
            <a:chOff x="0" y="6394320"/>
            <a:chExt cx="9144000" cy="457200"/>
          </a:xfrm>
        </p:grpSpPr>
        <p:sp>
          <p:nvSpPr>
            <p:cNvPr id="5" name="Rectangle 7"/>
            <p:cNvSpPr/>
            <p:nvPr/>
          </p:nvSpPr>
          <p:spPr>
            <a:xfrm>
              <a:off x="0" y="6394320"/>
              <a:ext cx="9144000" cy="457200"/>
            </a:xfrm>
            <a:prstGeom prst="rect">
              <a:avLst/>
            </a:prstGeom>
            <a:solidFill>
              <a:srgbClr val="ece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" name="Group 18"/>
            <p:cNvGrpSpPr/>
            <p:nvPr/>
          </p:nvGrpSpPr>
          <p:grpSpPr>
            <a:xfrm>
              <a:off x="0" y="6476760"/>
              <a:ext cx="2870280" cy="306360"/>
              <a:chOff x="0" y="6476760"/>
              <a:chExt cx="2870280" cy="306360"/>
            </a:xfrm>
          </p:grpSpPr>
          <p:grpSp>
            <p:nvGrpSpPr>
              <p:cNvPr id="7" name="Group 12"/>
              <p:cNvGrpSpPr/>
              <p:nvPr/>
            </p:nvGrpSpPr>
            <p:grpSpPr>
              <a:xfrm>
                <a:off x="0" y="6476760"/>
                <a:ext cx="592200" cy="306360"/>
                <a:chOff x="0" y="6476760"/>
                <a:chExt cx="592200" cy="306360"/>
              </a:xfrm>
            </p:grpSpPr>
            <p:pic>
              <p:nvPicPr>
                <p:cNvPr id="8" name="Picture 8" descr="logo_C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6476760"/>
                  <a:ext cx="546480" cy="306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Line 11"/>
                <p:cNvSpPr/>
                <p:nvPr/>
              </p:nvSpPr>
              <p:spPr>
                <a:xfrm>
                  <a:off x="592200" y="6527520"/>
                  <a:ext cx="0" cy="219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" name="Text Box 15"/>
              <p:cNvSpPr/>
              <p:nvPr/>
            </p:nvSpPr>
            <p:spPr>
              <a:xfrm>
                <a:off x="601560" y="6519600"/>
                <a:ext cx="2268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LS Offer Selec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Text Box 15"/>
            <p:cNvSpPr/>
            <p:nvPr/>
          </p:nvSpPr>
          <p:spPr>
            <a:xfrm>
              <a:off x="7543800" y="6519600"/>
              <a:ext cx="150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anuary 12, 20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Text Box 15"/>
            <p:cNvSpPr/>
            <p:nvPr/>
          </p:nvSpPr>
          <p:spPr>
            <a:xfrm>
              <a:off x="4419720" y="652752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F3905EA-B000-421F-9328-BCC7037E1C0D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6"/>
          <p:cNvGrpSpPr/>
          <p:nvPr/>
        </p:nvGrpSpPr>
        <p:grpSpPr>
          <a:xfrm>
            <a:off x="0" y="6394320"/>
            <a:ext cx="9144000" cy="457200"/>
            <a:chOff x="0" y="6394320"/>
            <a:chExt cx="9144000" cy="457200"/>
          </a:xfrm>
        </p:grpSpPr>
        <p:sp>
          <p:nvSpPr>
            <p:cNvPr id="93" name="Rectangle 7"/>
            <p:cNvSpPr/>
            <p:nvPr/>
          </p:nvSpPr>
          <p:spPr>
            <a:xfrm>
              <a:off x="0" y="6394320"/>
              <a:ext cx="9144000" cy="457200"/>
            </a:xfrm>
            <a:prstGeom prst="rect">
              <a:avLst/>
            </a:prstGeom>
            <a:solidFill>
              <a:srgbClr val="ecec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2"/>
            <p:cNvGrpSpPr/>
            <p:nvPr/>
          </p:nvGrpSpPr>
          <p:grpSpPr>
            <a:xfrm>
              <a:off x="0" y="6476760"/>
              <a:ext cx="591840" cy="306360"/>
              <a:chOff x="0" y="6476760"/>
              <a:chExt cx="591840" cy="306360"/>
            </a:xfrm>
          </p:grpSpPr>
          <p:pic>
            <p:nvPicPr>
              <p:cNvPr id="95" name="Picture 8" descr="logo_C"/>
              <p:cNvPicPr/>
              <p:nvPr/>
            </p:nvPicPr>
            <p:blipFill>
              <a:blip r:embed="rId2"/>
              <a:stretch/>
            </p:blipFill>
            <p:spPr>
              <a:xfrm>
                <a:off x="0" y="6476760"/>
                <a:ext cx="546120" cy="30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Line 11"/>
              <p:cNvSpPr/>
              <p:nvPr/>
            </p:nvSpPr>
            <p:spPr>
              <a:xfrm>
                <a:off x="591840" y="6527520"/>
                <a:ext cx="0" cy="21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15"/>
            <p:cNvSpPr/>
            <p:nvPr/>
          </p:nvSpPr>
          <p:spPr>
            <a:xfrm>
              <a:off x="4419720" y="6527520"/>
              <a:ext cx="895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76324FF-1735-4449-9AC7-662A6C8F2292}" type="slidenum"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5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bruary 15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2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S NPRR Update to W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mailto:pwattles@erco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33520" y="2495520"/>
            <a:ext cx="60199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raft NPRR Discuss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ergency Response Service (ERS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Date Placeholder 3"/>
          <p:cNvSpPr/>
          <p:nvPr/>
        </p:nvSpPr>
        <p:spPr>
          <a:xfrm>
            <a:off x="2333520" y="4876920"/>
            <a:ext cx="61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ul Watt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bruary 16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333520" y="4191120"/>
            <a:ext cx="28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to 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3788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 Project 39948 to amend Subst. Rule §25.507 is 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 sets of comments received by Jan. 30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hearing held at PUC on Jan.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C Staff is hoping to have proposal for adoption ready for action at March 23 PUC Ope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mpanying NPRR schedul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S, WMS and ROS review this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d with number by end of Febru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 March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and Board in Apr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e 1 effectiv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esentation provides an overview of operational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tailed slide deck is posted to WMS meeting page for Feb. 15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cure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capacity offer set at 100 k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ous floor of 1 MW eliminated from Rule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onsistent with Ancillary Services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 MW ceiling elimin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may establish an upper limit on MW to be procured for a Time Period/Contrac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fini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S Resourc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an ERS Load or an ERS Generator that is contracted to provide 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S Loa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RS Resource that is a Load or Aggregation of L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S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RS Resource that is a generator that is not a Generation Resource and is not a source of intermittent renewable generation, or an aggregation of such genera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s will include affi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a generator will not register as Generation Resource while committed in 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QSE and ERS Generator are aware of and in compliance with EPA and TCEQ environmental reg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EA Steps (Nodal Protocols 6.5.9.4.2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quence in EEA Level 2 remains unchang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 may deploy Load Resources or ERS in either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s will consider remaining ERS obligation and other factors in making that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er current protocols, ERS fleet will be divided into 2 groups if ERCOT procures 500 MW or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current PUC Rule requires all EILS to be deployed in a single VD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rocedures require operator to instruct QSEs to deploy Group 2 at specified time in the future during the single V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ed Rule allows more flexi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PRR proposes to align ERS deployments with Load Resource deployments:  if Group 1 deployment is all that’s needed, operator will have discretion not to deploy Group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dditional no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messaging component of EILS/ERS dispatch is currently being developed by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as part of NPRR 379 in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ers to go with the VDI belt, similar to Load Resource dis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is to have XML messaging ready for ERS by Summer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S NPRR includes provisions for automatic renewal of ERS obligations if depleted due to 8+ hours of cumulative deployment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S Resource would opt-in to the automatic renewal at time of offer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discretion on whether to initiate rene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WMS slides for additional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3"/>
          <p:cNvGrpSpPr/>
          <p:nvPr/>
        </p:nvGrpSpPr>
        <p:grpSpPr>
          <a:xfrm>
            <a:off x="3733920" y="2119320"/>
            <a:ext cx="1447560" cy="2452680"/>
            <a:chOff x="3733920" y="2119320"/>
            <a:chExt cx="1447560" cy="2452680"/>
          </a:xfrm>
        </p:grpSpPr>
        <p:pic>
          <p:nvPicPr>
            <p:cNvPr id="200" name="Picture 4" descr="MCj03403080000[1]"/>
            <p:cNvPicPr/>
            <p:nvPr/>
          </p:nvPicPr>
          <p:blipFill>
            <a:blip r:embed="rId1"/>
            <a:stretch/>
          </p:blipFill>
          <p:spPr>
            <a:xfrm>
              <a:off x="3733920" y="2119320"/>
              <a:ext cx="1447560" cy="24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5"/>
            <p:cNvSpPr/>
            <p:nvPr/>
          </p:nvSpPr>
          <p:spPr>
            <a:xfrm>
              <a:off x="4273560" y="2462760"/>
              <a:ext cx="588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6"/>
            <p:cNvSpPr/>
            <p:nvPr/>
          </p:nvSpPr>
          <p:spPr>
            <a:xfrm>
              <a:off x="4273560" y="3837240"/>
              <a:ext cx="5886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itannic Bold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609480" y="5526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wattles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/248-65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>Updated:8/29/2011</dc:description>
  <dc:language>en-US</dc:language>
  <cp:lastModifiedBy>ERCOT_rev</cp:lastModifiedBy>
  <dcterms:modified xsi:type="dcterms:W3CDTF">2012-02-16T14:40:09Z</dcterms:modified>
  <cp:revision>632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d">
    <vt:filetime>2011-06-14T05:00:00Z</vt:filetime>
  </property>
</Properties>
</file>