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A78-7155-47A1-BFD9-F4F3AD6D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93E-D800-46D4-BC63-E1D45E0E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B41-5134-438D-ABAA-3217D3DE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281-F2FE-4EDC-BF2E-1631161E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89F-309D-4439-A865-73E50187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9FC-8D7F-4373-B663-3103D89F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E9C-A5F4-440F-9615-9C42305E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96E-C905-421C-A45C-CABBF756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3F4-1ECD-4351-A204-CBF2A6B2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26C-BE84-4AB6-8ED3-6F04E410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0C7B-C9EE-4FA9-B824-AD4DDC2D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510-3D4C-47F8-B227-BA998392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CDF7-9A0B-4AA5-BFCF-87EA8504B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983F-7923-47A3-9A6C-D47B1B97D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9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1F77-2D5A-4DB1-9B2B-F857E7D08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684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0547-9A94-4803-A979-9EECC4D50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7960" y="311040"/>
            <a:ext cx="86680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A5A4-ECE3-423A-B843-2DB3EF583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E7EF-0FE2-41E7-A7D6-7F9B3916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A940-7881-4106-B3B7-5ACF282C7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A244-D274-43F2-9227-A3595BF47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Meeting Feb 1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 member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GREDP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Jan 21, 2012 13:34 frequency e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onnection Primary Frequency Response was -394 MW/0.1 Hz below the protocol minimum of -420 MW/0.1 Hz from gen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ng ca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 Combined Cycle facilities providing RRS had low PFR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n 21, 2012 Event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ng causes continu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ventional steam units providing RRS had low PFR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Guide 2.3.1.2 (9) (c) allows Hydro Units providing RRS to be deployed ma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 Combined Cycle facilities not providing RRS had low PFR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imple cycle combustion turbines not providing RRS had low PFR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al fired steam units were off-line.  Historically these units are good providers of PF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8240" y="200160"/>
            <a:ext cx="8867520" cy="6457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41148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 21, 2012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1D15-8221-4E1F-A8A9-C584F9754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DCWG Issues with Evaluating Combined Cycle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ning Res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provided by duct burner operation is not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ultiple CT configurations, the available spinning reserve on each CT is not known.  This makes calculating expected performance less accu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of HSL due to changing weather conditions throughout the day impacts expec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ning Reserve telemetry on each CT would solve most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6AAB-6E2B-4D3D-B6D2-6233D8E5D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Next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 28th Met Center 9:00 am to 5:0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11EF-CA47-4BAB-A1E6-E842CF47F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Frequency Control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30E8-9424-4FD1-9497-E119BEF95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446E-E18A-455B-BE0F-50E67FD8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320" y="304920"/>
            <a:ext cx="9067680" cy="59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4693-6167-440C-BDE0-9A075F88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172200" y="228600"/>
            <a:ext cx="182880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nth Rolling Average CPS1 = 149.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7848720" y="1066680"/>
            <a:ext cx="7617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02EE-C300-4236-9359-85C2F6892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61920" y="158760"/>
            <a:ext cx="926784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95F5-07AD-40E7-8809-E0755A48B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742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3A38-6BD7-4F5B-B8BF-27B8DDF92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2457-3B70-44FF-967C-F35C3AB64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06:35Z</dcterms:created>
  <dc:creator>NRG ENERGY</dc:creator>
  <dc:description/>
  <dc:language>en-US</dc:language>
  <cp:lastModifiedBy>PDCWG</cp:lastModifiedBy>
  <dcterms:modified xsi:type="dcterms:W3CDTF">2012-02-03T22:28:49Z</dcterms:modified>
  <cp:revision>38</cp:revision>
  <dc:subject/>
  <dc:title>Slide 1</dc:title>
</cp:coreProperties>
</file>