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F869-C70D-429B-836D-C8050F76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4281-4423-44BE-AE0C-BED300D7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114A-AF2D-4F32-AF91-7BB49ED7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B4F0-6B84-4793-B6A9-C8D4495B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34B1-CF58-4B2C-BBCC-B8D2B0CF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2149-8E51-4BCD-B1D1-B6B2F1C7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4444-957E-4D60-918C-8B4020D1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C32F-1554-486C-BF98-561041C3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6672-CB76-43C5-BDD9-36B19AF1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9887-0D60-40CE-B55F-9F9C3E0E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EDFF-01CF-45A5-9D0E-F173B0C0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AADE-B2AD-44E2-AAEC-1E5F68EE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0223-81EA-48FB-947B-22A418050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8515-772F-4925-A811-C3BD66F49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Market Guide &amp; COPS Handbook – Upcoming Chang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B147-CDDC-45BD-A7DC-4A5677F608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3520" y="1295280"/>
          <a:ext cx="8153280" cy="5029200"/>
        </p:xfrm>
        <a:graphic>
          <a:graphicData uri="http://schemas.openxmlformats.org/drawingml/2006/table">
            <a:tbl>
              <a:tblPr/>
              <a:tblGrid>
                <a:gridCol w="744480"/>
                <a:gridCol w="3238560"/>
                <a:gridCol w="187200"/>
                <a:gridCol w="743040"/>
                <a:gridCol w="3240000"/>
              </a:tblGrid>
              <a:tr h="193680"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S Market Gu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Operations Hand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 &amp; Disclaimer Stat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224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for Commercial Operations Market Guide Revi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for Commercial Operations Market Guide Revision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Notice Communication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Communication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System Model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System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to Settlement Process and Data Aggregation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Invoice and Settlement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Invoice and Settlement Proces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to Settlement Algorithms (SEWG owns – ETA Q2 20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regation (Overview 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reg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224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cts and Re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cts and Repor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utes and Data Extract Variance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utes and Data Extract Varia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ewable Energy Credi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ewable Energy 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55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 (CR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 Pay and Market Participant Default Process (Overview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 Pay and Market Participant Default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 A (do not need in Handbook – remov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CWG</cp:lastModifiedBy>
  <dcterms:modified xsi:type="dcterms:W3CDTF">2011-10-27T16:40:01Z</dcterms:modified>
  <cp:revision>159</cp:revision>
  <dc:subject/>
  <dc:title>Instructions</dc:title>
</cp:coreProperties>
</file>