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6D96-9FB6-419B-8023-C3A11C643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LMP = System lambda &amp; BP&gt; LSL =&gt; Resource is moved up for capacity since there is no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LMP &gt; System lambda &amp; BP&gt; LSL =&gt; Resource can contribute to reducigng congestion and hence could be moved up for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B79D-1621-41AB-8AB6-16FDB0FAA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loor could increase the system lambda for all intervals with Capacity Headroom &l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8EDC-2CB3-48F4-9746-B94571096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57B86E1-5AF2-486B-B975-D7432DAFE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A90FCC-6B73-4860-AC24-F490B746A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44EBE6-9CCC-411C-AF9D-EF26B05833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A3087BC-5C2A-45B0-92CF-B87B790660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AE593F-22FE-4D15-852C-2895CB6E0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B3B977B-0711-4EF4-8BC4-356B21F65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89530B-4811-4E5E-BEAB-E19FE9D66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1048E9-C939-4836-92B8-21F6002D3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C924BE-9F23-4A75-87BA-DAB606606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7F9125-9D2A-4CB0-AA85-221BB3613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981F73-74AD-42E6-9E2B-5E15CA7AD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862CF4-B8D2-41D8-ABB1-FF5B11F7FC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A620-A5A5-48AD-BBE2-4FD56E059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30A4-7497-48C0-9D7F-CA2CA4A84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20, 2011</a:t>
            </a:r>
            <a:endParaRPr b="0" lang="en-US" sz="1800" spc="-1" strike="noStrike">
              <a:solidFill>
                <a:srgbClr val="000000"/>
              </a:solidFill>
              <a:latin typeface="Arial"/>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066680"/>
            <a:ext cx="8229600" cy="472464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Deployment Task Force (RDTF Meeting) </a:t>
            </a:r>
            <a:endParaRPr b="1"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20</a:t>
            </a:r>
            <a:r>
              <a:rPr b="1" lang="en-US" sz="3200" spc="-1" strike="noStrike" baseline="30000">
                <a:solidFill>
                  <a:srgbClr val="000000"/>
                </a:solidFill>
                <a:latin typeface="Arial"/>
              </a:rPr>
              <a:t>th</a:t>
            </a:r>
            <a:r>
              <a:rPr b="1" lang="en-US" sz="3200" spc="-1" strike="noStrike">
                <a:solidFill>
                  <a:srgbClr val="000000"/>
                </a:solidFill>
                <a:latin typeface="Arial"/>
              </a:rPr>
              <a:t> 2011</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3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33" name="Picture 7" descr=""/>
          <p:cNvPicPr/>
          <p:nvPr/>
        </p:nvPicPr>
        <p:blipFill>
          <a:blip r:embed="rId1"/>
          <a:stretch/>
        </p:blipFill>
        <p:spPr>
          <a:xfrm>
            <a:off x="228600" y="838080"/>
            <a:ext cx="853452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3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37" name="Picture 6" descr=""/>
          <p:cNvPicPr/>
          <p:nvPr/>
        </p:nvPicPr>
        <p:blipFill>
          <a:blip r:embed="rId1"/>
          <a:stretch/>
        </p:blipFill>
        <p:spPr>
          <a:xfrm>
            <a:off x="533520" y="762120"/>
            <a:ext cx="739116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a:t>
            </a:r>
            <a:endParaRPr b="0" lang="en-US" sz="2000" spc="-1" strike="noStrike">
              <a:solidFill>
                <a:srgbClr val="000000"/>
              </a:solidFill>
              <a:latin typeface="Arial Black"/>
            </a:endParaRPr>
          </a:p>
        </p:txBody>
      </p:sp>
      <p:sp>
        <p:nvSpPr>
          <p:cNvPr id="13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41" name="Picture 2" descr=""/>
          <p:cNvPicPr/>
          <p:nvPr/>
        </p:nvPicPr>
        <p:blipFill>
          <a:blip r:embed="rId1"/>
          <a:stretch/>
        </p:blipFill>
        <p:spPr>
          <a:xfrm>
            <a:off x="595440" y="1143000"/>
            <a:ext cx="801504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a:t>
            </a:r>
            <a:endParaRPr b="0" lang="en-US" sz="2000" spc="-1" strike="noStrike">
              <a:solidFill>
                <a:srgbClr val="000000"/>
              </a:solidFill>
              <a:latin typeface="Arial Black"/>
            </a:endParaRPr>
          </a:p>
        </p:txBody>
      </p:sp>
      <p:sp>
        <p:nvSpPr>
          <p:cNvPr id="99" name=""/>
          <p:cNvSpPr txBox="1"/>
          <p:nvPr/>
        </p:nvSpPr>
        <p:spPr>
          <a:xfrm>
            <a:off x="456840" y="762120"/>
            <a:ext cx="8458200" cy="533376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4.3.1</a:t>
            </a:r>
            <a:r>
              <a:rPr b="0" lang="en-US" sz="1800" spc="-1" strike="noStrike">
                <a:solidFill>
                  <a:srgbClr val="000000"/>
                </a:solidFill>
                <a:latin typeface="Arial"/>
              </a:rPr>
              <a:t>	</a:t>
            </a:r>
            <a:r>
              <a:rPr b="0" lang="en-US" sz="1800" spc="-1" strike="noStrike">
                <a:solidFill>
                  <a:srgbClr val="000000"/>
                </a:solidFill>
                <a:latin typeface="Arial"/>
              </a:rPr>
              <a:t>Energy Offer Curve for RUC-Committed Resources</a:t>
            </a:r>
            <a:endParaRPr b="1"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Prior to the end of the Adjustment Period for an Operating Hour during which a Generation Resource has been committed by ERCOT as part of a Reliability Unit Commitment (RUC) process, the QSE shall ensure that an Energy Offer Curve that prices all energy from LSL to HSL at or above $XXX/MWh for the Operating Hours in the RUC commitment period, has been submitted and accepted by ERCOT.</a:t>
            </a:r>
            <a:endParaRPr b="1" lang="en-US" sz="1800" spc="-1" strike="noStrike">
              <a:solidFill>
                <a:srgbClr val="000000"/>
              </a:solidFill>
              <a:latin typeface="Arial"/>
            </a:endParaRPr>
          </a:p>
          <a:p>
            <a:pPr marL="329040" indent="-329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If the QSE receives a RUC Dispatch Instruction from ERCOT for its Generation Resource during the Operating Period that includes a RUC-Committed Hour, then the QSE shall be exempt from the submission timeline requirement specified in paragraph (1) above and shall instead submit the required Energy Offer Curve as soon as reasonably practicable after receipt of the RUC Dispatch Instruction.</a:t>
            </a: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The requirement in paragraph (1) above is not applicable for Weekly Reliability Unit Commitment (WRUC)-instructed hours during which the Resource was Day-Ahead Market (DAM)-committed or QSE self-committed.</a:t>
            </a:r>
            <a:endParaRPr b="1"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Dispatched for Capacity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03" name=""/>
          <p:cNvSpPr txBox="1"/>
          <p:nvPr/>
        </p:nvSpPr>
        <p:spPr>
          <a:xfrm>
            <a:off x="228600" y="914040"/>
            <a:ext cx="8686800" cy="533412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640</a:t>
            </a:r>
            <a:r>
              <a:rPr b="0" lang="en-US" sz="2400" spc="-1" strike="noStrike">
                <a:solidFill>
                  <a:srgbClr val="000000"/>
                </a:solidFill>
                <a:latin typeface="Arial"/>
              </a:rPr>
              <a:t> Effective RUC Unit Hours</a:t>
            </a:r>
            <a:endParaRPr b="0" lang="en-US" sz="24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87</a:t>
            </a:r>
            <a:r>
              <a:rPr b="0" lang="en-US" sz="2400" spc="-1" strike="noStrike">
                <a:solidFill>
                  <a:srgbClr val="000000"/>
                </a:solidFill>
                <a:latin typeface="Arial"/>
              </a:rPr>
              <a:t> hrs (20.7%) were dispatched above LSL </a:t>
            </a:r>
            <a:r>
              <a:rPr b="1" lang="en-US" sz="2400" spc="-1" strike="noStrike">
                <a:solidFill>
                  <a:srgbClr val="000000"/>
                </a:solidFill>
                <a:latin typeface="Arial"/>
              </a:rPr>
              <a:t>for capacity  </a:t>
            </a:r>
            <a:r>
              <a:rPr b="0" lang="en-US" sz="1600" spc="-1" strike="noStrike">
                <a:solidFill>
                  <a:srgbClr val="000000"/>
                </a:solidFill>
                <a:latin typeface="Arial"/>
              </a:rPr>
              <a:t>(LMP&lt;=System Lambda and BP&gt;=LSL+2) </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0 hrs(18.1%) with prices below $1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 hrs(0.8%) with prices between $100 and $2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hrs(0.38%) with prices between $200 and $3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hrs(0.19%) with prices between $300 and $4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rs  (0.09%) with prices between $400 and $5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hrs (0.4%) with prices between $500 and $30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hrs (0.7%) with prices greater than or equal to $30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Effective RUC Unit Hours’ considers multiple units committed for the same hour as different unit hours while ‘Effective RUC hours’ considers it as single hour.</a:t>
            </a:r>
            <a:endParaRPr b="1" lang="en-US" sz="1000" spc="-1" strike="noStrike">
              <a:solidFill>
                <a:srgbClr val="000000"/>
              </a:solidFill>
              <a:latin typeface="Arial"/>
            </a:endParaRPr>
          </a:p>
        </p:txBody>
      </p:sp>
      <p:sp>
        <p:nvSpPr>
          <p:cNvPr id="104"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Dispatched for Capacity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07" name=""/>
          <p:cNvSpPr txBox="1"/>
          <p:nvPr/>
        </p:nvSpPr>
        <p:spPr>
          <a:xfrm>
            <a:off x="457200" y="1066320"/>
            <a:ext cx="8305920" cy="48006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640</a:t>
            </a:r>
            <a:r>
              <a:rPr b="0" lang="en-US" sz="2400" spc="-1" strike="noStrike">
                <a:solidFill>
                  <a:srgbClr val="000000"/>
                </a:solidFill>
                <a:latin typeface="Arial"/>
              </a:rPr>
              <a:t> Effective RUC Unit Hours</a:t>
            </a:r>
            <a:endParaRPr b="0" lang="en-US" sz="24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MP&lt;=System Lambda+2 </a:t>
            </a:r>
            <a:r>
              <a:rPr b="0" lang="en-US" sz="2000" spc="-1" strike="noStrike">
                <a:solidFill>
                  <a:srgbClr val="000000"/>
                </a:solidFill>
                <a:latin typeface="Arial"/>
              </a:rPr>
              <a:t>and BP&gt;=LSL+2 to determine dispatch for capac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07</a:t>
            </a:r>
            <a:r>
              <a:rPr b="0" lang="en-US" sz="2000" spc="-1" strike="noStrike">
                <a:solidFill>
                  <a:srgbClr val="000000"/>
                </a:solidFill>
                <a:latin typeface="Arial"/>
              </a:rPr>
              <a:t> hrs (24.4%) were dispatched above LSL </a:t>
            </a:r>
            <a:r>
              <a:rPr b="1" lang="en-US" sz="2000" spc="-1" strike="noStrike">
                <a:solidFill>
                  <a:srgbClr val="000000"/>
                </a:solidFill>
                <a:latin typeface="Arial"/>
              </a:rPr>
              <a:t>for capacity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hrs (23.2%) with prices below $5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hrs (0.4%) with prices between $500 and $30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  hrs (0.7%) with prices greater than or equal to $3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1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13" name="Picture 6" descr=""/>
          <p:cNvPicPr/>
          <p:nvPr/>
        </p:nvPicPr>
        <p:blipFill>
          <a:blip r:embed="rId1"/>
          <a:stretch/>
        </p:blipFill>
        <p:spPr>
          <a:xfrm>
            <a:off x="762120" y="762120"/>
            <a:ext cx="7315200" cy="53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1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17" name="Picture 6" descr=""/>
          <p:cNvPicPr/>
          <p:nvPr/>
        </p:nvPicPr>
        <p:blipFill>
          <a:blip r:embed="rId1"/>
          <a:stretch/>
        </p:blipFill>
        <p:spPr>
          <a:xfrm>
            <a:off x="609480" y="762120"/>
            <a:ext cx="754380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0 to LSL Energy from ONRUC</a:t>
            </a:r>
            <a:endParaRPr b="0" lang="en-US" sz="2000" spc="-1" strike="noStrike">
              <a:solidFill>
                <a:srgbClr val="000000"/>
              </a:solidFill>
              <a:latin typeface="Arial Black"/>
            </a:endParaRPr>
          </a:p>
        </p:txBody>
      </p:sp>
      <p:sp>
        <p:nvSpPr>
          <p:cNvPr id="119" name=""/>
          <p:cNvSpPr txBox="1"/>
          <p:nvPr/>
        </p:nvSpPr>
        <p:spPr>
          <a:xfrm>
            <a:off x="228600" y="837720"/>
            <a:ext cx="8686800" cy="525780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640</a:t>
            </a:r>
            <a:r>
              <a:rPr b="0" lang="en-US" sz="2200" spc="-1" strike="noStrike">
                <a:solidFill>
                  <a:srgbClr val="000000"/>
                </a:solidFill>
                <a:latin typeface="Arial"/>
              </a:rPr>
              <a:t> Effective RUC Unit Hours</a:t>
            </a:r>
            <a:endParaRPr b="1" lang="en-US" sz="22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NRUC LSL is 82 MW , BP is  99.6 MW, HSL is 207 MW</a:t>
            </a:r>
            <a:endParaRPr b="0" lang="en-US" sz="1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41 hrs </a:t>
            </a:r>
            <a:r>
              <a:rPr b="1" lang="en-US" sz="2000" spc="-1" strike="noStrike">
                <a:solidFill>
                  <a:srgbClr val="000000"/>
                </a:solidFill>
                <a:latin typeface="Arial"/>
              </a:rPr>
              <a:t>(66.4%) are at or below LSL </a:t>
            </a:r>
            <a:r>
              <a:rPr b="0" lang="en-US" sz="2000" spc="-1" strike="noStrike">
                <a:solidFill>
                  <a:srgbClr val="000000"/>
                </a:solidFill>
                <a:latin typeface="Arial"/>
              </a:rPr>
              <a:t>(BP-LSL&lt;2MW)</a:t>
            </a:r>
            <a:endParaRPr b="0" lang="en-US" sz="20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NRUC LSL is 85MW</a:t>
            </a:r>
            <a:endParaRPr b="0" lang="en-US" sz="1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99 intervals </a:t>
            </a:r>
            <a:r>
              <a:rPr b="1" lang="en-US" sz="2000" spc="-1" strike="noStrike">
                <a:solidFill>
                  <a:srgbClr val="000000"/>
                </a:solidFill>
                <a:latin typeface="Arial"/>
              </a:rPr>
              <a:t>(33.6%) are above LSL </a:t>
            </a:r>
            <a:r>
              <a:rPr b="0" lang="en-US" sz="2000" spc="-1" strike="noStrike">
                <a:solidFill>
                  <a:srgbClr val="000000"/>
                </a:solidFill>
                <a:latin typeface="Arial"/>
              </a:rPr>
              <a:t>for transmission or capacity</a:t>
            </a:r>
            <a:endParaRPr b="0" lang="en-US" sz="20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NRUC LSL is 75.5MW</a:t>
            </a:r>
            <a:endParaRPr b="0" lang="en-US" sz="16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71 </a:t>
            </a:r>
            <a:r>
              <a:rPr b="0" lang="en-US" sz="2200" spc="-1" strike="noStrike">
                <a:solidFill>
                  <a:srgbClr val="000000"/>
                </a:solidFill>
                <a:latin typeface="Arial"/>
              </a:rPr>
              <a:t>Effective Hours with at least one resource on ONRUC status</a:t>
            </a:r>
            <a:endParaRPr b="1" lang="en-US" sz="22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system total ONRUC capacity</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L is 230.5 MW; </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L is 581.8MW; </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P is 279.9MW</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ffective RUC Unit Hours’ is SCED duration, summed up to hour level,  for each RUC committed resource when it was online. ‘Effective RUC Unit Hours’ considers multiple units committed for the same hour as different unit hours while ‘Effective RUC hours’ considers it as single hour.</a:t>
            </a:r>
            <a:endParaRPr b="1" lang="en-US" sz="11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2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25" name="Picture 6" descr=""/>
          <p:cNvPicPr/>
          <p:nvPr/>
        </p:nvPicPr>
        <p:blipFill>
          <a:blip r:embed="rId1"/>
          <a:stretch/>
        </p:blipFill>
        <p:spPr>
          <a:xfrm>
            <a:off x="457200" y="762120"/>
            <a:ext cx="807732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UC Committed Resources </a:t>
            </a:r>
            <a:br>
              <a:rPr sz="2000"/>
            </a:br>
            <a:r>
              <a:rPr b="0" lang="en-US" sz="1200" spc="-1" strike="noStrike">
                <a:solidFill>
                  <a:srgbClr val="000000"/>
                </a:solidFill>
                <a:latin typeface="Arial Black"/>
              </a:rPr>
              <a:t>(12/01/2010 to 10/31/2011)</a:t>
            </a:r>
            <a:endParaRPr b="0" lang="en-US" sz="1200" spc="-1" strike="noStrike">
              <a:solidFill>
                <a:srgbClr val="000000"/>
              </a:solidFill>
              <a:latin typeface="Arial Black"/>
            </a:endParaRPr>
          </a:p>
        </p:txBody>
      </p:sp>
      <p:sp>
        <p:nvSpPr>
          <p:cNvPr id="12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pic>
        <p:nvPicPr>
          <p:cNvPr id="129" name="Picture 6" descr=""/>
          <p:cNvPicPr/>
          <p:nvPr/>
        </p:nvPicPr>
        <p:blipFill>
          <a:blip r:embed="rId1"/>
          <a:stretch/>
        </p:blipFill>
        <p:spPr>
          <a:xfrm>
            <a:off x="457200" y="738360"/>
            <a:ext cx="7543800" cy="528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Lao Shu</dc:creator>
  <dc:description/>
  <dc:language>en-US</dc:language>
  <cp:lastModifiedBy>ERCOT Market Rules</cp:lastModifiedBy>
  <dcterms:modified xsi:type="dcterms:W3CDTF">2012-01-11T22:21:47Z</dcterms:modified>
  <cp:revision>617</cp:revision>
  <dc:subject/>
  <dc:title>Instructions</dc:title>
</cp:coreProperties>
</file>