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AC49D82-D18A-4FC2-A14E-14D34C6EE7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CA7EBE2-C454-4DA7-8F97-68C37B6D4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A8D0B19-33FE-427A-921C-30BF0201E4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EAEAFE3-31EB-4CC8-82FA-3D0C74E272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EEC0971-D781-4E6C-B8DD-B30073DA48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72E2A74-F277-4A2A-991D-719525FF7F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3AF2676-A2D3-4463-B360-26AB92EFE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224D7CF-8DED-41B0-AF90-5408EE2E6D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D077E2D-BD3E-4878-AE15-F750048756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6E07C1F-43F8-4E9D-A6BE-F49D18202E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B2FD014-7F12-492C-B52F-E64179C67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D6FDD2E-B1F0-4183-9E1E-DF22ECBB2D2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9C3DD-CE6D-439A-8863-CB0A259F1D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sp>
        <p:nvSpPr>
          <p:cNvPr id="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FAF9-3209-4720-991F-D47D9DDAB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logo"/>
          <p:cNvPicPr/>
          <p:nvPr/>
        </p:nvPicPr>
        <p:blipFill>
          <a:blip r:embed="rId2"/>
          <a:stretch/>
        </p:blipFill>
        <p:spPr>
          <a:xfrm>
            <a:off x="228600" y="304920"/>
            <a:ext cx="1295280" cy="519120"/>
          </a:xfrm>
          <a:prstGeom prst="rect">
            <a:avLst/>
          </a:prstGeom>
          <a:ln w="0">
            <a:noFill/>
          </a:ln>
        </p:spPr>
      </p:pic>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20, 2011</a:t>
            </a:r>
            <a:endParaRPr b="0" lang="en-US" sz="1800" spc="-1" strike="noStrike">
              <a:solidFill>
                <a:srgbClr val="000000"/>
              </a:solidFill>
              <a:latin typeface="Arial"/>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066680"/>
            <a:ext cx="8229600" cy="472464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iability Deployment Task Force (RDTF Meeting) </a:t>
            </a:r>
            <a:endParaRPr b="1"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ember 20</a:t>
            </a:r>
            <a:r>
              <a:rPr b="1" lang="en-US" sz="3200" spc="-1" strike="noStrike" baseline="30000">
                <a:solidFill>
                  <a:srgbClr val="000000"/>
                </a:solidFill>
                <a:latin typeface="Arial"/>
              </a:rPr>
              <a:t>th</a:t>
            </a:r>
            <a:r>
              <a:rPr b="1" lang="en-US" sz="3200" spc="-1" strike="noStrike">
                <a:solidFill>
                  <a:srgbClr val="000000"/>
                </a:solidFill>
                <a:latin typeface="Arial"/>
              </a:rPr>
              <a:t> 2011</a:t>
            </a: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0"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75960"/>
            <a:ext cx="86868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mpact of New Power Balance Penalty Curve on PNM</a:t>
            </a:r>
            <a:endParaRPr b="0" lang="en-US" sz="2000" spc="-1" strike="noStrike">
              <a:solidFill>
                <a:srgbClr val="000000"/>
              </a:solidFill>
              <a:latin typeface="Arial Black"/>
            </a:endParaRPr>
          </a:p>
        </p:txBody>
      </p:sp>
      <p:sp>
        <p:nvSpPr>
          <p:cNvPr id="92"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sp>
        <p:nvSpPr>
          <p:cNvPr id="93" name="Footer Placeholder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94" name=""/>
          <p:cNvGraphicFramePr/>
          <p:nvPr/>
        </p:nvGraphicFramePr>
        <p:xfrm>
          <a:off x="1066680" y="826920"/>
          <a:ext cx="6858000" cy="5411880"/>
        </p:xfrm>
        <a:graphic>
          <a:graphicData uri="http://schemas.openxmlformats.org/drawingml/2006/table">
            <a:tbl>
              <a:tblPr/>
              <a:tblGrid>
                <a:gridCol w="1482840"/>
                <a:gridCol w="879480"/>
                <a:gridCol w="1698480"/>
                <a:gridCol w="1559160"/>
                <a:gridCol w="1238040"/>
              </a:tblGrid>
              <a:tr h="20808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B Violation MW</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beef3"/>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rrent</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beef3"/>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riginal CPS Proposal</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beef3"/>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w CPS Proposal</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beef3"/>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M Proposal</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beef3"/>
                    </a:solidFill>
                  </a:tcPr>
                </a:tc>
              </a:tr>
              <a:tr h="20808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r>
              <a:tr h="20772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r>
              <a:tr h="20808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r>
              <a:tr h="20808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r>
              <a:tr h="20808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r>
              <a:tr h="20772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r>
              <a:tr h="20808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r>
              <a:tr h="20808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r>
              <a:tr h="20772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r>
              <a:tr h="20808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r>
              <a:tr h="20808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r>
              <a:tr h="20772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r>
              <a:tr h="20808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1</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1</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r>
              <a:tr h="20808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5</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1</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1</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r>
              <a:tr h="20772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5</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1</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4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4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r>
              <a:tr h="20808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1</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4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4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r>
              <a:tr h="20808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1</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6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6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r>
              <a:tr h="20772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1</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6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6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r>
              <a:tr h="20808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1</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8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8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r>
              <a:tr h="20808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1</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8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8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r>
              <a:tr h="20772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1</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r>
              <a:tr h="20808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1</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r>
              <a:tr h="209520">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no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1</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fde9d9"/>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10440" rIns="10440" tIns="104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00</a:t>
                      </a:r>
                      <a:endParaRPr b="0" lang="en-US" sz="1200" spc="-1" strike="noStrike">
                        <a:solidFill>
                          <a:srgbClr val="000000"/>
                        </a:solidFill>
                        <a:latin typeface="Arial"/>
                      </a:endParaRPr>
                    </a:p>
                  </a:txBody>
                  <a:tcPr anchor="b" marL="10440" marR="1044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75960"/>
            <a:ext cx="86868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mpact of New Power Balance Penalty Curve on PNM</a:t>
            </a:r>
            <a:endParaRPr b="0" lang="en-US" sz="2000" spc="-1" strike="noStrike">
              <a:solidFill>
                <a:srgbClr val="000000"/>
              </a:solidFill>
              <a:latin typeface="Arial Black"/>
            </a:endParaRPr>
          </a:p>
        </p:txBody>
      </p:sp>
      <p:sp>
        <p:nvSpPr>
          <p:cNvPr id="96"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20, 2011</a:t>
            </a:r>
            <a:endParaRPr b="0" lang="en-US" sz="1200" spc="-1" strike="noStrike">
              <a:solidFill>
                <a:srgbClr val="000000"/>
              </a:solidFill>
              <a:latin typeface="Arial"/>
            </a:endParaRPr>
          </a:p>
        </p:txBody>
      </p:sp>
      <p:sp>
        <p:nvSpPr>
          <p:cNvPr id="97" name="Footer Placeholder 5"/>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8" name="TextBox 7"/>
          <p:cNvSpPr/>
          <p:nvPr/>
        </p:nvSpPr>
        <p:spPr>
          <a:xfrm>
            <a:off x="685800" y="990720"/>
            <a:ext cx="7543800" cy="371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CPS Proposal (Submitted to RTDF) : Same as existing curve between 1-10 MW and 30-75. Penalty cost  higher between 10-30 and above 75 MW under-generation.</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CPS Proposal (Submitted to PUCT) : Same as existing curve between 1-10 MW. Lower penalty between 10-75 MW, while finishing higher for 75 MW and up.</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 Proposal : Same as existing curve except for after 50 MW under-generation, the penalty increase from existing $3001/MWh to $4000/MWh</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t $3001</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NM addition is calculated as the sum of time weighted difference between new penalty and old penalty for each level of  Power Balance violation. For the first 3 cases, the assumption is that Power Balance Violation amount is not changing when the curve changed. For the last one since the new penalty is above SWCAP, all offers will be used before violating Power Balance and hence only intervals were the  rampable room in SCED offered below SWCAP is less than Power Balance violation were considered. i.e. the effect of increase in prices when the rampable room in SCED offered below SWCAP is greater than Power Balance violation due to clearing more from the offer stack was not considered.</a:t>
            </a:r>
            <a:endParaRPr b="0" lang="en-US" sz="1400" spc="-1" strike="noStrike">
              <a:solidFill>
                <a:srgbClr val="000000"/>
              </a:solidFill>
              <a:latin typeface="Arial"/>
            </a:endParaRPr>
          </a:p>
        </p:txBody>
      </p:sp>
      <p:graphicFrame>
        <p:nvGraphicFramePr>
          <p:cNvPr id="99" name=""/>
          <p:cNvGraphicFramePr/>
          <p:nvPr/>
        </p:nvGraphicFramePr>
        <p:xfrm>
          <a:off x="1066680" y="4648320"/>
          <a:ext cx="7086600" cy="1646280"/>
        </p:xfrm>
        <a:graphic>
          <a:graphicData uri="http://schemas.openxmlformats.org/drawingml/2006/table">
            <a:tbl>
              <a:tblPr/>
              <a:tblGrid>
                <a:gridCol w="2328840"/>
                <a:gridCol w="2378160"/>
                <a:gridCol w="2379600"/>
              </a:tblGrid>
              <a:tr h="549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posed Curve</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NM change</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cluding intervals GTBD &gt;66,195 MW</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b6dde8"/>
                    </a:solidFill>
                  </a:tcPr>
                </a:tc>
              </a:tr>
              <a:tr h="2746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iginal CPS</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427</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339</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746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w CPS </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8,082</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32</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746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M</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474</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740</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746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at 3001</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700</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830</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Lao Shu</dc:creator>
  <dc:description/>
  <dc:language>en-US</dc:language>
  <cp:lastModifiedBy>ERCOT Market Rules</cp:lastModifiedBy>
  <dcterms:modified xsi:type="dcterms:W3CDTF">2012-01-11T22:21:14Z</dcterms:modified>
  <cp:revision>617</cp:revision>
  <dc:subject/>
  <dc:title>Instructions</dc:title>
</cp:coreProperties>
</file>