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B6B-06CF-4605-A7C1-FE14D47F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65C-B8FD-4C75-9E82-31F4FCDA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6FF-CDEF-42E9-AF61-732E2690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EB0-C708-4A20-BD5D-79F6DE35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571-B37B-49FA-9EA5-B0C305B0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F69-74F7-4457-8B05-594C0BA0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395-395F-4BB7-AF2B-643CDE15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A1D-DF1A-48DE-8969-85AC6209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27A-92E9-4A26-9C65-31A370F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2F2-14B7-427B-9953-65EAE96A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D14-7DDF-4489-8D5B-D3230C4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848-9344-4972-BC7A-C84FE7D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A63D-4D67-4F28-BE3A-B460EA6D2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liability Deployments Task Force Update – January WMS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RDTF meeting occurred on December 20,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RDTF discussed the following issu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crease RRS by 500 MWs and decrease NSRS by 500 M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ERCOT presented Draft Revision of 2012 Ancillary Service Methodology Docu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PRR434, Increase the Capacity Limitation of a Generation Resource Providing R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lement an offer floor for Reliability Unit Commitment units deployed for system capacity purpo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RCOT presented draft version of NPRR 435, Requirements for Energy Offer Curves in the Real Time SCED for Generation Resources Committed in R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ERCOT presented analysis regarding RUC commitments and deploy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RDTF discussed appropriate value of offer floor and did not reach consens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posals to change the magnitude and slope of the Power Balance Penalty Cur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ERCOT presented analysis regarding Power Balance Penalty Curve proposals and back-casted impact on Peaker Net Marg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RDTF discussed whether or not a change in slope or magnitude is needed if ERCOT adopts increase in RRS and decrease in NSRS – RDTF consensus was change is not needed solely due to change in ancillary service method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PRR 432, Deployment of Resources to Alleviate Imminent Emergency Condi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RDTF deferred discussion on this issue to the NPRR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0 – LSL impact on real-time energy pr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Issue will be discussed in more detail at next RDTF mee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Next RDTF meeting is scheduled on January 27</a:t>
            </a:r>
            <a:r>
              <a:rPr b="0" lang="en-CA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5:57:29Z</dcterms:created>
  <dc:creator>rcomstoc</dc:creator>
  <dc:description/>
  <dc:language>en-US</dc:language>
  <cp:lastModifiedBy>ERCOT Market Rules</cp:lastModifiedBy>
  <dcterms:modified xsi:type="dcterms:W3CDTF">2012-01-11T22:22:31Z</dcterms:modified>
  <cp:revision>19</cp:revision>
  <dc:subject/>
  <dc:title>Slide 1</dc:title>
</cp:coreProperties>
</file>