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037F-8F8B-4F87-8BBD-7203B535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694-3311-49B1-9BBF-DE0FD3EB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ABD-1F42-49AC-83BD-AA7C61C9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24B5-F6C0-4066-8B5E-E12448A0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2B15-38C3-4C5A-8A6F-6DA4A32C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6D8B-1157-4470-BFDC-2D522658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AD06-1AF4-47E7-AEAF-2CBEFD99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F733-CCB8-433F-810A-D0D302E5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AC8-DAB1-4B59-AAC6-68223290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7BD6-8E93-4D82-A38B-BE727653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735-D57F-4A99-BE92-047EB83C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D5C6-DF05-49DF-9FD3-9FB32B79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193F-4046-49C0-B887-E784D735E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mber 8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dney Nieme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6F1F-E953-47D0-8DAC-D60CFE39F3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9680" cy="6162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952880" y="914400"/>
            <a:ext cx="266724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1 Data through Dec 6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81EE-04FF-4944-839E-C975218A46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9320" y="0"/>
            <a:ext cx="919332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E928-92E4-4E93-8F04-05B574BE6E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77600" cy="626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DC24-68E0-4F2A-87F0-B0A74C6FF2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520" y="309600"/>
            <a:ext cx="9048960" cy="623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635-8655-4419-8E30-24C74537F9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2840" y="304920"/>
            <a:ext cx="9058320" cy="624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F66D-E05F-4E3B-A9FC-33F1365FD2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160" y="299880"/>
            <a:ext cx="9067680" cy="625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858F-5658-47B7-BBB2-5813A26615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nt Frequency Response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094E-1C53-4472-A0C4-9DD521927E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5234-91BB-45FB-B14F-3F9838AE7A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Meeting Nov 3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ittent Renewable Resources Primary Frequency Response (PFR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ed one IRR PFR to normal frequency movement and during the 11-29-11 DCS ev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vernor set per BAL-001-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 exceeded R9 and R10 using ND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e to normal frequency movement ob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rns with excessive we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-001-TRE field t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nts will be selected Dec 12 during Drafting Team me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ember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adline to nominate genera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Nov 14, 21:00 low frequency ev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 QSEs did not follow Generator shutdown procedure as described in the ERCOT Business Practice Manual, “ERCOT And QSE Operations Practices During The Operating Hour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Nov 29, 03:29 DCS ev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e Resources did not sustain PF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all performance was strong and above average for PFR and Secondary Cont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8EC-DC30-4879-A978-C773AE17BE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Going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-003 Field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ng evaluation of 61 events for the 2012 ERCOT Bias calc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ng evaluation of ERCOT Interconnection Frequency Response Performance as part of the field 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will be completed by December 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1E3D-132F-4AEC-AA48-6A3EEE2B26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COT Frequency Control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9F8-9654-4403-A427-E93FB4A29A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Next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 Center 9:00 am to 5:00 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 Center 9:00 am to 5:00 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196-E411-4E12-A374-C73AF84B8E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53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FCD0-6ECB-4B85-B960-42ED86F6AE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0160" y="0"/>
            <a:ext cx="8943840" cy="659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1D2D-315C-4A63-B2D0-FBB529F0E4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72200" y="228600"/>
            <a:ext cx="1752480" cy="916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ing 12 month average CPS1 = 147.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106668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72F-9693-440D-9671-A03D2F46BD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57320"/>
            <a:ext cx="9144000" cy="654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9279-0E44-476F-A51D-245C87DC90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5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268-A48A-4892-8BD4-F6F316B0A8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1240" cy="6248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105520" y="990720"/>
            <a:ext cx="266688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1 Data through Dec 6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CE9-8FF1-4868-8B40-C4263948B9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324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05520" y="990720"/>
            <a:ext cx="266688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1 Data through Dec 6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04BD-B550-4726-9619-536C4F9735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9:06:35Z</dcterms:created>
  <dc:creator>NRG ENERGY</dc:creator>
  <dc:description/>
  <dc:language>en-US</dc:language>
  <cp:lastModifiedBy>PDCWG</cp:lastModifiedBy>
  <dcterms:modified xsi:type="dcterms:W3CDTF">2011-12-08T02:48:51Z</dcterms:modified>
  <cp:revision>28</cp:revision>
  <dc:subject/>
  <dc:title>Slide 1</dc:title>
</cp:coreProperties>
</file>