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AC9-486F-4414-82F3-0B50A561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9DC-B895-4583-A753-8BBEADCC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172-5BC0-4B0E-9C9E-03F31BDC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708-F642-4D96-A2D4-E647134E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666-9901-42CE-9E38-C6B662F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081-5A63-4EC8-924E-E0FB42D3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61D-C62A-4563-95CE-95382AB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356-685A-4B6E-95B9-23761BE7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34D-517E-4520-B9AC-E5D90E21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5BA-D29D-4944-8F0B-104BE99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048-A489-404E-9224-B29E8ED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185-A836-47A3-8D70-A17DE23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6DC-FEC0-42AC-BB25-D2E5FB28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D26-11F4-4EFA-92E9-21A80B9E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2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E9D6-AA5D-4080-BC87-69AF715E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2296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F98-AC11-4381-8DF5-F556D2F1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237960" y="228600"/>
            <a:ext cx="8668080" cy="5826240"/>
          </a:xfrm>
          <a:prstGeom prst="rect">
            <a:avLst/>
          </a:prstGeom>
          <a:ln w="0">
            <a:noFill/>
          </a:ln>
        </p:spPr>
      </p:pic>
      <p:sp>
        <p:nvSpPr>
          <p:cNvPr id="67" name="Line 8"/>
          <p:cNvSpPr/>
          <p:nvPr/>
        </p:nvSpPr>
        <p:spPr>
          <a:xfrm>
            <a:off x="3124080" y="13716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581280" y="16765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952880" y="16765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5410080" y="1371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3124080" y="1295280"/>
            <a:ext cx="2286000" cy="381240"/>
          </a:xfrm>
          <a:prstGeom prst="leftRightArrow">
            <a:avLst>
              <a:gd name="adj1" fmla="val 50000"/>
              <a:gd name="adj2" fmla="val 1193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3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3581280" y="1828800"/>
            <a:ext cx="1371600" cy="380880"/>
          </a:xfrm>
          <a:prstGeom prst="leftRightArrow">
            <a:avLst>
              <a:gd name="adj1" fmla="val 50000"/>
              <a:gd name="adj2" fmla="val 71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16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567-5B34-4CC7-B70C-C3E46764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133200" y="295200"/>
            <a:ext cx="8877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BA36-9F70-4B28-89B6-FBFBD2297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4F7-EF1F-4F8E-BE03-C28606E5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634E-BA99-4659-984A-74D9D889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3BB-AD1F-4779-B150-110BE03A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Frequency Respon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0280-2BAB-4D09-97F7-D526A85AB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9364-CEB8-444C-A47F-0CF5BC7F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Jan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 Chair and Vice Chair position recommend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 David K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 Chair Sydney Nieme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member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R 434 reviewed and comments developed for submit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GREDP and the 12-15-11 frequency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Frequency Response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2B1-8198-4F26-AEB5-685598029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86680" cy="5226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4267080" y="3962520"/>
            <a:ext cx="327672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response during the disturbance and to all smaller frequency devi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C6EF-1848-4819-BCF9-C7AF7B0D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NERATOR ON THE PREVIOUS SLIDE WAS A WIND FAR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C51-AF63-432A-9CB8-FA147711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976-4427-409D-9390-B40C1849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Next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B49-1747-426F-A9E2-5CF4927D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F84-0594-4F1B-BB97-1C66C55E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FD3-2641-4D2F-B080-9A86AB3F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6172200" y="228600"/>
            <a:ext cx="182880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PS1 = 148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7848720" y="1066680"/>
            <a:ext cx="761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5FC-7103-4963-94AA-CF8242C5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BE6-CD5D-4256-8181-6BAABD71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6742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D17-1D68-4841-953B-A2F4625F0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DB6E-4473-4909-8465-C9C95146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sniemeyer</cp:lastModifiedBy>
  <dcterms:modified xsi:type="dcterms:W3CDTF">2012-01-10T18:50:42Z</dcterms:modified>
  <cp:revision>33</cp:revision>
  <dc:subject/>
  <dc:title>Slide 1</dc:title>
</cp:coreProperties>
</file>