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C5A7-886E-42E6-AB69-4607863A1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A38D-CB4C-4C2D-99C8-6B1E4A750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327C-6D73-4780-BF45-48E364C2F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8841-BADA-4350-A469-5A0B68964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AAC32-7225-43F2-8CFF-240B14F8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1C6ED-0310-47F5-B36D-2CD951A0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5E476-64AF-4409-946D-E6A33EAC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E690E-4A75-4764-8D60-456EBBE2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BC334-DAAB-4E26-833D-0FAEE0A9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0A2AF-E513-43CB-A473-43045A4E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67F5D-6693-42CF-8A7D-C74CBD60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B7ED0-5DC2-42D9-9197-CFAD7E0B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87142-26A0-403B-AF21-B22D1EB0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D5CF-7D9B-48B6-804F-33596CE4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C20F-865D-4BE3-BB0F-708736B9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A9C1-9A85-41CA-ACF6-AA9F11E0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0096-1CD9-431F-BA79-5115A830A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CC34-6C46-4D99-984E-1DBDB1738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4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MS Upd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yle Patr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oting Items: RMGRR105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052640"/>
          <a:ext cx="7924680" cy="3838320"/>
        </p:xfrm>
        <a:graphic>
          <a:graphicData uri="http://schemas.openxmlformats.org/drawingml/2006/table">
            <a:tbl>
              <a:tblPr/>
              <a:tblGrid>
                <a:gridCol w="2168280"/>
                <a:gridCol w="1451160"/>
                <a:gridCol w="430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to the IDR Meter Requirement Report Due to Inclusion of AMS Me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Imp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ubcommittee Acronym) V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 voted to unanimously approv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O Deter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e are no additional impacts to implement this RMGRR beyond what was captured in the Impact Analysis for NPRR251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Retail Market Guide Revision Request (RMGRR) can take effect upon system implementatio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762120" y="1600200"/>
            <a:ext cx="7619760" cy="419112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289548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38862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48006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849960" y="207000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em Revie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5552640" y="199404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2978640" y="1944720"/>
            <a:ext cx="82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762120" y="5181480"/>
            <a:ext cx="2103480" cy="5806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844560" y="26258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846000" y="315900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794880" y="368136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796680" y="42260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1"/>
          <p:cNvSpPr/>
          <p:nvPr/>
        </p:nvSpPr>
        <p:spPr>
          <a:xfrm>
            <a:off x="794880" y="47592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3888000" y="19447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4"/>
          <p:cNvSpPr/>
          <p:nvPr/>
        </p:nvSpPr>
        <p:spPr>
          <a:xfrm>
            <a:off x="3200400" y="31240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6"/>
          <p:cNvSpPr/>
          <p:nvPr/>
        </p:nvSpPr>
        <p:spPr>
          <a:xfrm>
            <a:off x="4114800" y="41911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8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9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0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6"/>
          <p:cNvSpPr/>
          <p:nvPr/>
        </p:nvSpPr>
        <p:spPr>
          <a:xfrm>
            <a:off x="4114800" y="47242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6"/>
          <p:cNvSpPr/>
          <p:nvPr/>
        </p:nvSpPr>
        <p:spPr>
          <a:xfrm>
            <a:off x="4114800" y="36576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6"/>
          <p:cNvSpPr/>
          <p:nvPr/>
        </p:nvSpPr>
        <p:spPr>
          <a:xfrm>
            <a:off x="3200400" y="25909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oting Items: RMGRR1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928800"/>
            <a:ext cx="84582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o the IDR Meter Requirement Report Due to Inclusion of AMS Me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4882320" y="3657600"/>
            <a:ext cx="30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ts captured in NPRR2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4882320" y="4191120"/>
            <a:ext cx="30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ts captured in NPRR2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4882320" y="4724280"/>
            <a:ext cx="30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ts captured in NPRR2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oting Items: RMGRR106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1052640"/>
          <a:ext cx="7924680" cy="3838320"/>
        </p:xfrm>
        <a:graphic>
          <a:graphicData uri="http://schemas.openxmlformats.org/drawingml/2006/table">
            <a:tbl>
              <a:tblPr/>
              <a:tblGrid>
                <a:gridCol w="2168280"/>
                <a:gridCol w="1451160"/>
                <a:gridCol w="43052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ies E-mail Process for Safety-Net and Emergency Reconnect Requests and Adds a Spanish Version of the New Occupant State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Imp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ubcommittee Acronym) V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 voted to unanimously approv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O Deter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mpa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roject required.  This Retail Market Guide Revision Request (RMGRR) can take effect upon Technical Advisory Committee (TAC) approva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762120" y="1600200"/>
            <a:ext cx="7619760" cy="419112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289548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38862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48006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849960" y="207000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em Revie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5552640" y="199404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2978640" y="1944720"/>
            <a:ext cx="82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762120" y="5181480"/>
            <a:ext cx="2103480" cy="5806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844560" y="26258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846000" y="315900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794880" y="368136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796680" y="42260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794880" y="47592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3888000" y="19447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4"/>
          <p:cNvSpPr/>
          <p:nvPr/>
        </p:nvSpPr>
        <p:spPr>
          <a:xfrm>
            <a:off x="3200400" y="31240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6"/>
          <p:cNvSpPr/>
          <p:nvPr/>
        </p:nvSpPr>
        <p:spPr>
          <a:xfrm>
            <a:off x="3200400" y="41911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8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9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0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6"/>
          <p:cNvSpPr/>
          <p:nvPr/>
        </p:nvSpPr>
        <p:spPr>
          <a:xfrm>
            <a:off x="3200400" y="47242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6"/>
          <p:cNvSpPr/>
          <p:nvPr/>
        </p:nvSpPr>
        <p:spPr>
          <a:xfrm>
            <a:off x="3200400" y="36576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6"/>
          <p:cNvSpPr/>
          <p:nvPr/>
        </p:nvSpPr>
        <p:spPr>
          <a:xfrm>
            <a:off x="3200400" y="25909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oting Items: RMGRR1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806400"/>
            <a:ext cx="845820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rifies E-mail Process for Safety-Net and Emergency Reconnect Requests and Adds a Spanish Version of the New Occupant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oting Items: RMGRR107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33520" y="1052640"/>
          <a:ext cx="7924680" cy="3289320"/>
        </p:xfrm>
        <a:graphic>
          <a:graphicData uri="http://schemas.openxmlformats.org/drawingml/2006/table">
            <a:tbl>
              <a:tblPr/>
              <a:tblGrid>
                <a:gridCol w="2168280"/>
                <a:gridCol w="1451160"/>
                <a:gridCol w="4305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lace TML References with M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Imp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ubcommittee Acronym) V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 voted to unanimously approv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O Deter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mpa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roject required.  This Retail Market Guide Revision Request (RMGRR) can take effect upon Technical Advisory Committee (TAC) approva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762120" y="1600200"/>
            <a:ext cx="7619760" cy="419112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289548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38862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48006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849960" y="207000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em Revie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5552640" y="199404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2978640" y="1944720"/>
            <a:ext cx="82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762120" y="5181480"/>
            <a:ext cx="2103480" cy="5806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844560" y="26258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846000" y="315900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794880" y="368136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796680" y="42260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794880" y="47592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3888000" y="19447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4"/>
          <p:cNvSpPr/>
          <p:nvPr/>
        </p:nvSpPr>
        <p:spPr>
          <a:xfrm>
            <a:off x="3200400" y="31240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6"/>
          <p:cNvSpPr/>
          <p:nvPr/>
        </p:nvSpPr>
        <p:spPr>
          <a:xfrm>
            <a:off x="3200400" y="41911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8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9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0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6"/>
          <p:cNvSpPr/>
          <p:nvPr/>
        </p:nvSpPr>
        <p:spPr>
          <a:xfrm>
            <a:off x="3200400" y="47242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6"/>
          <p:cNvSpPr/>
          <p:nvPr/>
        </p:nvSpPr>
        <p:spPr>
          <a:xfrm>
            <a:off x="3200400" y="36576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6"/>
          <p:cNvSpPr/>
          <p:nvPr/>
        </p:nvSpPr>
        <p:spPr>
          <a:xfrm>
            <a:off x="3200400" y="25909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oting Items: RMGRR1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928800"/>
            <a:ext cx="84582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TML References with M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kpatrick</cp:lastModifiedBy>
  <dcterms:modified xsi:type="dcterms:W3CDTF">2012-01-04T16:54:05Z</dcterms:modified>
  <cp:revision>124</cp:revision>
  <dc:subject/>
  <dc:title>Instructions</dc:title>
</cp:coreProperties>
</file>