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move the slide</a:t>
            </a:r>
            <a:endParaRPr b="0" lang="en-US" sz="2000" spc="-1" strike="noStrike">
              <a:solidFill>
                <a:srgbClr val="000000"/>
              </a:solidFill>
              <a:latin typeface="Arial Black"/>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D75DB-C00A-4105-BE41-F02B7BF36C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8E45B-DA4D-4FFE-978F-4431A07A84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C403306-D3F7-4780-A5AA-01C0D2C65D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7E5A6F2-30A4-4E39-97FC-72FFC16967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E7CE13E2-9DBC-4C5F-9162-83DDBAF709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B3080256-A06F-469C-B71F-E0FC06FBD0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3"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40CA5E8-46E2-4F81-AC67-2F7290E50C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4"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2"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64146A7-20F4-4E2A-8528-56C0B72EAA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3700EEE-11E1-4CA0-B313-F817AEDB69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9DCC49C-99A8-459B-BE68-30C11D5AE4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7DF6196-19E5-4BFC-A95C-E853C50902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4FD13CB-ADEA-40D2-8757-40C3731770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463874A-E399-4830-BB0B-CDE95D9621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834ECBC-CFDC-41B1-BC69-3FE382E3374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3C66B-2E82-435F-9A83-148E476C94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F19B6-EEFF-4A1B-B3EC-7F11BBE51F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9" name="Picture 10" descr="ERCOT WMS1.eps"/>
          <p:cNvPicPr/>
          <p:nvPr/>
        </p:nvPicPr>
        <p:blipFill>
          <a:blip r:embed="rId2"/>
          <a:stretch/>
        </p:blipFill>
        <p:spPr>
          <a:xfrm>
            <a:off x="0" y="0"/>
            <a:ext cx="2286000" cy="67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 name="Picture 12" descr="ERCOT WMS1.eps"/>
          <p:cNvPicPr/>
          <p:nvPr/>
        </p:nvPicPr>
        <p:blipFill>
          <a:blip r:embed="rId2"/>
          <a:stretch/>
        </p:blipFill>
        <p:spPr>
          <a:xfrm>
            <a:off x="0" y="0"/>
            <a:ext cx="3809880" cy="1119240"/>
          </a:xfrm>
          <a:prstGeom prst="rect">
            <a:avLst/>
          </a:prstGeom>
          <a:ln w="0">
            <a:noFill/>
          </a:ln>
        </p:spPr>
      </p:pic>
      <p:sp>
        <p:nvSpPr>
          <p:cNvPr id="48"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9"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50"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51"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Rectangle 15"/>
          <p:cNvSpPr/>
          <p:nvPr/>
        </p:nvSpPr>
        <p:spPr>
          <a:xfrm>
            <a:off x="2362320" y="5029200"/>
            <a:ext cx="6276960" cy="41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nuary 2012</a:t>
            </a:r>
            <a:endParaRPr b="0" lang="en-US" sz="1800" spc="-1" strike="noStrike">
              <a:solidFill>
                <a:srgbClr val="000000"/>
              </a:solidFill>
              <a:latin typeface="Arial"/>
            </a:endParaRPr>
          </a:p>
        </p:txBody>
      </p:sp>
      <p:sp>
        <p:nvSpPr>
          <p:cNvPr id="96" name="PlaceHolder 1"/>
          <p:cNvSpPr>
            <a:spLocks noGrp="1"/>
          </p:cNvSpPr>
          <p:nvPr>
            <p:ph type="title"/>
          </p:nvPr>
        </p:nvSpPr>
        <p:spPr>
          <a:xfrm>
            <a:off x="1676160" y="1904760"/>
            <a:ext cx="746748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Wholesale Market Subcommittee</a:t>
            </a:r>
            <a:endParaRPr b="0" lang="en-US" sz="2800" spc="-1" strike="noStrike">
              <a:solidFill>
                <a:srgbClr val="000000"/>
              </a:solidFill>
              <a:latin typeface="Arial Black"/>
            </a:endParaRPr>
          </a:p>
        </p:txBody>
      </p:sp>
      <p:sp>
        <p:nvSpPr>
          <p:cNvPr id="97" name="PlaceHolder 2"/>
          <p:cNvSpPr>
            <a:spLocks noGrp="1"/>
          </p:cNvSpPr>
          <p:nvPr>
            <p:ph type="subTitle"/>
          </p:nvPr>
        </p:nvSpPr>
        <p:spPr>
          <a:xfrm>
            <a:off x="1676160" y="3580920"/>
            <a:ext cx="7010280" cy="11430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eport to Technical Advisory Committe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228600" y="990360"/>
            <a:ext cx="8305920" cy="5105160"/>
          </a:xfrm>
          <a:prstGeom prst="rect">
            <a:avLst/>
          </a:prstGeom>
          <a:noFill/>
          <a:ln w="0">
            <a:noFill/>
          </a:ln>
        </p:spPr>
        <p:txBody>
          <a:bodyPr anchor="t">
            <a:normAutofit/>
          </a:bodyPr>
          <a:p>
            <a:pPr marL="343080" indent="-343080">
              <a:spcBef>
                <a:spcPts val="9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Arial"/>
              </a:rPr>
              <a:t>TAC Voting Items</a:t>
            </a:r>
            <a:endParaRPr b="1" lang="en-US" sz="36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C Annual Review of Minimum PTP Option Bid Price Per Protocol Section 7.7.1 (Vo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The Technical Advisory Committee (TAC) and the ERCOT Board shall review the current Minimum PTP Option Bid Price at least every January and may recommend to the ERCOT Board changes to these values by submitting a Nodal Protocol Revision Request (NPRR).</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imum Point-to-Point (PTP) Option Bid Pri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vaule of $0.010 representing the minimum price that can be submitted into the CRR Auction for a PTP Option bid. (s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arbara Clemenhagen</dc:creator>
  <dc:description/>
  <dc:language>en-US</dc:language>
  <cp:lastModifiedBy>Adrian Pieniazek</cp:lastModifiedBy>
  <dcterms:modified xsi:type="dcterms:W3CDTF">2012-01-04T21:59:45Z</dcterms:modified>
  <cp:revision>148</cp:revision>
  <dc:subject/>
  <dc:title>Instructions</dc:title>
</cp:coreProperties>
</file>