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2102-E1BC-4873-A7EB-CD064C38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6A98-A630-48C1-BDE6-01831DB1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E259-384C-4CDE-A53B-B92AC2CF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E65B-3FDE-4E6C-9F40-D18F8477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EEEB-27F4-4CC6-AE9C-8699FB94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18A7-01B5-4374-9577-EB346F4F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BF77-5D4E-4822-9E78-52DD9233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2A99-7337-4374-BEF9-6DDD87D0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076E-C1A9-4769-822E-77D4E44F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AB35-623C-421A-934F-1E67CA89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7E65-15FE-4639-A858-ACC9A79B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5ACD-2DF3-4AF5-803A-C819B967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7054-3F65-46FA-9101-6E6F0463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09A6-A8A0-4FD4-978A-37FEE889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90D9-9395-46C6-A1CA-79F2FDA8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FFE6-E06F-4302-A418-A5C0BD91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A021-8F14-423B-9485-FFBDF36E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A293-2489-4DCD-8FF9-4569B33F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835F-B270-4792-BB9B-32E48E9B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0F92-B810-49FE-843D-D0B518CF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B60A-0491-4F38-8D7C-7CC0B7F6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FF12-54B6-4B1E-A204-34DA3664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F6AE-C664-4A52-AF4C-D401FBA0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4BCD-E144-405D-A62C-3304C72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08B5-5777-4322-808F-181073430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5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BD68-DCD0-4684-9670-3C10A2B6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5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23CF-4906-4FFE-BE1A-D0486881F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A2DE-1268-4431-996B-9E54EB6A3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16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odity Exchange Act Exemp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tu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1143000" y="2743200"/>
            <a:ext cx="6705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 R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RCOT Vice President of Credit and Enterprise Ris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anuary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RCOT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in the process of preparing an application for a Commodity Exchange Act exemption with the CFTC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tanding scope issues appear to have been settled.  The draft exemption document has been updated and is expected to be filed with the CFTC short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filing an NPRR to address market participation requirements and the processes for  verification of  market participant risk management capabilities.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cember the Board approved retaining outside consultants to give an overview of the issues associated with becoming a central counterparty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6t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ected CFTC Conditions for CEA Exemp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1004760"/>
          <a:ext cx="8458200" cy="4542120"/>
        </p:xfrm>
        <a:graphic>
          <a:graphicData uri="http://schemas.openxmlformats.org/drawingml/2006/table">
            <a:tbl>
              <a:tblPr/>
              <a:tblGrid>
                <a:gridCol w="380880"/>
                <a:gridCol w="1095480"/>
                <a:gridCol w="5610240"/>
                <a:gridCol w="137160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-day limit to cure collateral ca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on necessar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tion of unsecured credit in CRR 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400  (approved by Board in October - implementation targeted for mid-20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0k - $25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llowance of netting between CRR and non-CRR 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settlement tim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347 combines  invoices for day-ahead and real  time markets (approved by Board in August  implementation  targeted for mid-2012).  Note that NPRR 347 was introduced independently of CFTC compliance requirem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391 shortens settlement cycle by one day and eliminates Automated Clearing House (ACH) payments (approved by Board in October 2011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457: $430k - $46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391: 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6t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ected CFTC Conditions for CEA Exemp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371600"/>
          <a:ext cx="8534160" cy="3633840"/>
        </p:xfrm>
        <a:graphic>
          <a:graphicData uri="http://schemas.openxmlformats.org/drawingml/2006/table">
            <a:tbl>
              <a:tblPr/>
              <a:tblGrid>
                <a:gridCol w="380880"/>
                <a:gridCol w="1109520"/>
                <a:gridCol w="5659560"/>
                <a:gridCol w="138420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m limitation on unsecured cre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to Creditworthiness Standard (approved by Board in October – effective December 20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 for market 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risk management standards developed in cooperation with other ISOs.  Draft market participation NPRR in proce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.  There will be costs associated with implementation of a verification progra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 a central counterparty (CC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S has reverted with a request for additional clarification with respect to qualifications for tax exemption and expected market and financial impacts of CCP statu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has requested an independent review of  issues associated with becoming a central counter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6t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3720" y="281916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6t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Ruane, Mark</dc:creator>
  <dc:description/>
  <dc:language>en-US</dc:language>
  <cp:lastModifiedBy>Ruane, Mark</cp:lastModifiedBy>
  <dcterms:modified xsi:type="dcterms:W3CDTF">2011-12-21T15:55:21Z</dcterms:modified>
  <cp:revision>551</cp:revision>
  <dc:subject/>
  <dc:title>Instructions</dc:title>
</cp:coreProperties>
</file>