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684-0AF0-435F-AB8A-0AB13EEE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1F4-7D3D-4FCC-B216-E7CCC9C1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140-4485-4D4E-935A-E8F571ED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9B3-D274-4C98-939D-6FAEFD9B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9AA-91D8-4586-BB82-7FD85276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2CD-96C5-4BDE-B2A4-0C1E958A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A24-C93F-4068-B7EB-34E8C2C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D0E-49FA-4C1B-AF65-A4CC57FB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361-4E87-4590-865A-4E2856B5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758-95F2-478C-A1B0-2A653A6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5B6-7915-4809-9A66-7BD6F83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EEA-63A8-404E-B681-6914299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3DB3-22E0-409B-9007-1E5F87F8A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D94-FD9E-49AA-8762-667B03739C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9680" cy="6162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52880" y="914400"/>
            <a:ext cx="266724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1 Data through Dec 6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C36-A685-4AB3-BDB1-7CA4A01201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3CA-BEFE-4FEE-A167-D48A554D04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77600" cy="626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9EF-95BF-471D-BCD0-DAE1EB26CA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520" y="309600"/>
            <a:ext cx="904896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A7E-0AB6-417C-8382-DB9190FDEE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40" y="304920"/>
            <a:ext cx="9058320" cy="62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402-824A-4F8D-859F-DDCFEEF679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160" y="299880"/>
            <a:ext cx="9067680" cy="625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D59-75E0-4EC9-9464-C2A0B06069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Frequency Response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ED3-996C-4ACC-B5FF-22688ED706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B29-98DA-438C-A3C2-46E8C3215A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Meeting Nov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ittent Renewable Resources Primary Frequency Response (PF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one IRR PFR to normal frequency movement and during the 11-29-11 DCS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or set per BAL-001-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exceeded R9 and R10 using ND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to normal frequency movement ob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ns with excessive w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-001-TRE field 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will be selected Dec 12 during Drafting Team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mber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adline to nominate gen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Nov 14, 21:00 low frequency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 QSEs did not follow Generator shutdown procedure as described in the ERCOT Business Practice Manual, “ERCOT And QSE Operations Practices During The Operating Hour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Nov 29, 03:29 DCS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Resources did not sustain PF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performance was strong and above average for PFR and Secondar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D45-9980-4F53-AAAA-6C4BB53FD1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Going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-003 Field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evaluation of 61 events for the 2012 ERCOT Bias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evaluation of ERCOT Interconnection Frequency Response Performance as part of the field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will be completed by December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E73-72B4-46FC-A8E3-16B4CE918B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Frequency Control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08A-7E13-458F-B980-D2394C1D28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Next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 Center 9:00 am to 5: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 Center 9:00 am to 5: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6A1-6A2B-4A2B-A6DB-5D4D11AB71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9EC-B6AF-4C3D-9E2D-A43217E2AA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160" y="0"/>
            <a:ext cx="8943840" cy="659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C1F-0E12-47B5-A620-ABF570AA62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228600"/>
            <a:ext cx="175248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12 month average CPS1 = 147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106668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7F6-72D3-433B-AF28-23A044C655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110-83D9-44E8-BC92-4830369AEB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5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25E-16D2-46B4-B383-9ED9E3B4B6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24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05520" y="990720"/>
            <a:ext cx="26668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1 Data through Dec 6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E42-EA61-4ACB-9AD9-B706A0C2AA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05520" y="990720"/>
            <a:ext cx="26668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1 Data through Dec 6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40F-A2AD-46A0-8D57-44340DDC81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06:35Z</dcterms:created>
  <dc:creator>NRG ENERGY</dc:creator>
  <dc:description/>
  <dc:language>en-US</dc:language>
  <cp:lastModifiedBy>PDCWG</cp:lastModifiedBy>
  <dcterms:modified xsi:type="dcterms:W3CDTF">2011-12-08T02:48:51Z</dcterms:modified>
  <cp:revision>28</cp:revision>
  <dc:subject/>
  <dc:title>Slide 1</dc:title>
</cp:coreProperties>
</file>