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5A79-DF08-4047-8BEE-6EA27AC6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E7A7-82A7-474D-862E-80E1EF11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0B32-2A92-48E1-B0EB-A7B13746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0991-A9B0-4FA9-A57F-981C4E9D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24DE-9476-45E7-8CDE-E4AC5A7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838C-1C1F-4837-9D82-F85CD32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960B-00B3-4B41-B188-A7148EC4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07A9-CD5C-4A96-B51E-7F11BC9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8E2A-1004-4D6D-9BAC-9B1EAF2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A101-F346-47DD-B18C-0DBE48E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F209-3A63-4FCC-B4D7-3270FF5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CBA4-96BE-4658-811F-2DFF076B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0DE-32FC-471D-85C9-F9F77210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5F78-CFFC-4EF5-BBBF-085F8F849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arket Guide &amp; COPS Handbook – Upcoming Chang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E4AF-0221-482F-AF45-772191901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1295280"/>
          <a:ext cx="8153280" cy="5029200"/>
        </p:xfrm>
        <a:graphic>
          <a:graphicData uri="http://schemas.openxmlformats.org/drawingml/2006/table">
            <a:tbl>
              <a:tblPr/>
              <a:tblGrid>
                <a:gridCol w="744480"/>
                <a:gridCol w="3238560"/>
                <a:gridCol w="187200"/>
                <a:gridCol w="743040"/>
                <a:gridCol w="3240000"/>
              </a:tblGrid>
              <a:tr h="1936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S Market Gu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Operations Hand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&amp; Disclaimer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for Commercial Operations Market Guide Revis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Notice Communic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mmunication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System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Process and Data Aggregation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nvoice and Settlement Proces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to Settlement Algorithms (SEWG owns – ETA Q2 20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 (Overview 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24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s and Repor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utes and Data Extract Vari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ewable Energ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55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Overview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 (CR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 (Overvie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Pay and Market Participant Default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ndix A (do not need in Handbook – remov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CWG</cp:lastModifiedBy>
  <dcterms:modified xsi:type="dcterms:W3CDTF">2011-10-27T16:40:01Z</dcterms:modified>
  <cp:revision>159</cp:revision>
  <dc:subject/>
  <dc:title>Instructions</dc:title>
</cp:coreProperties>
</file>