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1705D-6944-411E-AFD2-75E241BAC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A19AE-C1D5-4F62-9080-30D55B4A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CC069-3D5B-4EBC-9594-F53461D54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564D2-1304-4128-B3AD-9A5B1DEF0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8D78B-3237-4E75-BF47-3B460FBC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C6A89-31B8-49DA-AAD4-8B429100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268D1-8D29-453C-B442-12410B22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AFC82-61DD-4306-A79B-FAD6F8B3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23AE9-5E87-4C05-834E-76D59856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F1948-297E-466D-B72C-7B6D5E30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5FAD3-1860-450D-BC8B-5391DB3B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A299D-F569-416C-8C99-ABF918E4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CF71-DBCA-4ACB-81CE-A62F6ABF2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FD64-D6EA-4735-B138-9E70ECDC6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PS Market Guide &amp; COPS Handbook – Upcoming Chang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76A5-D97F-4245-9B46-4D32734EE0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33520" y="1295280"/>
          <a:ext cx="8153280" cy="5029200"/>
        </p:xfrm>
        <a:graphic>
          <a:graphicData uri="http://schemas.openxmlformats.org/drawingml/2006/table">
            <a:tbl>
              <a:tblPr/>
              <a:tblGrid>
                <a:gridCol w="744480"/>
                <a:gridCol w="3238560"/>
                <a:gridCol w="187200"/>
                <a:gridCol w="743040"/>
                <a:gridCol w="3240000"/>
              </a:tblGrid>
              <a:tr h="193680">
                <a:tc gridSpan="2"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PS Market Gu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rcial Operations Handbo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po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pose &amp; Disclaimer Stat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936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finitions and Acr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finitions and Acronym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9224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tional Struc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tional Structure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 for Commercial Operations Market Guide Revi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 for Commercial Operations Market Guide Revision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et Notice Communication Pro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et Communications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rcial System Model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rcial System Mod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73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s to Settlement Process and Data Aggregation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COT Invoice and Settlement Pro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73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COT Invoice and Settlement Process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s to Settlement Algorithms (SEWG owns – ETA Q2 201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73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regation (Overview 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reg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9224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racts and Repor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racts and Reports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putes and Data Extract Variances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putes and Data Extract Varia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73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ewable Energy Credits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ewable Energy Cred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55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gestion Revenue Rights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gestion Revenue Rights (CRR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936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rt Pay and Market Participant Default Process (Overview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rt Pay and Market Participant Default Pro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936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end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endix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end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endix A (do not need in Handbook – remov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CCWG</cp:lastModifiedBy>
  <dcterms:modified xsi:type="dcterms:W3CDTF">2011-10-27T16:40:01Z</dcterms:modified>
  <cp:revision>159</cp:revision>
  <dc:subject/>
  <dc:title>Instructions</dc:title>
</cp:coreProperties>
</file>