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508-A005-4BBD-8358-E3B854C7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644-06FF-4832-ACE4-A367E73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0C0-B3E5-4390-859A-A12DE0E9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FA5-1567-4A26-9011-E8875578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7D5-478A-499B-8448-C8E328E7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BD5-7156-4ABB-905F-BF3FB799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C18-7772-4BA2-982E-E9A1791D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400-07E8-4285-86A3-09BF4851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E7F-7FF6-488B-B9FE-0D6CF186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E5D-F81E-4FE9-A492-3A6BF6F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01E-C05C-42D3-8879-A4DF2FF1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87E-6A47-4C42-8A7B-1DF28F9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37AA-C874-4C85-9C87-8F40C8A68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WG Update to 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0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Patt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BA05-4379-446D-AB5F-F80D7F946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 of October 3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Discussions on 6 Storage Draft NPRRs &amp;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-Up Offer and Minimum Energy Offer Generic Caps for Energy Storag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Offer Curve Caps for Make Whole Calculation Purposes for Energy Storage Re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ed Offer Floor for Energy Storage Re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able Cost Calculation for Energy Storag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ed Offer Cap for SCED Mitigation Purposes for Energy Storage Re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of Charge or State of Op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coming Storage Worksh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for December 2nd 9:00 AM – 4:0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RSVP, for an accurate headc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WGR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file NPRR shor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LTSTF Request for Information from Emerging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 companies will contact ERCOT di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D38B-A9D4-422F-A539-091E9D05E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50640" y="2590920"/>
            <a:ext cx="33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6:44Z</dcterms:created>
  <dc:creator>Henry Durrwachter</dc:creator>
  <dc:description/>
  <dc:language>en-US</dc:language>
  <cp:lastModifiedBy>FPL_User</cp:lastModifiedBy>
  <dcterms:modified xsi:type="dcterms:W3CDTF">2011-11-04T14:07:20Z</dcterms:modified>
  <cp:revision>34</cp:revision>
  <dc:subject/>
  <dc:title>Renewable Technology Working Group (RTWG)</dc:title>
</cp:coreProperties>
</file>