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517-ECCD-46EA-9B5C-7BFF42B9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524-83F7-434E-90E1-B42A31F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230-2FE4-499B-AFF4-C9D1F899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0D0-2EF9-496E-8E37-782D833D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3C4-DA17-4AC0-B988-2BC6672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F23-1D45-4587-A809-33E4728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BCD-74FF-48E2-B79A-062D73FC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755-888A-4643-8D62-842D1CC6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EC9-6FA2-43CE-A608-2507AEF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EDC-D33D-4A6C-AB76-86A91D3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AF4-B748-422F-9453-2E78AF5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6B8-B14F-4A15-92A9-88E4672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B400-6A9F-4E7C-B643-20801A0F2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B54-4EC4-4CE6-8315-B7920AE7B6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80" y="73080"/>
            <a:ext cx="9182160" cy="67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A03-AFFF-47BB-B7EE-9AC5D30714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" y="295200"/>
            <a:ext cx="8877600" cy="626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48520" y="1447920"/>
            <a:ext cx="23619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 data January through Octo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421-DF01-46A5-85F8-0811E9D4B4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68C-C3D2-45BF-97C3-7B814837D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703-3E71-4007-969B-F2C3E10C7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9F4-B870-4C92-9BFE-7B3C5C80B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Frequency Respon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5DB-0C78-4DD9-94FA-CA368F3F45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8A6-3CE4-46C6-B999-05CF7DF59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Frequency Respons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slide measures PFR using the method required in the NERC BAL-003 field 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the analysis will be used to set ERCOT’s Bias in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is out for comment through Dec 8 and ballot Nov 29 through Dec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ets an Interconnection minimum frequency response obl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84C-3162-4094-9966-D09C7299F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On-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comments on three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4N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5N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2NOGRR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-001-TRE field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plan to evaluate various types of generators and provide feedback on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ed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recent frequency response performance and GREDP performance in Octo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BF9-099C-4D94-BB92-77F157A9B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720-2ABD-4A4F-85E2-115F32919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067680" cy="65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19C-ABAC-4665-B14F-BB88A56C8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5F7-C02F-4B75-9BAE-6AE8AE510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228600"/>
            <a:ext cx="17524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12 month average CPS1 = 146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106668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DF7-7287-4D5F-B592-33E44C144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24960" cy="59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0DC-6161-4325-B741-2345E5F0C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069-A573-42F2-A3E3-0E68A5154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352440"/>
            <a:ext cx="9220320" cy="61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5BC-7FC3-4FF7-8E7A-9EA91B10D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229680" cy="616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0E4-9AEE-4015-8026-CDBA6BF0C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1-11-09T15:10:12Z</dcterms:modified>
  <cp:revision>25</cp:revision>
  <dc:subject/>
  <dc:title>Slide 1</dc:title>
</cp:coreProperties>
</file>