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3EE-09FB-4469-8398-FEA8148A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C4F-3AC6-44E7-8E1E-CD9CEA7A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970-B5F5-484F-B475-06528C47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732-041B-4CF0-9822-9942727F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C38-182F-471D-9E08-55483621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FB0-B0B5-4085-9C34-67C447D1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940-4A3C-40DB-AB4B-5D282A3C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9A1-3863-4603-BA59-162F1696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9E0-8782-4477-B6EB-25CA5528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79C-AB75-4BEF-B7BD-113A9C1D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063-D278-4CE2-A716-71681814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445-5B58-4F5F-AD2C-00C11684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3015-6A1E-46F7-82C5-7B3C33C17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gestion Cost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ff Billo, ERCOT Mid-Term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S, November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COT Economic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rrent ERCOT economic planning criteria uses a reduction in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roduction cost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 a reduction in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nergy revenu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justify transmission improv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ally, when observing past congestion we would measure the production cost or energy revenue impact due to each transmission constr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this is not practical using existing too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traight Connector 4"/>
          <p:cNvSpPr/>
          <p:nvPr/>
        </p:nvSpPr>
        <p:spPr>
          <a:xfrm>
            <a:off x="2209680" y="2362320"/>
            <a:ext cx="4648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220968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685800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685800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0"/>
          <p:cNvSpPr/>
          <p:nvPr/>
        </p:nvSpPr>
        <p:spPr>
          <a:xfrm flipV="1">
            <a:off x="7086600" y="251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Isosceles Triangle 12"/>
          <p:cNvSpPr/>
          <p:nvPr/>
        </p:nvSpPr>
        <p:spPr>
          <a:xfrm flipV="1">
            <a:off x="7010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3"/>
          <p:cNvSpPr/>
          <p:nvPr/>
        </p:nvSpPr>
        <p:spPr>
          <a:xfrm>
            <a:off x="6858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14"/>
          <p:cNvSpPr/>
          <p:nvPr/>
        </p:nvSpPr>
        <p:spPr>
          <a:xfrm>
            <a:off x="7086600" y="205740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5"/>
          <p:cNvSpPr/>
          <p:nvPr/>
        </p:nvSpPr>
        <p:spPr>
          <a:xfrm>
            <a:off x="198108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16"/>
          <p:cNvSpPr/>
          <p:nvPr/>
        </p:nvSpPr>
        <p:spPr>
          <a:xfrm>
            <a:off x="1676520" y="2057400"/>
            <a:ext cx="30456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6705720" y="28195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0 M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3733920" y="2023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ating = 80 M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7391520" y="18288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40/M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762120" y="17524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10/M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1828800" y="3200400"/>
            <a:ext cx="5181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MP A = $10/MW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MP B = $40/MW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ad Charge = $40 X 100 MW = $4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nerator A Payment = $10 X 80 MW = $8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nerator B Payment = $40 X 20 MW = $8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 Congestion Cost = $4000 -$800 -$800 =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$24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hadow Price = $40 - $10 = $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estion cost = Shadow price X Rating = $30 X 80 =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$24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duction cost = $800 + $800 = </a:t>
            </a:r>
            <a:r>
              <a:rPr b="0" lang="en-US" sz="1600" spc="-1" strike="noStrike">
                <a:solidFill>
                  <a:srgbClr val="376092"/>
                </a:solidFill>
                <a:latin typeface="Calibri"/>
              </a:rPr>
              <a:t>$16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2286000" y="1905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6477120" y="19051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loud Callout 26"/>
          <p:cNvSpPr/>
          <p:nvPr/>
        </p:nvSpPr>
        <p:spPr>
          <a:xfrm>
            <a:off x="6019920" y="3276720"/>
            <a:ext cx="2361960" cy="1371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: Where does the $2400 g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ounded Rectangle 27"/>
          <p:cNvSpPr/>
          <p:nvPr/>
        </p:nvSpPr>
        <p:spPr>
          <a:xfrm>
            <a:off x="7086600" y="4724280"/>
            <a:ext cx="19051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: In an ideal market, it goes back to 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traight Connector 4"/>
          <p:cNvSpPr/>
          <p:nvPr/>
        </p:nvSpPr>
        <p:spPr>
          <a:xfrm>
            <a:off x="2209680" y="2362320"/>
            <a:ext cx="4648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6"/>
          <p:cNvSpPr/>
          <p:nvPr/>
        </p:nvSpPr>
        <p:spPr>
          <a:xfrm>
            <a:off x="220968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7"/>
          <p:cNvSpPr/>
          <p:nvPr/>
        </p:nvSpPr>
        <p:spPr>
          <a:xfrm>
            <a:off x="685800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9"/>
          <p:cNvSpPr/>
          <p:nvPr/>
        </p:nvSpPr>
        <p:spPr>
          <a:xfrm>
            <a:off x="685800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10"/>
          <p:cNvSpPr/>
          <p:nvPr/>
        </p:nvSpPr>
        <p:spPr>
          <a:xfrm flipV="1">
            <a:off x="7086600" y="251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Isosceles Triangle 12"/>
          <p:cNvSpPr/>
          <p:nvPr/>
        </p:nvSpPr>
        <p:spPr>
          <a:xfrm flipV="1">
            <a:off x="7010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13"/>
          <p:cNvSpPr/>
          <p:nvPr/>
        </p:nvSpPr>
        <p:spPr>
          <a:xfrm>
            <a:off x="6858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7086600" y="205740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15"/>
          <p:cNvSpPr/>
          <p:nvPr/>
        </p:nvSpPr>
        <p:spPr>
          <a:xfrm>
            <a:off x="198108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1676520" y="2057400"/>
            <a:ext cx="30456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6705720" y="28195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0 M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3733920" y="2023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ating = 80 M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7391520" y="18288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40/M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762120" y="17524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10/M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1828800" y="3124080"/>
            <a:ext cx="51055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MP A = $10/MW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MP B = $10/MWh (the constraint is not bindi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ad Charge = $10 X 100 MW = $1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nerator A Payment = $10 X 100 MW = $1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nerator B Payment = $10 X 0 MW = $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 Congestion Cost = $1000 -$1000 -$0 =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$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hadow Price = $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estion cost = Shadow price X Rating = $0 X 200 =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$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duction cost = $1000 + $0 =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376092"/>
                </a:solidFill>
                <a:latin typeface="Calibri"/>
              </a:rPr>
              <a:t>$1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duction cost savings = </a:t>
            </a:r>
            <a:r>
              <a:rPr b="0" lang="en-US" sz="1600" spc="-1" strike="noStrike">
                <a:solidFill>
                  <a:srgbClr val="376092"/>
                </a:solidFill>
                <a:latin typeface="Calibri"/>
              </a:rPr>
              <a:t>$1600 - $100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600" spc="-1" strike="noStrike">
                <a:solidFill>
                  <a:srgbClr val="77933c"/>
                </a:solidFill>
                <a:latin typeface="Calibri"/>
              </a:rPr>
              <a:t>$6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2286000" y="1905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6477120" y="19051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2286000" y="5335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What is the </a:t>
            </a:r>
            <a:r>
              <a:rPr b="1" i="1" lang="en-US" sz="1600" spc="-1" strike="noStrike">
                <a:solidFill>
                  <a:srgbClr val="77933c"/>
                </a:solidFill>
                <a:latin typeface="Calibri"/>
              </a:rPr>
              <a:t>value</a:t>
            </a: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 of upgrading the lin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26"/>
          <p:cNvSpPr/>
          <p:nvPr/>
        </p:nvSpPr>
        <p:spPr>
          <a:xfrm>
            <a:off x="3733920" y="2057400"/>
            <a:ext cx="1523880" cy="304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27"/>
          <p:cNvSpPr/>
          <p:nvPr/>
        </p:nvSpPr>
        <p:spPr>
          <a:xfrm flipV="1">
            <a:off x="3809880" y="2057040"/>
            <a:ext cx="1447920" cy="304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1"/>
          <p:cNvSpPr/>
          <p:nvPr/>
        </p:nvSpPr>
        <p:spPr>
          <a:xfrm>
            <a:off x="3657600" y="16765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933c"/>
                </a:solidFill>
                <a:latin typeface="Calibri"/>
              </a:rPr>
              <a:t>Rating = 200 M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gestion cost is not the same as potential production cost savings or energy revenue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gestion cost (rent) is a good metric for measuring where there is congestion, and hence inefficiencies on th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can give a sense of magnitude of co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3:42:42Z</dcterms:created>
  <dc:creator>Jeff Billo</dc:creator>
  <dc:description/>
  <dc:language>en-US</dc:language>
  <cp:lastModifiedBy>sschneider</cp:lastModifiedBy>
  <dcterms:modified xsi:type="dcterms:W3CDTF">2011-11-07T22:39:32Z</dcterms:modified>
  <cp:revision>14</cp:revision>
  <dc:subject/>
  <dc:title>Slide 1</dc:title>
</cp:coreProperties>
</file>