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5F1B-93EC-424D-89BC-7F3D9378E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5484-4993-4DA2-B9E5-D931C55CD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9050-18B2-4C6F-A6B0-BB8442706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CF2C-301E-4CF3-85B0-DA9188E82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9AF3-6B16-464F-AD06-92FE6E9F1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9FC4-BE9F-43F9-A3BE-506A93B9A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6112-D546-45E9-B375-71A8A0537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0D50-3B29-4115-B771-FA41A743E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52EFAAE-38E5-4DE5-9AE9-C2D7B5247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6604305-46EC-4864-8635-3AD1F23E3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D869EA5-B154-42F8-A55E-5FC41E9479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A97AEAF-2DF5-4D4B-8555-4D65763956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63C9C3C-43E9-4820-BF81-AA4F3B02A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A2662A2-C6BF-4CCF-83B9-BD7C99745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0697FE0-4793-473D-B8C0-C75603AB4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2E63A5E-BE03-47FE-8106-E9B4E1624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3469FCF-275F-4B4B-83E1-9AD5024E8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D2CBF0E-684F-48D3-9B8C-7FD117895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60185A-CDF6-4A4F-ADBB-ACE12FB36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FA51A7-C658-4192-80A5-AA3DF766F1E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6B47-03FF-456A-A6FA-E0BA1C1AC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E4EC-749C-4DE9-9686-C6790618C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andy Morri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ember 3,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 of NPRR 351 – PRS Table Position</a:t>
            </a:r>
            <a:endParaRPr b="0" lang="en-US" sz="2000" spc="-1" strike="noStrike">
              <a:solidFill>
                <a:srgbClr val="000000"/>
              </a:solidFill>
              <a:latin typeface="Arial Black"/>
            </a:endParaRPr>
          </a:p>
        </p:txBody>
      </p:sp>
      <p:sp>
        <p:nvSpPr>
          <p:cNvPr id="113" name=""/>
          <p:cNvSpPr txBox="1"/>
          <p:nvPr/>
        </p:nvSpPr>
        <p:spPr>
          <a:xfrm>
            <a:off x="457200" y="914040"/>
            <a:ext cx="822960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S tabled the NPRR to provide time for WMS to hold the workshop that was planned to address concerns and issues about the NPRR.  By tabling the NPRR, it would allow interested parties to participate in the workshop, gather additional information, and address concerns prior to taking a vote on the NPRR.  The next Board meeting is in December.  Supporters of tabling indicate that there is another PRS and TAC meeting prior to the December Board meeting.   At those meetings, the NPRR can be voted on without delaying consideration by the Board in December, while at the same time allow the workshop to proceed.  Tablers do not believe that the parties supporting the NPRR have been harmed at this point, because they can still have the NPRR considered by the Board in December, which is the first opportunity for the Board to consider the issue.</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ther Binding Documents List</a:t>
            </a:r>
            <a:endParaRPr b="0" lang="en-US" sz="2000" spc="-1" strike="noStrike">
              <a:solidFill>
                <a:srgbClr val="000000"/>
              </a:solidFill>
              <a:latin typeface="Arial Black"/>
            </a:endParaRPr>
          </a:p>
        </p:txBody>
      </p:sp>
      <p:sp>
        <p:nvSpPr>
          <p:cNvPr id="115" name=""/>
          <p:cNvSpPr txBox="1"/>
          <p:nvPr/>
        </p:nvSpPr>
        <p:spPr>
          <a:xfrm>
            <a:off x="457200" y="9140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S unanimously voted to recommend approval of adding the Transmission Element Naming Convention to the Other Binding Documents list.</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ing that TAC approve the Other Binding Documents list as recommended by P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NPR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NPRR Rejec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NPRR Withdra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228600" y="838080"/>
            <a:ext cx="8153280" cy="5639040"/>
          </a:xfrm>
          <a:prstGeom prst="rect">
            <a:avLst/>
          </a:prstGeom>
          <a:noFill/>
          <a:ln w="0">
            <a:noFill/>
          </a:ln>
        </p:spPr>
        <p:txBody>
          <a:bodyPr anchor="t">
            <a:normAutofit fontScale="95000"/>
          </a:bodyPr>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animous Recommendations with No Impacts</a:t>
            </a:r>
            <a:endParaRPr b="1"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PRR401, Clarification of Timing for a Generation Resource to be Considered Self-Committed</a:t>
            </a:r>
            <a:endParaRPr b="0"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PRR404, Clarification of Form of Notification of Suspension of Operations</a:t>
            </a:r>
            <a:endParaRPr b="0"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PRR406, Clarification of the Timeline for Calculating the Value of X at Minimum Energy Level</a:t>
            </a:r>
            <a:endParaRPr b="0" lang="en-US" sz="1600" spc="-1" strike="noStrike">
              <a:solidFill>
                <a:srgbClr val="000000"/>
              </a:solidFill>
              <a:latin typeface="Arial"/>
            </a:endParaRPr>
          </a:p>
          <a:p>
            <a:pPr lvl="1" marL="705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animous Recommendations with Impacts</a:t>
            </a:r>
            <a:endParaRPr b="1"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PRR377, Alternate Inputs to Base Point Deviation Charge</a:t>
            </a:r>
            <a:endParaRPr b="0" lang="en-US" sz="1600" spc="-1" strike="noStrike">
              <a:solidFill>
                <a:srgbClr val="000000"/>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n-Unanimous Recommendations with Impacts</a:t>
            </a:r>
            <a:endParaRPr b="1"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PRR403, Revised FASD Calculation for TX SET Version 4.0 Release</a:t>
            </a:r>
            <a:endParaRPr b="0" lang="en-US" sz="1600" spc="-1" strike="noStrike">
              <a:solidFill>
                <a:srgbClr val="000000"/>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jection</a:t>
            </a:r>
            <a:endParaRPr b="1"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PRR418, Reporting of Resource Forced Outages</a:t>
            </a:r>
            <a:endParaRPr b="0" lang="en-US" sz="1600" spc="-1" strike="noStrike">
              <a:solidFill>
                <a:srgbClr val="000000"/>
              </a:solidFill>
              <a:latin typeface="Arial"/>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Withdrawal</a:t>
            </a:r>
            <a:endParaRPr b="1" lang="en-US" sz="16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PRR371, Telemetered LSL for QSGR</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 Recommended for Approva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77, Alternate Inputs to Base Point Deviation Charge</a:t>
            </a:r>
            <a:endParaRPr b="0" lang="en-US" sz="2000" spc="-1" strike="noStrike">
              <a:solidFill>
                <a:srgbClr val="000000"/>
              </a:solidFill>
              <a:latin typeface="Arial Black"/>
            </a:endParaRPr>
          </a:p>
        </p:txBody>
      </p:sp>
      <p:graphicFrame>
        <p:nvGraphicFramePr>
          <p:cNvPr id="103" name=""/>
          <p:cNvGraphicFramePr/>
          <p:nvPr/>
        </p:nvGraphicFramePr>
        <p:xfrm>
          <a:off x="228600" y="762120"/>
          <a:ext cx="8763120" cy="5516280"/>
        </p:xfrm>
        <a:graphic>
          <a:graphicData uri="http://schemas.openxmlformats.org/drawingml/2006/table">
            <a:tbl>
              <a:tblPr/>
              <a:tblGrid>
                <a:gridCol w="2397240"/>
                <a:gridCol w="6365880"/>
              </a:tblGrid>
              <a:tr h="15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will align the Adjusted Aggregated Base Points (AABP) formula with the inputs to the Generation Resource Energy Deployment Performance (GREDP) measure.  The current formula for AABP inaccurately assesses Base Point Deviation charges for under and over generation when shortened Security-Constrained Economic Dispatch (SCED) intervals occur.  Additionally, this NPRR includes bill determinants to track the over and under generated volumes and correct language for bill determinants P1 and P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8/18/11, PRS unanimously voted to recommend approval of NPRR377 as amended by the 8/8/11 ERCOT comments and as revised by PRS. On 10/20/11, PRS unanimously voted to endorse and forward the 8/18/11 PRS Report as amended by the 9/20/11 and 10/13/11 ERCOT comments and the Impact Analysis to TAC with a recommended priority of High and rank of 3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System Implementation – Priority High; Rank 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k - $165k; Energy Management System (EMS), Commercial Systems Integration (CSI), Settlements and Billing (S&amp;B), Extracts and Reporting (EIS), and ERCOT Sto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0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hange eliminates the market-wide exemptions from Base Point Deviation penalties in 15-minute Settlement Intervals, which contain SCED for executions less than four minutes in duration.  Therefore, this change allows the Base Point Deviation assessment to be performed in the Settlement Intervals. It is estimated that removal of the short-SCED exemptions would result in additional Base Point Deviation penalties in an approximate range of $7500 - $8750 per mon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6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01, Clarification of Timing for a Generation Resource to be Considered Self-Committed</a:t>
            </a:r>
            <a:endParaRPr b="0" lang="en-US" sz="2000" spc="-1" strike="noStrike">
              <a:solidFill>
                <a:srgbClr val="000000"/>
              </a:solidFill>
              <a:latin typeface="Arial Black"/>
            </a:endParaRPr>
          </a:p>
        </p:txBody>
      </p:sp>
      <p:graphicFrame>
        <p:nvGraphicFramePr>
          <p:cNvPr id="105" name=""/>
          <p:cNvGraphicFramePr/>
          <p:nvPr/>
        </p:nvGraphicFramePr>
        <p:xfrm>
          <a:off x="228600" y="762120"/>
          <a:ext cx="8763120" cy="5459400"/>
        </p:xfrm>
        <a:graphic>
          <a:graphicData uri="http://schemas.openxmlformats.org/drawingml/2006/table">
            <a:tbl>
              <a:tblPr/>
              <a:tblGrid>
                <a:gridCol w="2397240"/>
                <a:gridCol w="6365880"/>
              </a:tblGrid>
              <a:tr h="2529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moves language that broadly allows Qualified Scheduling Entities (QSEs) to self-commit between the time Reliability Unit Commitment (RUC) executes and the time that the QSE receives the RUC instruction, but does not speak to the Settlement treatment and can result in conflicting commitment information.  This NPRR also clarifies the timing by which a QSE may self-commit a Generation Resource, specifically the timing of the self-commitment required in order for the Generation Resource to be considered self-committed by a RUC process and in Settlement of that same RUC proces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2/11, PRS unanimously voted to recommend approval of NPRR401 as amended by the 9/1/11 ERCOT comments.  On 10/20/11, PRS unanimously voted to endorse and forward the 9/22/11 PRS Report and Impact Analysis for NPRR401 to TAC.</a:t>
                      </a:r>
                      <a:r>
                        <a:rPr b="0" i="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2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8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cation of RUC instructions and Settlement treat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03, Revised FASD Calculation for TX SET Version 4.0 Release</a:t>
            </a:r>
            <a:endParaRPr b="0" lang="en-US" sz="2000" spc="-1" strike="noStrike">
              <a:solidFill>
                <a:srgbClr val="000000"/>
              </a:solidFill>
              <a:latin typeface="Arial Black"/>
            </a:endParaRPr>
          </a:p>
        </p:txBody>
      </p:sp>
      <p:graphicFrame>
        <p:nvGraphicFramePr>
          <p:cNvPr id="107" name=""/>
          <p:cNvGraphicFramePr/>
          <p:nvPr/>
        </p:nvGraphicFramePr>
        <p:xfrm>
          <a:off x="228600" y="762120"/>
          <a:ext cx="8763120" cy="5479920"/>
        </p:xfrm>
        <a:graphic>
          <a:graphicData uri="http://schemas.openxmlformats.org/drawingml/2006/table">
            <a:tbl>
              <a:tblPr/>
              <a:tblGrid>
                <a:gridCol w="2397240"/>
                <a:gridCol w="6365880"/>
              </a:tblGrid>
              <a:tr h="1058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oordination Tea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vises the First Available Switch Date (FASD) calculation to include the availability of same day switches on Saturd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6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2/11, PRS unanimously voted to recommend approval of NPRR403 as submitted.  There was one abstention from the Independent Generator Market Segment.  On 10/20/11, PRS unanimously voted to endorse and forward the 9/22/11 PRS Report and Impact Analysis for NPRR403 to TA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of PR11002_01, Texas SET 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 impacts to Siebel and PaperFree; no impacts to ERCOT business functions – all costs managed under PR11002_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Transmission and/or Distribution Providers (TDSPs) to receive Saturday as a FASD, which will allow same day switches on Saturday for applicable Advanced Metering System (AMS) meters. Market Participants can provide Customers with same day switches on Saturday for applicable AMS meters. Customers will have the added option of same day switches on Saturday for applicable AMS met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6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04, Clarification of Form of Notification of Suspension of Operations</a:t>
            </a:r>
            <a:endParaRPr b="0" lang="en-US" sz="2000" spc="-1" strike="noStrike">
              <a:solidFill>
                <a:srgbClr val="000000"/>
              </a:solidFill>
              <a:latin typeface="Arial Black"/>
            </a:endParaRPr>
          </a:p>
        </p:txBody>
      </p:sp>
      <p:graphicFrame>
        <p:nvGraphicFramePr>
          <p:cNvPr id="109" name=""/>
          <p:cNvGraphicFramePr/>
          <p:nvPr/>
        </p:nvGraphicFramePr>
        <p:xfrm>
          <a:off x="228600" y="762120"/>
          <a:ext cx="8763120" cy="5252760"/>
        </p:xfrm>
        <a:graphic>
          <a:graphicData uri="http://schemas.openxmlformats.org/drawingml/2006/table">
            <a:tbl>
              <a:tblPr/>
              <a:tblGrid>
                <a:gridCol w="2397240"/>
                <a:gridCol w="636588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moves an obsolete reference to excess energy payment options from the form of Notification of Suspension of Operations in Section 22, Attachment E, Notification of Suspension of Oper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2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2/11, PRS unanimously voted to recommend approval of NPRR404 as amended by the 9/20/11 ERCOT comments and as revised by PRS.  On 10/20/11, PRS unanimously voted to endorse and forward the 9/22/11 PRS Report as revised by PRS and Impact Analysis for NPRR404 to TA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 2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ed Protoco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6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06, Clarification of the Timeline for Calculating the Value of X at Minimum Energy Level</a:t>
            </a:r>
            <a:endParaRPr b="0" lang="en-US" sz="2000" spc="-1" strike="noStrike">
              <a:solidFill>
                <a:srgbClr val="000000"/>
              </a:solidFill>
              <a:latin typeface="Arial Black"/>
            </a:endParaRPr>
          </a:p>
        </p:txBody>
      </p:sp>
      <p:graphicFrame>
        <p:nvGraphicFramePr>
          <p:cNvPr id="111" name=""/>
          <p:cNvGraphicFramePr/>
          <p:nvPr/>
        </p:nvGraphicFramePr>
        <p:xfrm>
          <a:off x="228600" y="762120"/>
          <a:ext cx="8763120" cy="4765680"/>
        </p:xfrm>
        <a:graphic>
          <a:graphicData uri="http://schemas.openxmlformats.org/drawingml/2006/table">
            <a:tbl>
              <a:tblPr/>
              <a:tblGrid>
                <a:gridCol w="2397240"/>
                <a:gridCol w="6365880"/>
              </a:tblGrid>
              <a:tr h="105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larifies that the effective date for the value of X as applied to fuel at the minimum energy level is described in the Verifiable Cost Man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9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2/11, PRS unanimously voted to recommend approval of NPRR406 as submitted.  On 10/20/11, PRS unanimously voted to endorse and forward the 9/22/11 PRS Report and Impact Analysis for NPRR406 to TA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 2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4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of this NPRR are qualitative.  Mainly, this NPRR provides consistency between Sections 5.6.1.1 and 5.6.1.2 and reduces potential confusion regarding how ERCOT applies the value of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lbracht</cp:lastModifiedBy>
  <dcterms:modified xsi:type="dcterms:W3CDTF">2011-11-02T19:31:02Z</dcterms:modified>
  <cp:revision>522</cp:revision>
  <dc:subject/>
  <dc:title>Instructions</dc:title>
</cp:coreProperties>
</file>