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EB8E-37CE-4985-939E-A70115B42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F029-FF59-4A7A-9C8C-E073B55FB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B84D-5509-42EA-91BF-8361DE72E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5AC6-9971-473A-ADFA-24F09096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7231-0624-4D4F-9D42-1CE3E760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2C8D-0273-41DE-B284-1E11EF9C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B661-2C2E-4AD2-B450-AED491F8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D0B6-7A83-4AC9-BCAF-6130412C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0BE2-9D1F-46A0-8B4B-7E5099A3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CE51-32E0-47FD-B72D-04560313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6099-114A-459E-B846-0FC6E48E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1DF6-7BC8-45D1-9DE6-61A4F36B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72CB-B225-430B-A502-CBF6421B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C712-8674-4961-B7BE-B2B3F04B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9313-8C0E-438F-9F43-471B9024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D2BC-5973-48F2-B419-DCC8FD1A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9D04-0174-451B-974B-03577B2B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31EE-9A53-4A69-AD59-FEB2D8CC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717D-3CA5-4E8A-8B64-C58BE8F0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8856-A75E-464C-AD86-FC70871A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E65E-F507-48A0-915A-87E0100C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7683-2556-4FAC-9DC4-CC80FDA8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7769-88ED-4F5A-96B0-DE1216F0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D2EB-81DC-47A6-858A-6D3B71A8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AC86-BC57-4586-BC37-54A61600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ED71-594C-4638-9FB8-152E8F21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B9D7-C0AB-4033-988B-CE731EF9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CB46-CD33-41D2-8AC1-4F64F9088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5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1424-5EF1-428C-8F77-ACAEF2FB2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5,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07FD-AE25-4203-8918-B303E0209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8AF9-C828-4B5B-AC6B-FF0C6B094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e and Audit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dt" idx="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16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odity Exchange Act Exemp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atu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1143000" y="2743200"/>
            <a:ext cx="6705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k R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RCOT Vice President of Credit and Enterprise Risk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ovember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Black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RCOT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.  Commodity Exchange Act Exemp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xpected CFTC Conditions for CEA Exemp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e and Audit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04920" y="762120"/>
          <a:ext cx="8458200" cy="5319720"/>
        </p:xfrm>
        <a:graphic>
          <a:graphicData uri="http://schemas.openxmlformats.org/drawingml/2006/table">
            <a:tbl>
              <a:tblPr/>
              <a:tblGrid>
                <a:gridCol w="241200"/>
                <a:gridCol w="1235160"/>
                <a:gridCol w="5610240"/>
                <a:gridCol w="137160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Co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o-day limit to cure collateral ca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tion necessar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mination of unsecured credit in CRR mark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 400 (approved by Board in October; implementation once system changes are comple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30k - $255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llowance of netting between CRR and non-CRR marke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settlement time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 347 combines  invoices for day-ahead and real  time markets (approved by Board in August).  Note that NPRR 347 was introduced independently of CFTC complian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 391 shortens settlement cycle by one day and eliminates Automated Clearing House (ACH) payments (approved by Board in October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 457: $430k - $46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 391: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m limitation on unsecured cred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 to Creditworthiness Standard approved by CWG on August 4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Approved by Board in October effective December 31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 for market 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 to be drafted as scope finalized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.  There will be costs associated with implementation of a verification progra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ome a central counterparty (CC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for IRS letter ruling to confirm tax-exempt status of CCP is pendi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.  Commodity Exchange Act Exemp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 Participant Risk Management Capability Verifica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ants and ISO/RTOs have expressed interest in developing common risk management standards and processes for use in all market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upports harmonization but this will depend on the outcomes of stakeholder processe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staff are working with counterparts at other ISO/RTOS to develop common approaches to participant standards and verification proce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CRO has a group working on development of risk management standards.  ERCOT staff are providing input to the work group but the outcome will not be binding on ERCOT or other ISO/RTO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ber 17t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e and Audit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at should be verifi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mmediate priority is development of risk management standard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/RTOs differ on whether scope of “verification” required by FERC requires verification or audi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risk management capabilit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equirement to verify implementation will necessitate a narrower definition of risk management capabiliti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.  Commodity Exchange Act Exemp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 Participant Risk Management Capability Verifica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ber 17t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e and Audit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.  Commodity Exchange Act Exemp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 Participant Risk Management Capability Verifica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should verification be d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s are looking into the possibility of contracting the verification process out to one or more third partie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, each CP would have only one review that would be good for all ISO markets (e.g. pass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al issues are being reviewed to determine fea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less of whether or not a third party is used, ERCOT will maintain ‘ownership’ of the result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third party is used, ERCOT will likely provide a final review and determination of adequacy for the ERCOT mark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e and Audit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16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.  Commodity Exchange Act Exemp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 Participant Risk Management Capability Verifica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o should be subject to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unter-Parties must complete certificati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unter-Parties will be subject to verific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Ps above “x” size/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of CPs below “x” size/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e and Audit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16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11-10-27T19:36:39Z</dcterms:modified>
  <cp:revision>547</cp:revision>
  <dc:subject/>
  <dc:title>Instructions</dc:title>
</cp:coreProperties>
</file>