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673C-5FF7-4F4C-9E99-269BD7B33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C7F8-D440-49C8-817B-AA7DC34F1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4E0E-8B6B-4494-B36F-C15B36B9D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7757-C63A-4D1A-A76A-E7E1B1FA1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3C8BFC3-9414-482D-A74F-B146B2F0E5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AD728B4-26EF-4462-9182-0198B0C8E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3E4E72C-4253-47E4-A654-6F6248A11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1469506-329D-410E-AC39-FAC15E992E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AE8461-F47E-4952-92D4-837BF63BD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E1BF571-29F9-438B-B4A3-B12EDB9DE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BE7F795-E9EC-4DB9-8851-1E8DB4666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340670-0F3A-4841-B77A-0EB55A94F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61B494-F3BD-4032-B4E6-BFF23AE2D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9E3FD9-45E0-43E5-859D-8072BFDD3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AF6B5E-A049-44CC-AAE9-9E9D53537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C9CB9F-AD44-4A1B-9BE7-FAE856ACB9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68D7-9CD5-49F5-9589-83EB8023F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3C93-AADF-41D9-AE8E-9A9C87DF3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2011</a:t>
            </a:r>
            <a:endParaRPr b="0" lang="en-US" sz="1800" spc="-1" strike="noStrike">
              <a:solidFill>
                <a:srgbClr val="000000"/>
              </a:solidFill>
              <a:latin typeface="Arial"/>
            </a:endParaRPr>
          </a:p>
        </p:txBody>
      </p:sp>
      <p:sp>
        <p:nvSpPr>
          <p:cNvPr id="94"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95"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MS Update</a:t>
            </a:r>
            <a:endParaRPr b="0" lang="en-US" sz="2800" spc="-1" strike="noStrike">
              <a:solidFill>
                <a:srgbClr val="000000"/>
              </a:solidFill>
              <a:latin typeface="Arial Black"/>
            </a:endParaRPr>
          </a:p>
        </p:txBody>
      </p:sp>
      <p:sp>
        <p:nvSpPr>
          <p:cNvPr id="96"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yle Patri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S Update</a:t>
            </a:r>
            <a:endParaRPr b="0" lang="en-US" sz="2000" spc="-1" strike="noStrike">
              <a:solidFill>
                <a:srgbClr val="000000"/>
              </a:solidFill>
              <a:latin typeface="Arial Black"/>
            </a:endParaRPr>
          </a:p>
        </p:txBody>
      </p:sp>
      <p:sp>
        <p:nvSpPr>
          <p:cNvPr id="98" name="PlaceHolder 2"/>
          <p:cNvSpPr>
            <a:spLocks noGrp="1"/>
          </p:cNvSpPr>
          <p:nvPr>
            <p:ph/>
          </p:nvPr>
        </p:nvSpPr>
        <p:spPr>
          <a:xfrm>
            <a:off x="304920" y="762120"/>
            <a:ext cx="8153280" cy="5486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d Meter Issues Task Force to address the NERC Time Error Correction Field Trial.  RMS would request any available expertise from ROS attend the November 14</a:t>
            </a:r>
            <a:r>
              <a:rPr b="1" lang="en-US" sz="2000" spc="-1" strike="noStrike" baseline="30000">
                <a:solidFill>
                  <a:srgbClr val="000000"/>
                </a:solidFill>
                <a:latin typeface="Arial"/>
              </a:rPr>
              <a:t>th</a:t>
            </a:r>
            <a:r>
              <a:rPr b="1" lang="en-US" sz="2000" spc="-1" strike="noStrike">
                <a:solidFill>
                  <a:srgbClr val="000000"/>
                </a:solidFill>
                <a:latin typeface="Arial"/>
              </a:rPr>
              <a:t> Conference Call.</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rket Coordination Team</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n target for June 2, 201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CT AMIT Projec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y Foliani selected as the lead for the HAN Proj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focus is on third party access to customer dat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will be on demand respon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Voting Item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RMGRR Impact Analysis-Forward to TAC for Appro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new RMGR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NPR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nded SLA discussion back to TDTW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was in agreement on the block schedu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SET Change Controls</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C337-FC3C-4416-983A-9426DF719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101</a:t>
            </a:r>
            <a:endParaRPr b="0" lang="en-US" sz="2000" spc="-1" strike="noStrike">
              <a:solidFill>
                <a:srgbClr val="000000"/>
              </a:solidFill>
              <a:latin typeface="Arial Black"/>
            </a:endParaRPr>
          </a:p>
        </p:txBody>
      </p:sp>
      <p:sp>
        <p:nvSpPr>
          <p:cNvPr id="101"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02" name=""/>
          <p:cNvGraphicFramePr/>
          <p:nvPr/>
        </p:nvGraphicFramePr>
        <p:xfrm>
          <a:off x="533520" y="1052640"/>
          <a:ext cx="7924680" cy="5300640"/>
        </p:xfrm>
        <a:graphic>
          <a:graphicData uri="http://schemas.openxmlformats.org/drawingml/2006/table">
            <a:tbl>
              <a:tblPr/>
              <a:tblGrid>
                <a:gridCol w="2168280"/>
                <a:gridCol w="1451160"/>
                <a:gridCol w="430524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to Stacking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6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Impa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cking logic defines the processes and guidelines for Market Participants operating in the Texas retail market to handle multiple non-sequential transactions on a single Electric Service Identifier (ESI ID) and should reside in the RMG.  In addition to the current stacking logic, this RMGRR includes changes associated with implementation of Texas Standard Electronic Transaction (TX SET) 4.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han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committee Acronym) Vo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 Approved at October meet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O Determin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Impa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Approval by Boar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1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1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3"/>
                                        </p:tgtEl>
                                        <p:attrNameLst>
                                          <p:attrName>r</p:attrName>
                                        </p:attrNameLst>
                                      </p:cBhvr>
                                    </p:animRot>
                                  </p:childTnLst>
                                </p:cTn>
                              </p:par>
                              <p:par>
                                <p:cTn id="7" nodeType="withEffect" fill="hold" presetClass="emph" presetID="8">
                                  <p:stCondLst>
                                    <p:cond delay="0"/>
                                  </p:stCondLst>
                                  <p:childTnLst>
                                    <p:animRot by="21600000">
                                      <p:cBhvr>
                                        <p:cTn id="8" dur="500" fill="hold"/>
                                        <p:tgtEl>
                                          <p:spTgt spid="124"/>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5"/>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7"/>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28"/>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29"/>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102</a:t>
            </a:r>
            <a:endParaRPr b="0" lang="en-US" sz="2000" spc="-1" strike="noStrike">
              <a:solidFill>
                <a:srgbClr val="000000"/>
              </a:solidFill>
              <a:latin typeface="Arial Black"/>
            </a:endParaRPr>
          </a:p>
        </p:txBody>
      </p:sp>
      <p:sp>
        <p:nvSpPr>
          <p:cNvPr id="133"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4" name=""/>
          <p:cNvGraphicFramePr/>
          <p:nvPr/>
        </p:nvGraphicFramePr>
        <p:xfrm>
          <a:off x="533520" y="1052640"/>
          <a:ext cx="7924680" cy="3927240"/>
        </p:xfrm>
        <a:graphic>
          <a:graphicData uri="http://schemas.openxmlformats.org/drawingml/2006/table">
            <a:tbl>
              <a:tblPr/>
              <a:tblGrid>
                <a:gridCol w="2168280"/>
                <a:gridCol w="1451160"/>
                <a:gridCol w="430524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Changes Related to SCR756, Enhancements to the MarkeTrak Applic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Impa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MGRR updates the RMG to reflect the MarkeTrak functionality available upon implementation of SCR7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han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committee Acronym) Vo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 Approved at October meet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O Determin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Impa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Approval by Boar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4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4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4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5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5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5</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21600000">
                                      <p:cBhvr>
                                        <p:cTn id="24" dur="500" fill="hold"/>
                                        <p:tgtEl>
                                          <p:spTgt spid="155"/>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56"/>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57"/>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59"/>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0"/>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1"/>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patrick</cp:lastModifiedBy>
  <dcterms:modified xsi:type="dcterms:W3CDTF">2011-11-02T20:11:28Z</dcterms:modified>
  <cp:revision>117</cp:revision>
  <dc:subject/>
  <dc:title>Instructions</dc:title>
</cp:coreProperties>
</file>