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45EF-86FC-4E8C-A695-AD4D7E33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6AB4-010C-47CA-85F5-9B6B3C8F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6E17-7193-4713-9115-E4A3D207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9518-F234-48BE-8FAF-2AE245B9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EE95-B56D-4A58-B538-75BBA5C1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E3B4-BB86-4F38-9656-0024CC4E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3F66-0B83-4DD6-A4DE-CF1E7AD4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5D0C-B359-41B0-AF83-F6729F93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E973-E0BC-4589-BD73-1CC315E2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7A2A-CF80-460E-8563-44F65B98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9084-2224-4CA7-96F5-79745AA2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FE50-68B6-4FBE-BF46-AB92A5E1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CDC8-281B-4503-BA8A-1468CCA6E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18-19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03DF-EE85-4F19-AAEE-752B493AA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bruary 18-1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1905120"/>
            <a:ext cx="627696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pproval of Important Station Voltages for State Estimator Report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iew of SE and Telemetry Standard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ex Si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vanced Network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0/13/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val of Important Buses as defined by the TAC-approved State Estimator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20 most important station voltages designated by ERCOT and approved by ROS each October; the telemetered voltage minus State Estimator voltage shall be within 2% of the telemetered voltage measurement involved for at least 95% of samples measured during a 1 month period.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ortant Station Volta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s key stations to be monitored to ensure State Estimator accura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nd endorsed by the Network Data Support Working Group on 9/28/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termination of Critical Bus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criteria for inclusion in important station voltage li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plant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 Start synchronization point-related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OL associated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al CSC/CRE related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5KV buses with large power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tion Li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990720"/>
          <a:ext cx="4254480" cy="5043240"/>
        </p:xfrm>
        <a:graphic>
          <a:graphicData uri="http://schemas.openxmlformats.org/drawingml/2006/table">
            <a:tbl>
              <a:tblPr/>
              <a:tblGrid>
                <a:gridCol w="2249640"/>
                <a:gridCol w="2004840"/>
              </a:tblGrid>
              <a:tr h="2538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STATION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08bb4"/>
                      </a:solidFill>
                    </a:lnL>
                    <a:lnR w="5760">
                      <a:solidFill>
                        <a:srgbClr val="608bb4"/>
                      </a:solidFill>
                    </a:lnR>
                    <a:lnT w="5760">
                      <a:solidFill>
                        <a:srgbClr val="608bb4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bfd2e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VOLTAGE_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08bb4"/>
                      </a:solidFill>
                    </a:lnL>
                    <a:lnR w="5760">
                      <a:solidFill>
                        <a:srgbClr val="608bb4"/>
                      </a:solidFill>
                    </a:lnR>
                    <a:lnT w="5760">
                      <a:solidFill>
                        <a:srgbClr val="608bb4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bfd2e2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ALNS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AUS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BNBS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CALAV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C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CP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JEW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LON_H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MG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NED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NORS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RIOHO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RNKS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SSPS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S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TMPS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VENS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WLV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ZO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ndale WT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rotocol 3.10.7.5 (1) – Telemetry Criteri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ppropriate TAC subcommittee shall establish a task force that is open to Market Participants, comprised of technical experts, to develop a set of Telemetry Criteria consistent with the minimum requirements of the Protocols.  TAC shall approve a set of telemetry criteria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appropriate TAC subcommittee shall update the telemetry criteria annually each October or more often on a periodic basis as deemed necessary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rotocol 3.10.9 (1) – State Estimator Standar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ppropriate TAC subcommittee shall establish a task force that is open to Market Participants, comprised of technical experts to develop a State Estimator Performance Standard consistent with the minimum requirements of the Protocols.  TAC shall approve the State Estimator Performance Standards,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appropriate TAC subcommittee shall update the State Estimator Performance Standards annually each October or more often on a periodic basis as deemed necessary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SE report will monitor the telemetry vs. SE bus KV and document violations for the approved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and Telemetry Standards documents available in “Other Binding Documents” section of ERCOT Market Rules webpage.  No changes have been proposed by ERCOT or any working groups for this ye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eking approval of 20 station voltages and existing SE and Tel Standards doc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4:43:34Z</dcterms:created>
  <dc:creator>Chad Thompson</dc:creator>
  <dc:description/>
  <dc:language>en-US</dc:language>
  <cp:lastModifiedBy>balbracht</cp:lastModifiedBy>
  <dcterms:modified xsi:type="dcterms:W3CDTF">2011-10-06T22:36:04Z</dcterms:modified>
  <cp:revision>104</cp:revision>
  <dc:subject/>
  <dc:title>Instructions</dc:title>
</cp:coreProperties>
</file>