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C983-9899-4DCE-B850-EB6464194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6A42-D1A6-49CB-9628-5FB7D5D8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DCF7-AB77-486C-8848-A14E4F957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5F39-97BF-4468-B79E-1DF9D777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C284-C67D-4DC5-9F12-62AAD487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01FD-BE99-4C5A-B6F1-81CC92DB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671B-8443-420F-8BAD-B9CCFD7F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340A-F220-45E3-98C8-50FBB0C5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2F2E-1E53-4ED2-B49D-AE1840CE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EF5E-BEFA-46EC-9FD4-06648DC7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0A2A-B194-47BF-A51C-04F7C3AA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C0DE-EF76-4638-B581-D27C6DB7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BF83-6F2C-4654-8B7F-B61A6319B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Report to 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 13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dney Nieme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6119-D083-449A-BF93-8AC744CA88B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7520" y="309600"/>
            <a:ext cx="9048960" cy="601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0208-E33D-4E07-ABB9-72780B2522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2840" y="304920"/>
            <a:ext cx="9058320" cy="6019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5B3E-B04C-462A-BCD7-4F3A793BE5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160" y="299880"/>
            <a:ext cx="9067680" cy="625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EA77-7061-43B5-91DD-AC9CA868EB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RC Frequency Response Field 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07C3-1836-4F3F-A921-F8A259E295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RC BAL-003 Field 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s Interconnection minimum frequency respon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to prevent activation of UFLS for the largest N-2 event 2750 M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recommendation for Texas is minimum of -286 MW/0.1 Hz measured at Point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50 – 1150 = 1600 MW/(-0.600 x 10) =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-26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W/0.1 H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776D-4D2C-4AE0-9201-47FE55D741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ptember 28, 2011 PDCWG Open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of 20% limit of RRS based on Generator Capacity (HS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history of lim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Frequency Response (Droop) of 5% will cause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Govern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mov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0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output of the generator with a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-0.600 Hz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frequ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istributes reser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multiple generators to improve Interconnection frequency response and deliverability of reser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% loading point on traditional steam turbines had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owest average heat 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49F1-39A5-4E0B-AB79-272E12508E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cal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15, 2003 event where frequency declined to 59.261 H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60.012 to 59.297 in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4.5 seco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energy can a traditional generator deliver in 4.5 seco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11 MW from turb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75 MW from load damp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71 MW from L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979 MW from Firm Lo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(first ev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3635-83D9-4215-B312-495AD77017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day: Increased Load Resources and More Turbine Respo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energy can a traditional generator deliver in 4.5 seco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11 MW from turbines (for same 3434 MW lo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75 MW from load damp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50 MW from L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 MW from Firm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2750 MW event instead of 3434 M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27 MW from turb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4445-58FB-4316-9A73-4ED6150E84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76120" y="500040"/>
            <a:ext cx="8591760" cy="5857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81080" y="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15, 2003 Actual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CC20-32E7-4179-B53D-3BDB5E7481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9039240" cy="6153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09480" y="228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15, 2003 02: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DF8E-5DAE-4D31-8C49-01F358A653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COT Frequency Control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7B87-45D9-425C-A7DE-70F3ECC4CA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the % of RRS Was Chang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9191520" cy="2286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7200" y="4572000"/>
            <a:ext cx="3200400" cy="1191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Primary Frequency Response from RRS providers if all capacity is frequency responsiv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295280" y="3581280"/>
            <a:ext cx="20574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0B59-00E7-4166-9E26-E5FCC27088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915400" cy="1430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3520" y="3048120"/>
            <a:ext cx="7924680" cy="819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28600" y="4495680"/>
            <a:ext cx="8763120" cy="1366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Prevent UF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5D87-BB05-4E6B-A90D-6CECC143B0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20% the Right Amou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% allowed to be provided by a single Resource would decrease PF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risk of UF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or can not move Gen full % before UF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ing % allowed to be provided by a single Resource would increase PF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 risk of UF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for Generator to per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nge in %.  Continue effort to improve PFR from RRS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to expect PFR from all spinning reserve and improve their perform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1996-FB29-4CCC-90BA-534B405D30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Other Sources of PF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duration, fast response (less than 4 seconds) would decrease the risk of UF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ywh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Product for this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7CC2-9D20-4053-8C16-40CAFB2CF6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ent Frequency Response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0B50-F33F-4890-B71D-7891C42ADB3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886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B3F3-BDCD-4D2A-A609-D1A6F1B7ADE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76120" y="500040"/>
            <a:ext cx="8591760" cy="585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CD83-0C3F-4F75-A93A-6C519A06F8B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562720" y="3352680"/>
            <a:ext cx="2971800" cy="1191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frequency rate of change per MW tripped than the May 15, 2003 ev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248520" y="1371240"/>
            <a:ext cx="4572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8447-6CD3-49B2-979A-9E33DD176F6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On-going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review of Generator’s Primary Frequency Response Perfor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ing low performers to help improve perform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ed PFR from two wind farms during minor high frequency following unit tri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effort to review protocols and guides to clarify PFR and RRS responsibi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7744-E243-4BC2-B630-FCAC19B7C21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A620-03F3-40D6-9036-C780DA8732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760" y="666720"/>
            <a:ext cx="9096480" cy="552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AC2B-A418-44E6-9D51-E17F347E64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428760"/>
            <a:ext cx="9144000" cy="600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CD12-C0F2-4E4B-AEEF-17F3D34A06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201240" cy="6095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1818-75E2-45EB-AA1E-2A97156768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220320" cy="6153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3FB9-5393-4C48-B0C1-FB5DD56D8A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42840" y="349200"/>
            <a:ext cx="9229680" cy="59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FFF3-7201-42DA-AE07-04704AF31A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23760" y="190440"/>
            <a:ext cx="9191520" cy="6477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21C9-0E18-4EBC-B787-E45E058435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9:06:35Z</dcterms:created>
  <dc:creator>NRG ENERGY</dc:creator>
  <dc:description/>
  <dc:language>en-US</dc:language>
  <cp:lastModifiedBy>PDCWG</cp:lastModifiedBy>
  <dcterms:modified xsi:type="dcterms:W3CDTF">2011-10-12T01:45:48Z</dcterms:modified>
  <cp:revision>20</cp:revision>
  <dc:subject/>
  <dc:title>Slide 1</dc:title>
</cp:coreProperties>
</file>